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20.png" ContentType="image/png"/>
  <Override PartName="/ppt/media/image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file:///Orion.pps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14400" y="6477120"/>
            <a:ext cx="8229600" cy="3808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505320"/>
            <a:ext cx="914400" cy="304776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Órion%20Feira" descr=""/>
          <p:cNvPicPr/>
          <p:nvPr/>
        </p:nvPicPr>
        <p:blipFill>
          <a:blip r:embed="rId3"/>
          <a:stretch/>
        </p:blipFill>
        <p:spPr>
          <a:xfrm>
            <a:off x="76320" y="42840"/>
            <a:ext cx="990360" cy="55728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533520" y="4648320"/>
            <a:ext cx="2590560" cy="1904760"/>
            <a:chOff x="533520" y="4648320"/>
            <a:chExt cx="2590560" cy="1904760"/>
          </a:xfrm>
        </p:grpSpPr>
        <p:sp>
          <p:nvSpPr>
            <p:cNvPr id="5" name=""/>
            <p:cNvSpPr/>
            <p:nvPr/>
          </p:nvSpPr>
          <p:spPr>
            <a:xfrm>
              <a:off x="533520" y="5562720"/>
              <a:ext cx="12873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33520" y="4724280"/>
              <a:ext cx="644400" cy="83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820880" y="5943600"/>
              <a:ext cx="122724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33520" y="5562720"/>
              <a:ext cx="12873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520" y="4724280"/>
              <a:ext cx="644400" cy="83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20880" y="5943600"/>
              <a:ext cx="122724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897200" y="5867280"/>
              <a:ext cx="122688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80" y="4648320"/>
              <a:ext cx="64476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09480" y="5486400"/>
              <a:ext cx="128772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" name="fabrica" descr=""/>
            <p:cNvPicPr/>
            <p:nvPr/>
          </p:nvPicPr>
          <p:blipFill>
            <a:blip r:embed="rId4"/>
            <a:stretch/>
          </p:blipFill>
          <p:spPr>
            <a:xfrm>
              <a:off x="609480" y="5486400"/>
              <a:ext cx="137160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" name="">
            <a:hlinkClick r:id="rId5"/>
          </p:cNvPr>
          <p:cNvSpPr/>
          <p:nvPr/>
        </p:nvSpPr>
        <p:spPr>
          <a:xfrm>
            <a:off x="1154160" y="6521400"/>
            <a:ext cx="67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Dominando os Dados de Processo para Otimização da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8077320" y="6543360"/>
            <a:ext cx="837720" cy="286200"/>
            <a:chOff x="8077320" y="6543360"/>
            <a:chExt cx="837720" cy="286200"/>
          </a:xfrm>
        </p:grpSpPr>
        <p:sp>
          <p:nvSpPr>
            <p:cNvPr id="17" name=""/>
            <p:cNvSpPr/>
            <p:nvPr/>
          </p:nvSpPr>
          <p:spPr>
            <a:xfrm flipV="1">
              <a:off x="8077320" y="6658200"/>
              <a:ext cx="428400" cy="17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8434440" y="6543360"/>
              <a:ext cx="48060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8434080" y="6658200"/>
              <a:ext cx="7092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6477120"/>
            <a:ext cx="91440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6477120"/>
            <a:ext cx="8229600" cy="3808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505320"/>
            <a:ext cx="914400" cy="304776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3520" y="4648320"/>
            <a:ext cx="2590560" cy="1904760"/>
            <a:chOff x="533520" y="4648320"/>
            <a:chExt cx="2590560" cy="1904760"/>
          </a:xfrm>
        </p:grpSpPr>
        <p:sp>
          <p:nvSpPr>
            <p:cNvPr id="62" name=""/>
            <p:cNvSpPr/>
            <p:nvPr/>
          </p:nvSpPr>
          <p:spPr>
            <a:xfrm>
              <a:off x="533520" y="5562720"/>
              <a:ext cx="12873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3520" y="4724280"/>
              <a:ext cx="644400" cy="83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20880" y="5943600"/>
              <a:ext cx="122724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3520" y="5562720"/>
              <a:ext cx="12873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520" y="4724280"/>
              <a:ext cx="644400" cy="83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20880" y="5943600"/>
              <a:ext cx="122724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97200" y="5867280"/>
              <a:ext cx="122688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80" y="4648320"/>
              <a:ext cx="64476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5486400"/>
              <a:ext cx="128772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fabrica" descr=""/>
            <p:cNvPicPr/>
            <p:nvPr/>
          </p:nvPicPr>
          <p:blipFill>
            <a:blip r:embed="rId3"/>
            <a:stretch/>
          </p:blipFill>
          <p:spPr>
            <a:xfrm>
              <a:off x="609480" y="5486400"/>
              <a:ext cx="137160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1154160" y="6521400"/>
            <a:ext cx="67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Dominando os Dados de Processo para Otimização da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8077320" y="6543360"/>
            <a:ext cx="837720" cy="286200"/>
            <a:chOff x="8077320" y="6543360"/>
            <a:chExt cx="837720" cy="286200"/>
          </a:xfrm>
        </p:grpSpPr>
        <p:sp>
          <p:nvSpPr>
            <p:cNvPr id="74" name=""/>
            <p:cNvSpPr/>
            <p:nvPr/>
          </p:nvSpPr>
          <p:spPr>
            <a:xfrm flipV="1">
              <a:off x="8077320" y="6658200"/>
              <a:ext cx="428400" cy="17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8434440" y="6543360"/>
              <a:ext cx="48060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8434080" y="6658200"/>
              <a:ext cx="7092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orion.ne@orion.com.br" TargetMode="External"/><Relationship Id="rId2" Type="http://schemas.openxmlformats.org/officeDocument/2006/relationships/hyperlink" Target="mailto:orion.ne@orion.com.br" TargetMode="External"/><Relationship Id="rId3" Type="http://schemas.openxmlformats.org/officeDocument/2006/relationships/hyperlink" Target="mailto:orion.ne@orion.com.br" TargetMode="External"/><Relationship Id="rId4" Type="http://schemas.openxmlformats.org/officeDocument/2006/relationships/hyperlink" Target="mailto:orion.ne@orion.com.br" TargetMode="External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hyperlink" Target="http://www.orion.com.br/" TargetMode="External"/><Relationship Id="rId8" Type="http://schemas.openxmlformats.org/officeDocument/2006/relationships/hyperlink" Target="http://www.orion.com.br/" TargetMode="External"/><Relationship Id="rId9" Type="http://schemas.openxmlformats.org/officeDocument/2006/relationships/hyperlink" Target="mailto:vendas@orion.com.br" TargetMode="External"/><Relationship Id="rId10" Type="http://schemas.openxmlformats.org/officeDocument/2006/relationships/hyperlink" Target="mailto:vendas@orion.com.br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33720" y="3962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duardo Inglez de Sou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06668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Analisadores Virtua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Aplicações em controle e otimização de process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Treinamento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639040" cy="397044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1523520" y="3429000"/>
            <a:ext cx="6629760" cy="1295280"/>
            <a:chOff x="1523520" y="3429000"/>
            <a:chExt cx="6629760" cy="1295280"/>
          </a:xfrm>
        </p:grpSpPr>
        <p:grpSp>
          <p:nvGrpSpPr>
            <p:cNvPr id="145" name=""/>
            <p:cNvGrpSpPr/>
            <p:nvPr/>
          </p:nvGrpSpPr>
          <p:grpSpPr>
            <a:xfrm>
              <a:off x="4190400" y="3429000"/>
              <a:ext cx="3962880" cy="1295280"/>
              <a:chOff x="4190400" y="3429000"/>
              <a:chExt cx="3962880" cy="1295280"/>
            </a:xfrm>
          </p:grpSpPr>
          <p:sp>
            <p:nvSpPr>
              <p:cNvPr id="146" name=""/>
              <p:cNvSpPr/>
              <p:nvPr/>
            </p:nvSpPr>
            <p:spPr>
              <a:xfrm>
                <a:off x="7467480" y="3429000"/>
                <a:ext cx="6858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153280" y="3429000"/>
                <a:ext cx="0" cy="99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4190400" y="4419720"/>
                <a:ext cx="3962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190760" y="441972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523520" y="3505320"/>
              <a:ext cx="2286360" cy="1218960"/>
              <a:chOff x="1523520" y="3505320"/>
              <a:chExt cx="2286360" cy="1218960"/>
            </a:xfrm>
          </p:grpSpPr>
          <p:sp>
            <p:nvSpPr>
              <p:cNvPr id="151" name=""/>
              <p:cNvSpPr/>
              <p:nvPr/>
            </p:nvSpPr>
            <p:spPr>
              <a:xfrm flipH="1">
                <a:off x="1523520" y="3505320"/>
                <a:ext cx="609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23880" y="3505320"/>
                <a:ext cx="0" cy="914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523880" y="4419720"/>
                <a:ext cx="228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809880" y="441972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4419720" y="490860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05720" y="49086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67480" y="47242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ccff"/>
                </a:solidFill>
                <a:uFillTx/>
                <a:latin typeface="Times New Roman"/>
                <a:hlinkClick r:id="rId2" action="ppaction://hlinksldjump"/>
              </a:rPr>
              <a:t>Sensor Vir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228600"/>
            <a:ext cx="50292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Metodolo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2ª Etapa: Trei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905120" y="228600"/>
            <a:ext cx="50292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Metodolo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2ª Etapa:Coleta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Caldeira" descr=""/>
          <p:cNvPicPr/>
          <p:nvPr/>
        </p:nvPicPr>
        <p:blipFill>
          <a:blip r:embed="rId1"/>
          <a:stretch/>
        </p:blipFill>
        <p:spPr>
          <a:xfrm>
            <a:off x="2971800" y="2438280"/>
            <a:ext cx="3486240" cy="299412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1523880" y="4495680"/>
            <a:ext cx="1447920" cy="383400"/>
            <a:chOff x="1523880" y="4495680"/>
            <a:chExt cx="1447920" cy="383400"/>
          </a:xfrm>
        </p:grpSpPr>
        <p:sp>
          <p:nvSpPr>
            <p:cNvPr id="162" name=""/>
            <p:cNvSpPr/>
            <p:nvPr/>
          </p:nvSpPr>
          <p:spPr>
            <a:xfrm>
              <a:off x="1905120" y="44956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23880" y="457200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Vazão 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066680" y="3581280"/>
            <a:ext cx="1905120" cy="457200"/>
            <a:chOff x="1066680" y="3581280"/>
            <a:chExt cx="1905120" cy="457200"/>
          </a:xfrm>
        </p:grpSpPr>
        <p:sp>
          <p:nvSpPr>
            <p:cNvPr id="165" name=""/>
            <p:cNvSpPr/>
            <p:nvPr/>
          </p:nvSpPr>
          <p:spPr>
            <a:xfrm>
              <a:off x="1905120" y="40384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66680" y="3581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Vazão Combustív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095880" y="1828800"/>
            <a:ext cx="2590920" cy="685800"/>
            <a:chOff x="6095880" y="1828800"/>
            <a:chExt cx="2590920" cy="685800"/>
          </a:xfrm>
        </p:grpSpPr>
        <p:sp>
          <p:nvSpPr>
            <p:cNvPr id="168" name=""/>
            <p:cNvSpPr/>
            <p:nvPr/>
          </p:nvSpPr>
          <p:spPr>
            <a:xfrm>
              <a:off x="6095880" y="198108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6095880" y="1828800"/>
              <a:ext cx="2590920" cy="685800"/>
              <a:chOff x="6095880" y="1828800"/>
              <a:chExt cx="2590920" cy="685800"/>
            </a:xfrm>
          </p:grpSpPr>
          <p:sp>
            <p:nvSpPr>
              <p:cNvPr id="170" name=""/>
              <p:cNvSpPr/>
              <p:nvPr/>
            </p:nvSpPr>
            <p:spPr>
              <a:xfrm flipV="1">
                <a:off x="6095880" y="19810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858000" y="1828800"/>
                <a:ext cx="182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O2, CO, CO2, </a:t>
                </a:r>
                <a:r>
                  <a:rPr b="1" lang="pt-BR" sz="1400" spc="-1" strike="noStrike">
                    <a:solidFill>
                      <a:srgbClr val="ff0000"/>
                    </a:solidFill>
                    <a:latin typeface="Times New Roman"/>
                  </a:rPr>
                  <a:t>NO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3200400" y="4724280"/>
            <a:ext cx="1447920" cy="992880"/>
            <a:chOff x="3200400" y="4724280"/>
            <a:chExt cx="1447920" cy="992880"/>
          </a:xfrm>
        </p:grpSpPr>
        <p:grpSp>
          <p:nvGrpSpPr>
            <p:cNvPr id="173" name=""/>
            <p:cNvGrpSpPr/>
            <p:nvPr/>
          </p:nvGrpSpPr>
          <p:grpSpPr>
            <a:xfrm>
              <a:off x="3733920" y="4724280"/>
              <a:ext cx="152280" cy="685800"/>
              <a:chOff x="3733920" y="4724280"/>
              <a:chExt cx="152280" cy="685800"/>
            </a:xfrm>
          </p:grpSpPr>
          <p:sp>
            <p:nvSpPr>
              <p:cNvPr id="174" name=""/>
              <p:cNvSpPr/>
              <p:nvPr/>
            </p:nvSpPr>
            <p:spPr>
              <a:xfrm>
                <a:off x="3809880" y="480024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33920" y="4724280"/>
                <a:ext cx="152280" cy="7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3200400" y="541008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91520" y="2209680"/>
            <a:ext cx="1752480" cy="1374120"/>
            <a:chOff x="7391520" y="2209680"/>
            <a:chExt cx="1752480" cy="1374120"/>
          </a:xfrm>
        </p:grpSpPr>
        <p:sp>
          <p:nvSpPr>
            <p:cNvPr id="178" name=""/>
            <p:cNvSpPr/>
            <p:nvPr/>
          </p:nvSpPr>
          <p:spPr>
            <a:xfrm>
              <a:off x="8305920" y="2209680"/>
              <a:ext cx="0" cy="10670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91520" y="32767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0000"/>
                  </a:solidFill>
                  <a:latin typeface="Times New Roman"/>
                </a:rPr>
                <a:t>Analisador Virt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19320" y="228600"/>
            <a:ext cx="70102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Metodolo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2ª Etapa:Coleta de dados e validação “off-li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895480" y="2514600"/>
            <a:ext cx="3276720" cy="2745360"/>
            <a:chOff x="2895480" y="2514600"/>
            <a:chExt cx="3276720" cy="2745360"/>
          </a:xfrm>
        </p:grpSpPr>
        <p:sp>
          <p:nvSpPr>
            <p:cNvPr id="182" name=""/>
            <p:cNvSpPr/>
            <p:nvPr/>
          </p:nvSpPr>
          <p:spPr>
            <a:xfrm>
              <a:off x="3352680" y="2895480"/>
              <a:ext cx="76320" cy="7632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76920" y="3276720"/>
              <a:ext cx="75960" cy="7596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62520" y="3809880"/>
              <a:ext cx="75960" cy="7632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95880" y="2666880"/>
              <a:ext cx="76320" cy="7632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95880" y="4114800"/>
              <a:ext cx="76320" cy="7632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29000" y="4114800"/>
              <a:ext cx="76320" cy="7632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1120" y="2819520"/>
              <a:ext cx="75960" cy="7596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24280" y="3809880"/>
              <a:ext cx="76320" cy="7632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3733920"/>
              <a:ext cx="76320" cy="7596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4120" y="2743200"/>
              <a:ext cx="75960" cy="7632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52680" y="3429000"/>
              <a:ext cx="76320" cy="7632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43600" y="3276720"/>
              <a:ext cx="76320" cy="7596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95680" y="4343400"/>
              <a:ext cx="76320" cy="7632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95480" y="2514600"/>
              <a:ext cx="76320" cy="7632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62520" y="5105520"/>
              <a:ext cx="38088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38480" y="495288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Trein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971800" y="2590920"/>
            <a:ext cx="3124080" cy="3050280"/>
            <a:chOff x="2971800" y="2590920"/>
            <a:chExt cx="3124080" cy="3050280"/>
          </a:xfrm>
        </p:grpSpPr>
        <p:sp>
          <p:nvSpPr>
            <p:cNvPr id="199" name=""/>
            <p:cNvSpPr/>
            <p:nvPr/>
          </p:nvSpPr>
          <p:spPr>
            <a:xfrm>
              <a:off x="3962520" y="3200400"/>
              <a:ext cx="75960" cy="7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67080" y="3352680"/>
              <a:ext cx="76320" cy="7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76920" y="3886200"/>
              <a:ext cx="75960" cy="7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4114800"/>
              <a:ext cx="76320" cy="7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05320" y="2590920"/>
              <a:ext cx="75960" cy="7596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86400" y="3200400"/>
              <a:ext cx="76320" cy="7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71800" y="4343400"/>
              <a:ext cx="76320" cy="7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48120" y="3276720"/>
              <a:ext cx="75960" cy="7596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19920" y="3657600"/>
              <a:ext cx="75960" cy="7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24280" y="2743200"/>
              <a:ext cx="76320" cy="7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81480" y="4267080"/>
              <a:ext cx="76320" cy="7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62520" y="5486400"/>
              <a:ext cx="38088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43400" y="53341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Validação “off-lin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666880" y="2361960"/>
            <a:ext cx="4038840" cy="2210040"/>
            <a:chOff x="2666880" y="2361960"/>
            <a:chExt cx="4038840" cy="2210040"/>
          </a:xfrm>
        </p:grpSpPr>
        <p:sp>
          <p:nvSpPr>
            <p:cNvPr id="213" name=""/>
            <p:cNvSpPr/>
            <p:nvPr/>
          </p:nvSpPr>
          <p:spPr>
            <a:xfrm>
              <a:off x="2743200" y="2438280"/>
              <a:ext cx="388620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666880" y="2361960"/>
              <a:ext cx="76320" cy="76320"/>
              <a:chOff x="2666880" y="2361960"/>
              <a:chExt cx="76320" cy="76320"/>
            </a:xfrm>
          </p:grpSpPr>
          <p:sp>
            <p:nvSpPr>
              <p:cNvPr id="215" name=""/>
              <p:cNvSpPr/>
              <p:nvPr/>
            </p:nvSpPr>
            <p:spPr>
              <a:xfrm flipV="1">
                <a:off x="2666880" y="2361960"/>
                <a:ext cx="763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66880" y="2362320"/>
                <a:ext cx="763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666880" y="4495680"/>
              <a:ext cx="76320" cy="76320"/>
              <a:chOff x="2666880" y="4495680"/>
              <a:chExt cx="76320" cy="76320"/>
            </a:xfrm>
          </p:grpSpPr>
          <p:sp>
            <p:nvSpPr>
              <p:cNvPr id="218" name=""/>
              <p:cNvSpPr/>
              <p:nvPr/>
            </p:nvSpPr>
            <p:spPr>
              <a:xfrm flipV="1">
                <a:off x="2666880" y="4495680"/>
                <a:ext cx="763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66880" y="4495680"/>
                <a:ext cx="763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6629400" y="2361960"/>
              <a:ext cx="76320" cy="76320"/>
              <a:chOff x="6629400" y="2361960"/>
              <a:chExt cx="76320" cy="76320"/>
            </a:xfrm>
          </p:grpSpPr>
          <p:sp>
            <p:nvSpPr>
              <p:cNvPr id="221" name=""/>
              <p:cNvSpPr/>
              <p:nvPr/>
            </p:nvSpPr>
            <p:spPr>
              <a:xfrm flipV="1">
                <a:off x="6629400" y="2361960"/>
                <a:ext cx="763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629400" y="2362320"/>
                <a:ext cx="763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6629400" y="4495680"/>
              <a:ext cx="76320" cy="76320"/>
              <a:chOff x="6629400" y="4495680"/>
              <a:chExt cx="76320" cy="76320"/>
            </a:xfrm>
          </p:grpSpPr>
          <p:sp>
            <p:nvSpPr>
              <p:cNvPr id="224" name=""/>
              <p:cNvSpPr/>
              <p:nvPr/>
            </p:nvSpPr>
            <p:spPr>
              <a:xfrm flipV="1">
                <a:off x="6629400" y="4495680"/>
                <a:ext cx="763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629400" y="4495680"/>
                <a:ext cx="763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redito%20x%20Real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7162560" cy="3403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905120" y="5486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rro=(Real - Predi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76920" y="5486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Faixa aceitá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530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62920" y="54547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Sensor Virtual Valid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5120" y="228600"/>
            <a:ext cx="50292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Metodolo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3ª Etapa: Valid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905120" y="2286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Solução Ór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1295280"/>
            <a:ext cx="678204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ega o analisador virtu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orte técnico loc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orte UNICAMP/UFB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lexibilid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ato de risc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ectividade: Supervisórios, OPC, DDE, PLC’s, sem necessidade de máquina dedicad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lhor custo/benefíci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905120" y="2286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Aplic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1295280"/>
            <a:ext cx="67820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dições “on-line” de medidas de laboratóri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bstituição de analisadores “on-line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nitoramento de analisadores “on-line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e de process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timização de process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19880" y="311040"/>
            <a:ext cx="19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Benefí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00200" y="1219320"/>
            <a:ext cx="670572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ramenta de diagnóstico de falhas em linha e em tempo re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ção dos custos de manutenção e calibração de instrumento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ção de análises de laboratóri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ções de laboratório em tempo real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s de processo mais confiávei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adores preditivos mais eficiente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ição de instrumentos por analisadores virtuai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lhoria na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formance do processo.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14400" y="1066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agnóstico de Falhas, Manutenção e Monito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523880" y="1828800"/>
          <a:ext cx="6705720" cy="35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670572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2" name=""/>
          <p:cNvGrpSpPr/>
          <p:nvPr/>
        </p:nvGrpSpPr>
        <p:grpSpPr>
          <a:xfrm>
            <a:off x="5181480" y="1523880"/>
            <a:ext cx="3048120" cy="3532320"/>
            <a:chOff x="5181480" y="1523880"/>
            <a:chExt cx="3048120" cy="3532320"/>
          </a:xfrm>
        </p:grpSpPr>
        <p:sp>
          <p:nvSpPr>
            <p:cNvPr id="243" name=""/>
            <p:cNvSpPr/>
            <p:nvPr/>
          </p:nvSpPr>
          <p:spPr>
            <a:xfrm>
              <a:off x="5181480" y="1592280"/>
              <a:ext cx="0" cy="880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81480" y="3429000"/>
              <a:ext cx="0" cy="162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181480" y="152388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Times New Roman"/>
                </a:rPr>
                <a:t>Degradação da perform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719880" y="311040"/>
            <a:ext cx="19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Benefí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09680" y="89856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t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066680" y="1447920"/>
          <a:ext cx="746784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7467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1981080" y="4800600"/>
            <a:ext cx="65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nstrumentos são sujeitos a erros grosseiros e interferências externas, amplificando as oscilaçõ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ados mais estáveis e controladores mais robusto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19880" y="311040"/>
            <a:ext cx="19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Benefí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219320" y="1584360"/>
            <a:ext cx="678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uar como uma medida redundante para a viscosidade do polímero (PET) na fase líquida e em caso de falhas mecânicas do viscosímetr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2879640"/>
            <a:ext cx="70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blema: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es imperfeições apresentadas pelo viscosímetro real. Este problema gera erros nas medidas de viscosidade e, por conseqüência, influenciava diretamente a qualidade do produ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409896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ados: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cosímetro foi totalmente substituído pelo softsensor;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resultados do softsensor estão em malha fechada com o controlad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228600"/>
            <a:ext cx="7696080" cy="9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Estudo de caso 1: controle de proce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scosímetro Virtual (Políme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03600" y="1677960"/>
            <a:ext cx="290448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Tahoma"/>
              </a:rPr>
              <a:t>Fundada em 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08160" y="2289240"/>
            <a:ext cx="393804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Tahoma"/>
              </a:rPr>
              <a:t>Matriz em Campinas -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46360" y="3508200"/>
            <a:ext cx="404928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Tahoma"/>
              </a:rPr>
              <a:t>400 Projetos implan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89280" y="550800"/>
            <a:ext cx="333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0000ff"/>
                </a:solidFill>
                <a:uFillTx/>
                <a:latin typeface="Tahoma"/>
              </a:rPr>
              <a:t>Perfil da Empresa</a:t>
            </a:r>
            <a:r>
              <a:rPr b="1" i="1" lang="pt-BR" sz="2800" spc="-1" strike="noStrike" u="sng">
                <a:solidFill>
                  <a:srgbClr val="ff0000"/>
                </a:solidFill>
                <a:uFillTx/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00400" y="2898720"/>
            <a:ext cx="293796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Tahoma"/>
              </a:rPr>
              <a:t>Filial em Salv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01960" y="4118040"/>
            <a:ext cx="285732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Tahoma"/>
              </a:rPr>
              <a:t>70 colab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1295280" y="914400"/>
          <a:ext cx="7453440" cy="45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14400"/>
                    <a:ext cx="745344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1447920" y="2286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Viscosímetro Real x Viscosímetro 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295280" y="1143000"/>
          <a:ext cx="6438960" cy="43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143000"/>
                    <a:ext cx="643896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1447920" y="228600"/>
            <a:ext cx="73911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Viscosímetro 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bstituição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219320" y="158436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r o valor final do Brix e do tempo de duração da batelada a partir da média de determinados parâmetros do processo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43000" y="228600"/>
            <a:ext cx="7696080" cy="9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Estudo de caso 2: controle e otim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zimento do xarope da cana de açu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Tela_Cozedor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6181560" cy="3967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143000" y="2286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Brix “on-lin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33520" y="914400"/>
          <a:ext cx="4752720" cy="310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4400"/>
                    <a:ext cx="475272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4410000" y="3200400"/>
          <a:ext cx="4734000" cy="313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0000" y="3200400"/>
                    <a:ext cx="47340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43000" y="228600"/>
            <a:ext cx="7696080" cy="9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Estudo de caso 3: controle de proce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trole de Temperatura em Fornos Incine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DMC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397480" cy="4424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228600"/>
            <a:ext cx="7696080" cy="9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Estudo de caso 3: controle de proce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trole de Temperatura em Fornos Incine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3860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286000" y="1523880"/>
          <a:ext cx="533412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53341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990720" y="1522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ff"/>
                </a:solidFill>
                <a:latin typeface="Times New Roman"/>
              </a:rPr>
              <a:t>Automação do processo de produção de penicilina com analisadores virtu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106668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Supervisão do nível de biomassa do microorganismo, viscosidade e produção de penicilina a fim de implementar a automação da plan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95280" y="1828800"/>
            <a:ext cx="71629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senvolvimento: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Treinamento do soft sensor com várias bateladas, aplicação deste modelo dinâmico para fechar a malha de contro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s informações usadas para treinar o sensor for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Agit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 Adições de nutriente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ndições dos gases de saída em instantes passad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4343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ultados: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Com os valores preditos pelos sensores virtuais, regras baseadas na prática fornecem o estado do processo que correspondia a uma ação do operador. A planta automatizada mostrou-se tão eficiente quanto operada manual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19520" y="1066680"/>
            <a:ext cx="3476520" cy="47721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523880" y="5791320"/>
            <a:ext cx="65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) Biomassa    b) Viscosidade     c) Penicil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1522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ff"/>
                </a:solidFill>
                <a:latin typeface="Times New Roman"/>
              </a:rPr>
              <a:t>Automação do processo de produção de penicilina com analisadores virtu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43000" y="2286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Projetos em and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95280" y="1295280"/>
            <a:ext cx="678204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álise virtual de CO e NOx em câmaras de combust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imativa do índice de fluidez, teor de cinzas e voláteis no processo de extrusão do P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imativa de propriedades de colas acrílicas (viscosidad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imativa da drenabilidade da polpa (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chopper-Riegl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67652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ff"/>
                </a:solidFill>
                <a:latin typeface="Times New Roman"/>
              </a:rPr>
              <a:t>Outras Aplic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1143000"/>
            <a:ext cx="72392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ureza em coluna de destil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ratamento de águ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romatógrafos e espectrofotômetr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Bioprocess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letividade/desativação de catalisador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ndústria alimentícia: parâmetros de qualidade em aliment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Modelos de processo (otimização em tempo real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05120" y="6094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Tóp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1600200"/>
            <a:ext cx="67820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rodução: definição e tip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todolog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licaçõ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enefíci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udos de cas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jetos em andamen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184440" y="550800"/>
            <a:ext cx="1791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1" i="1" lang="pt-BR" sz="2800" spc="-1" strike="noStrike" u="sng">
                <a:solidFill>
                  <a:srgbClr val="ff0000"/>
                </a:solidFill>
                <a:uFillTx/>
                <a:latin typeface="Tahoma"/>
              </a:rPr>
              <a:t>Cont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914400" y="3170160"/>
            <a:ext cx="7031160" cy="1357560"/>
            <a:chOff x="914400" y="3170160"/>
            <a:chExt cx="7031160" cy="1357560"/>
          </a:xfrm>
        </p:grpSpPr>
        <p:sp>
          <p:nvSpPr>
            <p:cNvPr id="289" name=""/>
            <p:cNvSpPr/>
            <p:nvPr/>
          </p:nvSpPr>
          <p:spPr>
            <a:xfrm>
              <a:off x="914400" y="3170160"/>
              <a:ext cx="1828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Tahoma"/>
                </a:rPr>
                <a:t>Órion Nordes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2943360" y="3251160"/>
              <a:ext cx="5002200" cy="1189080"/>
              <a:chOff x="2943360" y="3251160"/>
              <a:chExt cx="5002200" cy="11890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2945160" y="3253320"/>
                <a:ext cx="4998600" cy="1184040"/>
                <a:chOff x="2945160" y="3253320"/>
                <a:chExt cx="4998600" cy="118404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945160" y="3253320"/>
                  <a:ext cx="4998600" cy="11840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ccec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Tahoma"/>
                    </a:rPr>
                    <a:t>Av Praia de Itapoan – Vilas do Atlantico -    Lauro de Freitas/B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Tahoma"/>
                    </a:rPr>
                    <a:t>Cep 41.820-0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Tahoma"/>
                    </a:rPr>
                    <a:t>PABX: (71) 379.060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Tahoma"/>
                    </a:rPr>
                    <a:t>e-mail: </a:t>
                  </a:r>
                  <a:r>
                    <a:rPr b="0" lang="pt-BR" sz="1600" spc="-1" strike="noStrike" u="sng">
                      <a:solidFill>
                        <a:srgbClr val="00ccff"/>
                      </a:solidFill>
                      <a:uFillTx/>
                      <a:latin typeface="Tahoma"/>
                      <a:hlinkClick r:id="rId1"/>
                    </a:rPr>
                    <a:t>orion.</a:t>
                  </a:r>
                  <a:r>
                    <a:rPr b="0" lang="pt-BR" sz="1600" spc="-1" strike="noStrike" u="sng">
                      <a:solidFill>
                        <a:srgbClr val="00ccff"/>
                      </a:solidFill>
                      <a:uFillTx/>
                      <a:latin typeface="Tahoma"/>
                      <a:hlinkClick r:id="rId2"/>
                    </a:rPr>
                    <a:t>ne</a:t>
                  </a:r>
                  <a:r>
                    <a:rPr b="0" lang="pt-BR" sz="1600" spc="-1" strike="noStrike" u="sng">
                      <a:solidFill>
                        <a:srgbClr val="00ccff"/>
                      </a:solidFill>
                      <a:uFillTx/>
                      <a:latin typeface="Tahoma"/>
                      <a:hlinkClick r:id="rId3"/>
                    </a:rPr>
                    <a:t>@orion.com.</a:t>
                  </a:r>
                  <a:r>
                    <a:rPr b="0" lang="pt-BR" sz="1600" spc="-1" strike="noStrike" u="sng">
                      <a:solidFill>
                        <a:srgbClr val="00ccff"/>
                      </a:solidFill>
                      <a:uFillTx/>
                      <a:latin typeface="Tahoma"/>
                      <a:hlinkClick r:id="rId4"/>
                    </a:rPr>
                    <a:t>br</a:t>
                  </a:r>
                  <a:r>
                    <a:rPr b="1" lang="pt-BR" sz="16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945160" y="3253320"/>
                  <a:ext cx="4998600" cy="11840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43570" dir="13500000" blurRad="0" rotWithShape="0">
                    <a:srgbClr val="ccec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" name=""/>
              <p:cNvSpPr/>
              <p:nvPr/>
            </p:nvSpPr>
            <p:spPr>
              <a:xfrm>
                <a:off x="2943360" y="3251160"/>
                <a:ext cx="5002200" cy="1189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43570" dir="13500000" blurRad="0" rotWithShape="0">
                  <a:srgbClr val="cce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95" name="elev" descr=""/>
            <p:cNvPicPr/>
            <p:nvPr/>
          </p:nvPicPr>
          <p:blipFill>
            <a:blip r:embed="rId5"/>
            <a:stretch/>
          </p:blipFill>
          <p:spPr>
            <a:xfrm>
              <a:off x="1014480" y="3521160"/>
              <a:ext cx="1719360" cy="100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6" name=""/>
          <p:cNvGrpSpPr/>
          <p:nvPr/>
        </p:nvGrpSpPr>
        <p:grpSpPr>
          <a:xfrm>
            <a:off x="914400" y="1558800"/>
            <a:ext cx="7870680" cy="1260360"/>
            <a:chOff x="914400" y="1558800"/>
            <a:chExt cx="7870680" cy="1260360"/>
          </a:xfrm>
        </p:grpSpPr>
        <p:pic>
          <p:nvPicPr>
            <p:cNvPr id="297" name="campinas" descr="campinas.gif (14216 bytes)"/>
            <p:cNvPicPr/>
            <p:nvPr/>
          </p:nvPicPr>
          <p:blipFill>
            <a:blip r:embed="rId6"/>
            <a:stretch/>
          </p:blipFill>
          <p:spPr>
            <a:xfrm>
              <a:off x="1003320" y="1917720"/>
              <a:ext cx="1714320" cy="82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8" name=""/>
            <p:cNvGrpSpPr/>
            <p:nvPr/>
          </p:nvGrpSpPr>
          <p:grpSpPr>
            <a:xfrm>
              <a:off x="2719080" y="1577880"/>
              <a:ext cx="6066000" cy="1241280"/>
              <a:chOff x="2719080" y="1577880"/>
              <a:chExt cx="6066000" cy="124128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2721240" y="1581480"/>
                <a:ext cx="6061320" cy="1233720"/>
                <a:chOff x="2721240" y="1581480"/>
                <a:chExt cx="6061320" cy="12337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2721240" y="1581480"/>
                  <a:ext cx="6061320" cy="12337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ccec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Tahoma"/>
                    </a:rPr>
                    <a:t>    </a:t>
                  </a:r>
                  <a:r>
                    <a:rPr b="1" lang="pt-BR" sz="1600" spc="-1" strike="noStrike">
                      <a:solidFill>
                        <a:srgbClr val="000000"/>
                      </a:solidFill>
                      <a:latin typeface="Tahoma"/>
                    </a:rPr>
                    <a:t>Rua Alfredo da Costa Figo, 4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Tahoma"/>
                    </a:rPr>
                    <a:t>    </a:t>
                  </a:r>
                  <a:r>
                    <a:rPr b="1" lang="pt-BR" sz="1600" spc="-1" strike="noStrike">
                      <a:solidFill>
                        <a:srgbClr val="000000"/>
                      </a:solidFill>
                      <a:latin typeface="Tahoma"/>
                    </a:rPr>
                    <a:t>Jardim Santa Cândida      Campinas/S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Tahoma"/>
                    </a:rPr>
                    <a:t>    </a:t>
                  </a:r>
                  <a:r>
                    <a:rPr b="1" lang="pt-BR" sz="1600" spc="-1" strike="noStrike">
                      <a:solidFill>
                        <a:srgbClr val="000000"/>
                      </a:solidFill>
                      <a:latin typeface="Tahoma"/>
                    </a:rPr>
                    <a:t>Cep : </a:t>
                  </a:r>
                  <a:r>
                    <a:rPr b="1" lang="pt-BR" sz="1600" spc="-1" strike="noStrike">
                      <a:solidFill>
                        <a:srgbClr val="000000"/>
                      </a:solidFill>
                      <a:latin typeface="Verdana"/>
                    </a:rPr>
                    <a:t>13.087-534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Tahoma"/>
                    </a:rPr>
                    <a:t>    </a:t>
                  </a:r>
                  <a:r>
                    <a:rPr b="1" lang="pt-BR" sz="1600" spc="-1" strike="noStrike">
                      <a:solidFill>
                        <a:srgbClr val="000000"/>
                      </a:solidFill>
                      <a:latin typeface="Tahoma"/>
                    </a:rPr>
                    <a:t>Telefone: (19) 3256-2505 Fax.: (19) 3256-209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Tahoma"/>
                    </a:rPr>
                    <a:t>    </a:t>
                  </a:r>
                  <a:r>
                    <a:rPr b="0" lang="pt-BR" sz="1600" spc="-1" strike="noStrike" u="sng">
                      <a:solidFill>
                        <a:srgbClr val="00ccff"/>
                      </a:solidFill>
                      <a:uFillTx/>
                      <a:latin typeface="Tahoma"/>
                      <a:hlinkClick r:id="rId7"/>
                    </a:rPr>
                    <a:t>www.orion.com.</a:t>
                  </a:r>
                  <a:r>
                    <a:rPr b="0" lang="pt-BR" sz="1600" spc="-1" strike="noStrike" u="sng">
                      <a:solidFill>
                        <a:srgbClr val="00ccff"/>
                      </a:solidFill>
                      <a:uFillTx/>
                      <a:latin typeface="Tahoma"/>
                      <a:hlinkClick r:id="rId8"/>
                    </a:rPr>
                    <a:t>br</a:t>
                  </a:r>
                  <a:r>
                    <a:rPr b="1" lang="pt-BR" sz="1600" spc="-1" strike="noStrike">
                      <a:solidFill>
                        <a:srgbClr val="000000"/>
                      </a:solidFill>
                      <a:latin typeface="Tahoma"/>
                    </a:rPr>
                    <a:t>  e-mail: </a:t>
                  </a:r>
                  <a:r>
                    <a:rPr b="0" lang="pt-BR" sz="1600" spc="-1" strike="noStrike" u="sng">
                      <a:solidFill>
                        <a:srgbClr val="00ccff"/>
                      </a:solidFill>
                      <a:uFillTx/>
                      <a:latin typeface="Tahoma"/>
                      <a:hlinkClick r:id="rId9"/>
                    </a:rPr>
                    <a:t>vendas@orion.com.</a:t>
                  </a:r>
                  <a:r>
                    <a:rPr b="0" lang="pt-BR" sz="1600" spc="-1" strike="noStrike" u="sng">
                      <a:solidFill>
                        <a:srgbClr val="00ccff"/>
                      </a:solidFill>
                      <a:uFillTx/>
                      <a:latin typeface="Tahoma"/>
                      <a:hlinkClick r:id="rId10"/>
                    </a:rPr>
                    <a:t>br</a:t>
                  </a:r>
                  <a:r>
                    <a:rPr b="1" lang="pt-BR" sz="16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721240" y="1581480"/>
                  <a:ext cx="6061320" cy="12337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53966" dir="13500000" blurRad="0" rotWithShape="0">
                    <a:srgbClr val="ccec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2719080" y="1577880"/>
                <a:ext cx="6066000" cy="1241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53966" dir="13500000" blurRad="0" rotWithShape="0">
                  <a:srgbClr val="cce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914400" y="1558800"/>
              <a:ext cx="1828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Tahoma"/>
                </a:rPr>
                <a:t>Órion Matri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05120" y="6094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O que é um Analisador Virtua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600200"/>
            <a:ext cx="67820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ftware que permite predizer, com precisão suficiente, medidas reais de instrumentos baseando em outros instrumento do processo (inferência)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3124080"/>
            <a:ext cx="678168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los Fenomenológicos (Balanços de Massa e Energia)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ltros de Kalm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s Neurais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FD" descr=""/>
          <p:cNvPicPr/>
          <p:nvPr/>
        </p:nvPicPr>
        <p:blipFill>
          <a:blip r:embed="rId1"/>
          <a:stretch/>
        </p:blipFill>
        <p:spPr>
          <a:xfrm>
            <a:off x="1295280" y="1050840"/>
            <a:ext cx="7848720" cy="4435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05120" y="2286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Onde se apli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8077320" y="5628960"/>
            <a:ext cx="837720" cy="286200"/>
            <a:chOff x="8077320" y="5628960"/>
            <a:chExt cx="837720" cy="286200"/>
          </a:xfrm>
        </p:grpSpPr>
        <p:sp>
          <p:nvSpPr>
            <p:cNvPr id="129" name=""/>
            <p:cNvSpPr/>
            <p:nvPr/>
          </p:nvSpPr>
          <p:spPr>
            <a:xfrm flipV="1">
              <a:off x="8077320" y="5743800"/>
              <a:ext cx="428400" cy="17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8434440" y="5628960"/>
              <a:ext cx="48060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8434080" y="5743800"/>
              <a:ext cx="7092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600200" y="9907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Qual a tecnologi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2133720"/>
            <a:ext cx="533376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DE NEURAL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nspirada na capacidade cognitiva dos seres humano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editora de propriedad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presenta comportamentos não linear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prende” (treinada) a partir de conjunto de dados entradas-saídas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600200" y="1828800"/>
          <a:ext cx="6095880" cy="34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6095880" cy="34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600200" y="7621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Tecnologia de Redes Neur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2286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Desenvolvimento de uma apl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1447920"/>
            <a:ext cx="67820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cação das variáveis important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einamento / Coleta de Dad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lidação (“off-line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licação (validação “on-line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05120" y="228600"/>
            <a:ext cx="54864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Metodolo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1ª Etapa: Análises Estat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33440" y="2133720"/>
          <a:ext cx="4677120" cy="259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3440" y="2133720"/>
                    <a:ext cx="46771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2362320" y="50292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Times New Roman"/>
              </a:rPr>
              <a:t>- Planejamento Fatorial e P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8:29:58Z</dcterms:created>
  <dc:creator>Eduardo Inglez de Souza</dc:creator>
  <dc:description/>
  <dc:language>en-US</dc:language>
  <cp:lastModifiedBy>einglez</cp:lastModifiedBy>
  <cp:lastPrinted>2001-06-11T10:18:07Z</cp:lastPrinted>
  <dcterms:modified xsi:type="dcterms:W3CDTF">2004-10-21T14:12:52Z</dcterms:modified>
  <cp:revision>347</cp:revision>
  <dc:subject>Apresentação WNAP-2004</dc:subject>
  <dc:title>Analisadores Virtua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NavBtnPos">
    <vt:r8>4</vt:r8>
  </property>
  <property fmtid="{D5CDD505-2E9C-101B-9397-08002B2CF9AE}" pid="10" name="Other">
    <vt:lpwstr/>
  </property>
  <property fmtid="{D5CDD505-2E9C-101B-9397-08002B2CF9AE}" pid="11" name="OutputDir">
    <vt:lpwstr>U:\Bruno\cd</vt:lpwstr>
  </property>
  <property fmtid="{D5CDD505-2E9C-101B-9397-08002B2CF9AE}" pid="12" name="ScreenSize">
    <vt:r8>2</vt:r8>
  </property>
  <property fmtid="{D5CDD505-2E9C-101B-9397-08002B2CF9AE}" pid="13" name="ScreenUsage">
    <vt:r8>1</vt:r8>
  </property>
  <property fmtid="{D5CDD505-2E9C-101B-9397-08002B2CF9AE}" pid="14" name="ShowNotes">
    <vt:bool>0</vt:bool>
  </property>
  <property fmtid="{D5CDD505-2E9C-101B-9397-08002B2CF9AE}" pid="15" name="TemplateType">
    <vt:r8>1</vt:r8>
  </property>
  <property fmtid="{D5CDD505-2E9C-101B-9397-08002B2CF9AE}" pid="16" name="TextColor">
    <vt:r8>0</vt:r8>
  </property>
  <property fmtid="{D5CDD505-2E9C-101B-9397-08002B2CF9AE}" pid="17" name="TransparentButton">
    <vt:r8>0</vt:r8>
  </property>
  <property fmtid="{D5CDD505-2E9C-101B-9397-08002B2CF9AE}" pid="18" name="UseBrowserColor">
    <vt:bool>1</vt:bool>
  </property>
  <property fmtid="{D5CDD505-2E9C-101B-9397-08002B2CF9AE}" pid="19" name="VisitedColor">
    <vt:r8>10040268</vt:r8>
  </property>
</Properties>
</file>