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png" ContentType="image/png"/>
  <Override PartName="/ppt/media/image17.wmf" ContentType="image/x-wmf"/>
  <Override PartName="/ppt/media/image13.png" ContentType="image/png"/>
  <Override PartName="/ppt/media/cashreg.wav" ContentType="audio/x-wav"/>
  <Override PartName="/ppt/media/image8.png" ContentType="image/png"/>
  <Override PartName="/ppt/media/image14.jpeg" ContentType="image/jpeg"/>
  <Override PartName="/ppt/media/image19.wmf" ContentType="image/x-wmf"/>
  <Override PartName="/ppt/media/image2.png" ContentType="image/png"/>
  <Override PartName="/ppt/media/image4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5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0646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0D28-0EC9-4F90-B864-B3BA49027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227520"/>
            <a:ext cx="8596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41BB-4CC4-4461-AC34-B2BE303C1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227520"/>
            <a:ext cx="8596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71C7-ACD4-4612-AFAE-2B4A6716D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227520"/>
            <a:ext cx="8596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05DB-E201-41AD-B89B-2D1D64C80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227520"/>
            <a:ext cx="8596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320" y="227520"/>
            <a:ext cx="8596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227520"/>
            <a:ext cx="8596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227520"/>
            <a:ext cx="8596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9f83bd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066320" y="227520"/>
            <a:ext cx="8596440" cy="347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227520"/>
            <a:ext cx="8596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227520"/>
            <a:ext cx="8596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DDEF-A0D8-4A07-8C0A-407837287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227520"/>
            <a:ext cx="8596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227520"/>
            <a:ext cx="8596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227520"/>
            <a:ext cx="8596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227520"/>
            <a:ext cx="8596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227520"/>
            <a:ext cx="8596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227520"/>
            <a:ext cx="8596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34A9-5AB2-4DDA-92C5-9E5FC4A2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227520"/>
            <a:ext cx="8596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AFE7-E8A5-4275-ABCC-D03DA8836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227520"/>
            <a:ext cx="8596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CA05-55E9-4211-94AE-032511B1C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320" y="227520"/>
            <a:ext cx="8596440" cy="347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77A2-D4E4-4047-91D1-97753FD3D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227520"/>
            <a:ext cx="8596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9F49-7ED6-4A19-96DE-D5449405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227520"/>
            <a:ext cx="8596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327C-76DB-46C9-AD2C-827628F5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227520"/>
            <a:ext cx="8596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46A6-7AD6-437D-873A-3C5F8E29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hyperlink" Target="http://www.iq.ufrj.br/new/instituto.html" TargetMode="External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2.bin"/><Relationship Id="rId14" Type="http://schemas.openxmlformats.org/officeDocument/2006/relationships/image" Target="../media/image8.png"/><Relationship Id="rId15" Type="http://schemas.openxmlformats.org/officeDocument/2006/relationships/slideLayout" Target="../slideLayouts/slideLayout1.xml"/><Relationship Id="rId16" Type="http://schemas.openxmlformats.org/officeDocument/2006/relationships/slideLayout" Target="../slideLayouts/slideLayout2.xml"/><Relationship Id="rId17" Type="http://schemas.openxmlformats.org/officeDocument/2006/relationships/slideLayout" Target="../slideLayouts/slideLayout3.xml"/><Relationship Id="rId18" Type="http://schemas.openxmlformats.org/officeDocument/2006/relationships/slideLayout" Target="../slideLayouts/slideLayout4.xml"/><Relationship Id="rId19" Type="http://schemas.openxmlformats.org/officeDocument/2006/relationships/slideLayout" Target="../slideLayouts/slideLayout5.xml"/><Relationship Id="rId20" Type="http://schemas.openxmlformats.org/officeDocument/2006/relationships/slideLayout" Target="../slideLayouts/slideLayout6.xml"/><Relationship Id="rId21" Type="http://schemas.openxmlformats.org/officeDocument/2006/relationships/slideLayout" Target="../slideLayouts/slideLayout7.xml"/><Relationship Id="rId22" Type="http://schemas.openxmlformats.org/officeDocument/2006/relationships/slideLayout" Target="../slideLayouts/slideLayout8.xml"/><Relationship Id="rId23" Type="http://schemas.openxmlformats.org/officeDocument/2006/relationships/slideLayout" Target="../slideLayouts/slideLayout9.xml"/><Relationship Id="rId24" Type="http://schemas.openxmlformats.org/officeDocument/2006/relationships/slideLayout" Target="../slideLayouts/slideLayout10.xml"/><Relationship Id="rId25" Type="http://schemas.openxmlformats.org/officeDocument/2006/relationships/slideLayout" Target="../slideLayouts/slideLayout11.xml"/><Relationship Id="rId2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914400"/>
            <a:ext cx="6899400" cy="171360"/>
          </a:xfrm>
          <a:custGeom>
            <a:avLst/>
            <a:gdLst/>
            <a:ahLst/>
            <a:rect l="l" t="t" r="r" b="b"/>
            <a:pathLst>
              <a:path w="4346" h="108">
                <a:moveTo>
                  <a:pt x="3477" y="10"/>
                </a:moveTo>
                <a:cubicBezTo>
                  <a:pt x="3680" y="12"/>
                  <a:pt x="3921" y="14"/>
                  <a:pt x="4057" y="17"/>
                </a:cubicBezTo>
                <a:cubicBezTo>
                  <a:pt x="4192" y="20"/>
                  <a:pt x="4253" y="24"/>
                  <a:pt x="4293" y="30"/>
                </a:cubicBezTo>
                <a:cubicBezTo>
                  <a:pt x="4333" y="36"/>
                  <a:pt x="4286" y="43"/>
                  <a:pt x="4293" y="50"/>
                </a:cubicBezTo>
                <a:cubicBezTo>
                  <a:pt x="4300" y="57"/>
                  <a:pt x="4328" y="67"/>
                  <a:pt x="4329" y="73"/>
                </a:cubicBezTo>
                <a:cubicBezTo>
                  <a:pt x="4331" y="80"/>
                  <a:pt x="4346" y="85"/>
                  <a:pt x="4305" y="89"/>
                </a:cubicBezTo>
                <a:cubicBezTo>
                  <a:pt x="4263" y="93"/>
                  <a:pt x="4186" y="97"/>
                  <a:pt x="4082" y="99"/>
                </a:cubicBezTo>
                <a:cubicBezTo>
                  <a:pt x="3977" y="100"/>
                  <a:pt x="3834" y="99"/>
                  <a:pt x="3675" y="99"/>
                </a:cubicBezTo>
                <a:cubicBezTo>
                  <a:pt x="3516" y="98"/>
                  <a:pt x="3341" y="95"/>
                  <a:pt x="3129" y="94"/>
                </a:cubicBezTo>
                <a:cubicBezTo>
                  <a:pt x="2918" y="93"/>
                  <a:pt x="2634" y="94"/>
                  <a:pt x="2401" y="94"/>
                </a:cubicBezTo>
                <a:cubicBezTo>
                  <a:pt x="2168" y="95"/>
                  <a:pt x="2024" y="97"/>
                  <a:pt x="1733" y="98"/>
                </a:cubicBezTo>
                <a:cubicBezTo>
                  <a:pt x="1442" y="99"/>
                  <a:pt x="946" y="103"/>
                  <a:pt x="657" y="102"/>
                </a:cubicBezTo>
                <a:cubicBezTo>
                  <a:pt x="368" y="101"/>
                  <a:pt x="110" y="108"/>
                  <a:pt x="1" y="93"/>
                </a:cubicBezTo>
                <a:lnTo>
                  <a:pt x="0" y="13"/>
                </a:lnTo>
                <a:cubicBezTo>
                  <a:pt x="109" y="0"/>
                  <a:pt x="432" y="13"/>
                  <a:pt x="657" y="12"/>
                </a:cubicBezTo>
                <a:cubicBezTo>
                  <a:pt x="882" y="11"/>
                  <a:pt x="1082" y="7"/>
                  <a:pt x="1349" y="7"/>
                </a:cubicBezTo>
                <a:cubicBezTo>
                  <a:pt x="1617" y="6"/>
                  <a:pt x="2017" y="8"/>
                  <a:pt x="2265" y="9"/>
                </a:cubicBezTo>
                <a:cubicBezTo>
                  <a:pt x="2513" y="9"/>
                  <a:pt x="2634" y="9"/>
                  <a:pt x="2834" y="8"/>
                </a:cubicBezTo>
                <a:cubicBezTo>
                  <a:pt x="3034" y="9"/>
                  <a:pt x="3273" y="9"/>
                  <a:pt x="3477" y="10"/>
                </a:cubicBezTo>
                <a:close/>
              </a:path>
            </a:pathLst>
          </a:custGeom>
          <a:solidFill>
            <a:srgbClr val="c6cb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320" y="227520"/>
            <a:ext cx="8596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9f83bd"/>
                </a:solidFill>
                <a:latin typeface="Comic Sans MS"/>
              </a:rPr>
              <a:t>Click to edit the title text format</a:t>
            </a:r>
            <a:endParaRPr b="0" lang="en-US" sz="43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f83bd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  <a:p>
            <a:pPr lvl="1" marL="735480" indent="-282960" algn="just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f83bd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  <a:p>
            <a:pPr lvl="2" marL="1131480" indent="-226080" algn="just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f83bd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  <a:p>
            <a:pPr lvl="3" marL="1584000" indent="-226080" algn="just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f83bd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  <a:p>
            <a:pPr lvl="4" marL="2036520" indent="-226080" algn="just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f83bd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  <a:p>
            <a:pPr lvl="5" marL="2036520" indent="-226080" algn="just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f83bd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  <a:p>
            <a:pPr lvl="6" marL="2036520" indent="-226080" algn="just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f83bd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2D4AD-C1B9-4AF9-85DF-E21FC89EEC63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086360" y="2773440"/>
            <a:ext cx="114120" cy="1311120"/>
            <a:chOff x="4086360" y="2773440"/>
            <a:chExt cx="114120" cy="1311120"/>
          </a:xfrm>
        </p:grpSpPr>
        <p:sp>
          <p:nvSpPr>
            <p:cNvPr id="7" name=""/>
            <p:cNvSpPr/>
            <p:nvPr/>
          </p:nvSpPr>
          <p:spPr>
            <a:xfrm>
              <a:off x="4086360" y="2773440"/>
              <a:ext cx="1141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360" bIns="-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086360" y="2773440"/>
              <a:ext cx="114120" cy="13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9f83bd"/>
                  </a:solidFill>
                  <a:uFillTx/>
                  <a:latin typeface="Comic Sans MS"/>
                  <a:hlinkClick r:id="rId10"/>
                </a:rPr>
                <a:t>  </a:t>
              </a:r>
              <a:r>
                <a:rPr b="0" lang="en-US" sz="5600" spc="-1" strike="noStrike">
                  <a:solidFill>
                    <a:srgbClr val="003399"/>
                  </a:solidFill>
                  <a:latin typeface="Comic Sans MS"/>
                </a:rPr>
                <a:t> </a:t>
              </a:r>
              <a:r>
                <a:rPr b="0" lang="en-US" sz="2400" spc="-1" strike="noStrike">
                  <a:solidFill>
                    <a:srgbClr val="003399"/>
                  </a:solidFill>
                  <a:latin typeface="Comic Sans MS"/>
                </a:rPr>
                <a:t>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" name=""/>
          <p:cNvGraphicFramePr/>
          <p:nvPr/>
        </p:nvGraphicFramePr>
        <p:xfrm>
          <a:off x="0" y="-3240"/>
          <a:ext cx="1144440" cy="922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-3240"/>
                    <a:ext cx="114444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" name=""/>
          <p:cNvGraphicFramePr/>
          <p:nvPr/>
        </p:nvGraphicFramePr>
        <p:xfrm>
          <a:off x="0" y="1066680"/>
          <a:ext cx="1143000" cy="5791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0" y="1066680"/>
                    <a:ext cx="114300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5"/>
    <p:sldLayoutId id="2147483650" r:id="rId16"/>
    <p:sldLayoutId id="2147483651" r:id="rId17"/>
    <p:sldLayoutId id="2147483652" r:id="rId18"/>
    <p:sldLayoutId id="2147483653" r:id="rId19"/>
    <p:sldLayoutId id="2147483654" r:id="rId20"/>
    <p:sldLayoutId id="2147483655" r:id="rId21"/>
    <p:sldLayoutId id="2147483656" r:id="rId22"/>
    <p:sldLayoutId id="2147483657" r:id="rId23"/>
    <p:sldLayoutId id="2147483658" r:id="rId24"/>
    <p:sldLayoutId id="2147483659" r:id="rId25"/>
    <p:sldLayoutId id="2147483660" r:id="rId2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elciooliveira@petrobras.com.br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837720" y="2147760"/>
            <a:ext cx="807732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f83bd"/>
                </a:solidFill>
                <a:latin typeface="Comic Sans MS"/>
                <a:ea typeface="Times New Roman"/>
              </a:rPr>
              <a:t>  </a:t>
            </a:r>
            <a:r>
              <a:rPr b="1" lang="pt-BR" sz="3600" spc="-1" strike="noStrike">
                <a:solidFill>
                  <a:srgbClr val="9f83bd"/>
                </a:solidFill>
                <a:latin typeface="Comic Sans MS"/>
              </a:rPr>
              <a:t>VALIDAÇÃO DA METODOLOGIA DE ANÁLISE DE GÁS NATURAL POR CROMATOGRAFIA GASOSA “ON LINE”</a:t>
            </a:r>
            <a:endParaRPr b="0" lang="en-US" sz="36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304920"/>
            <a:ext cx="802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1904760" y="227520"/>
            <a:ext cx="647676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300" spc="-1" strike="noStrike">
                <a:solidFill>
                  <a:srgbClr val="9f83bd"/>
                </a:solidFill>
                <a:latin typeface="Comic Sans MS"/>
              </a:rPr>
              <a:t>WNAP – 2004</a:t>
            </a:r>
            <a:endParaRPr b="0" lang="en-US" sz="4300" spc="-1" strike="noStrike">
              <a:solidFill>
                <a:srgbClr val="9f83bd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276200" y="333000"/>
            <a:ext cx="710568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9f83bd"/>
                </a:solidFill>
                <a:latin typeface="Comic Sans MS"/>
              </a:rPr>
              <a:t>Processamento de Gás Natural</a:t>
            </a:r>
            <a:endParaRPr b="0" lang="en-US" sz="3600" spc="-1" strike="noStrike">
              <a:solidFill>
                <a:srgbClr val="9f83bd"/>
              </a:solidFill>
              <a:latin typeface="Comic Sans MS"/>
            </a:endParaRPr>
          </a:p>
        </p:txBody>
      </p:sp>
      <p:pic>
        <p:nvPicPr>
          <p:cNvPr id="118" name="Gasnat4" descr=""/>
          <p:cNvPicPr/>
          <p:nvPr/>
        </p:nvPicPr>
        <p:blipFill>
          <a:blip r:embed="rId2"/>
          <a:stretch/>
        </p:blipFill>
        <p:spPr>
          <a:xfrm>
            <a:off x="1476360" y="1295280"/>
            <a:ext cx="6870600" cy="51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283760" y="304560"/>
            <a:ext cx="694548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9f83bd"/>
                </a:solidFill>
                <a:latin typeface="Comic Sans MS"/>
              </a:rPr>
              <a:t>Transporte de Gás Natural</a:t>
            </a:r>
            <a:endParaRPr b="0" lang="en-US" sz="3600" spc="-1" strike="noStrike">
              <a:solidFill>
                <a:srgbClr val="9f83bd"/>
              </a:solidFill>
              <a:latin typeface="Comic Sans MS"/>
            </a:endParaRPr>
          </a:p>
        </p:txBody>
      </p:sp>
      <p:pic>
        <p:nvPicPr>
          <p:cNvPr id="120" name="Gasodutos" descr=""/>
          <p:cNvPicPr/>
          <p:nvPr/>
        </p:nvPicPr>
        <p:blipFill>
          <a:blip r:embed="rId2"/>
          <a:stretch/>
        </p:blipFill>
        <p:spPr>
          <a:xfrm>
            <a:off x="1384200" y="1413000"/>
            <a:ext cx="760752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9f83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9f83bd"/>
                </a:solidFill>
                <a:latin typeface="Comic Sans MS"/>
              </a:rPr>
              <a:t>Redução do desmatamento;</a:t>
            </a:r>
            <a:endParaRPr b="0" lang="en-US" sz="2800" spc="-1" strike="noStrike">
              <a:solidFill>
                <a:srgbClr val="9f83bd"/>
              </a:solidFill>
              <a:latin typeface="Comic Sans MS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9f83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9f83bd"/>
                </a:solidFill>
                <a:latin typeface="Comic Sans MS"/>
              </a:rPr>
              <a:t>Composição química constante;</a:t>
            </a:r>
            <a:endParaRPr b="0" lang="en-US" sz="2800" spc="-1" strike="noStrike">
              <a:solidFill>
                <a:srgbClr val="9f83bd"/>
              </a:solidFill>
              <a:latin typeface="Comic Sans MS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9f83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9f83bd"/>
                </a:solidFill>
                <a:latin typeface="Comic Sans MS"/>
              </a:rPr>
              <a:t>Elimina o tratamento de efluentes dos produtos da queima;</a:t>
            </a:r>
            <a:endParaRPr b="0" lang="en-US" sz="2800" spc="-1" strike="noStrike">
              <a:solidFill>
                <a:srgbClr val="9f83bd"/>
              </a:solidFill>
              <a:latin typeface="Comic Sans MS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9f83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9f83bd"/>
                </a:solidFill>
                <a:latin typeface="Comic Sans MS"/>
              </a:rPr>
              <a:t>Diminuição da poluição urbana;</a:t>
            </a:r>
            <a:endParaRPr b="0" lang="en-US" sz="2800" spc="-1" strike="noStrike">
              <a:solidFill>
                <a:srgbClr val="9f83bd"/>
              </a:solidFill>
              <a:latin typeface="Comic Sans MS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9f83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9f83bd"/>
                </a:solidFill>
                <a:latin typeface="Comic Sans MS"/>
              </a:rPr>
              <a:t>Não emissão de particulados (cinzas);</a:t>
            </a:r>
            <a:endParaRPr b="0" lang="en-US" sz="2800" spc="-1" strike="noStrike">
              <a:solidFill>
                <a:srgbClr val="9f83bd"/>
              </a:solidFill>
              <a:latin typeface="Comic Sans MS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9f83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9f83bd"/>
                </a:solidFill>
                <a:latin typeface="Comic Sans MS"/>
              </a:rPr>
              <a:t>Rápida dispersão de vazamentos.</a:t>
            </a:r>
            <a:endParaRPr b="0" lang="en-US" sz="28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122" name=""/>
          <p:cNvSpPr/>
          <p:nvPr/>
        </p:nvSpPr>
        <p:spPr>
          <a:xfrm>
            <a:off x="1436760" y="380880"/>
            <a:ext cx="6335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9f83bd"/>
                </a:solidFill>
                <a:latin typeface="Comic Sans MS"/>
              </a:rPr>
              <a:t>Vantagens ambienta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5280" y="280080"/>
            <a:ext cx="6096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9f83bd"/>
                </a:solidFill>
                <a:latin typeface="Comic Sans MS"/>
              </a:rPr>
              <a:t>Metodologia</a:t>
            </a:r>
            <a:endParaRPr b="0" lang="en-US" sz="36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23623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f83bd"/>
                </a:solidFill>
                <a:latin typeface="Comic Sans MS"/>
              </a:rPr>
              <a:t>	</a:t>
            </a:r>
            <a:r>
              <a:rPr b="0" lang="pt-BR" sz="3200" spc="-1" strike="noStrike">
                <a:solidFill>
                  <a:srgbClr val="9f83bd"/>
                </a:solidFill>
                <a:latin typeface="Comic Sans MS"/>
                <a:ea typeface="Arial"/>
              </a:rPr>
              <a:t>As metodologias exigidas pela Portaria ANP Nº 104/02, para a análise da composição do gás natural são a ISO 6974 e a ASTM D-1945.</a:t>
            </a: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914400" y="1752480"/>
            <a:ext cx="77724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f83bd"/>
                </a:solidFill>
                <a:latin typeface="Comic Sans MS"/>
              </a:rPr>
              <a:t>	</a:t>
            </a:r>
            <a:r>
              <a:rPr b="0" lang="pt-BR" sz="3200" spc="-1" strike="noStrike">
                <a:solidFill>
                  <a:srgbClr val="9f83bd"/>
                </a:solidFill>
                <a:latin typeface="Comic Sans MS"/>
              </a:rPr>
              <a:t>A perda da qualidade do gás, por exemplo, no cálculo do poder calorífico, calculado a partir da sua composição pode gerar um custo de $ 30.000,00 ao ano, pela incerteza de ± 1 BTU.</a:t>
            </a: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1344240" y="265680"/>
            <a:ext cx="6961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9f83bd"/>
                </a:solidFill>
                <a:latin typeface="Comic Sans MS"/>
              </a:rPr>
              <a:t>Motivação</a:t>
            </a:r>
            <a:endParaRPr b="0" lang="en-US" sz="36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5943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f83bd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240" y="280080"/>
            <a:ext cx="5638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9f83bd"/>
                </a:solidFill>
                <a:latin typeface="Comic Sans MS"/>
              </a:rPr>
              <a:t>Objetivo</a:t>
            </a:r>
            <a:endParaRPr b="0" lang="en-US" sz="36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f83bd"/>
                </a:solidFill>
                <a:latin typeface="Comic Sans MS"/>
              </a:rPr>
              <a:t>	</a:t>
            </a:r>
            <a:r>
              <a:rPr b="0" lang="pt-BR" sz="3200" spc="-1" strike="noStrike">
                <a:solidFill>
                  <a:srgbClr val="9f83bd"/>
                </a:solidFill>
                <a:latin typeface="Comic Sans MS"/>
              </a:rPr>
              <a:t>Avaliar se os cromatógrafos de linha utilizados para análise de cromatografia gasosa do gás natural têm o mesmo desempenho dos de bancada, em termos de precisão, exatidão e incerteza; considerando-se estes últimos, como referência. </a:t>
            </a: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066680" y="3013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9f83bd"/>
                </a:solidFill>
                <a:latin typeface="Comic Sans MS"/>
              </a:rPr>
              <a:t> </a:t>
            </a:r>
            <a:r>
              <a:rPr b="1" lang="pt-PT" sz="3600" spc="-1" strike="noStrike">
                <a:solidFill>
                  <a:srgbClr val="9f83bd"/>
                </a:solidFill>
                <a:latin typeface="Comic Sans MS"/>
              </a:rPr>
              <a:t>Cromatografia gasosa “on line”</a:t>
            </a:r>
            <a:endParaRPr b="0" lang="en-US" sz="3600" spc="-1" strike="noStrike">
              <a:solidFill>
                <a:srgbClr val="9f83bd"/>
              </a:solidFill>
              <a:latin typeface="Comic Sans MS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2743200" y="1511280"/>
            <a:ext cx="423540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447920" y="228240"/>
            <a:ext cx="716256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9f83bd"/>
                </a:solidFill>
                <a:latin typeface="Comic Sans MS"/>
              </a:rPr>
              <a:t>Cromatografia gasosa</a:t>
            </a:r>
            <a:endParaRPr b="0" lang="en-US" sz="3600" spc="-1" strike="noStrike">
              <a:solidFill>
                <a:srgbClr val="9f83bd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f83bd"/>
              </a:solidFill>
              <a:latin typeface="Comic Sans MS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351080" y="2590920"/>
            <a:ext cx="7564320" cy="31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403280" y="1294920"/>
            <a:ext cx="7207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f83bd"/>
                </a:solidFill>
                <a:latin typeface="Comic Sans MS"/>
              </a:rPr>
              <a:t>O que é?</a:t>
            </a: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f83bd"/>
                </a:solidFill>
                <a:latin typeface="Comic Sans MS"/>
              </a:rPr>
              <a:t>Como se divide?</a:t>
            </a: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9f83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f83bd"/>
                </a:solidFill>
                <a:latin typeface="Comic Sans MS"/>
              </a:rPr>
              <a:t>Reconhecimento de padrões;</a:t>
            </a: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9f83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f83bd"/>
                </a:solidFill>
                <a:latin typeface="Comic Sans MS"/>
              </a:rPr>
              <a:t>Análise de misturas;</a:t>
            </a: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9f83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f83bd"/>
                </a:solidFill>
                <a:latin typeface="Comic Sans MS"/>
              </a:rPr>
              <a:t>Calibração multivariada;</a:t>
            </a: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9f83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f83bd"/>
                </a:solidFill>
                <a:latin typeface="Comic Sans MS"/>
              </a:rPr>
              <a:t>Otimização e validação.</a:t>
            </a: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287360" y="7200"/>
            <a:ext cx="33609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9f83bd"/>
                </a:solidFill>
                <a:latin typeface="Comic Sans MS"/>
              </a:rPr>
              <a:t>Quimiometria</a:t>
            </a:r>
            <a:endParaRPr b="0" lang="en-US" sz="3600" spc="-1" strike="noStrike">
              <a:solidFill>
                <a:srgbClr val="9f83bd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371600" y="1066320"/>
            <a:ext cx="73915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79880" indent="-479880" algn="just">
              <a:lnSpc>
                <a:spcPct val="120000"/>
              </a:lnSpc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f83bd"/>
                </a:solidFill>
                <a:latin typeface="Comic Sans MS"/>
              </a:rPr>
              <a:t>Dificuldade de compreensão dos textos matemáticos;</a:t>
            </a: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  <a:p>
            <a:pPr marL="479880" indent="-479880" algn="just">
              <a:lnSpc>
                <a:spcPct val="120000"/>
              </a:lnSpc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f83bd"/>
                </a:solidFill>
                <a:latin typeface="Comic Sans MS"/>
              </a:rPr>
              <a:t>Crença de que a química era uma ciência puramente experimental.</a:t>
            </a: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137" name=""/>
          <p:cNvSpPr/>
          <p:nvPr/>
        </p:nvSpPr>
        <p:spPr>
          <a:xfrm>
            <a:off x="1371600" y="3460680"/>
            <a:ext cx="7684920" cy="3331800"/>
          </a:xfrm>
          <a:prstGeom prst="rect">
            <a:avLst/>
          </a:prstGeom>
          <a:solidFill>
            <a:srgbClr val="9f83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pt-BR" sz="2000" spc="-1" strike="noStrike">
                <a:solidFill>
                  <a:srgbClr val="ffffff"/>
                </a:solidFill>
                <a:latin typeface="Tahoma"/>
              </a:rPr>
              <a:t>Toda tentativa de empregar métodos matemáticos no estudo de questões químicas deve ser considerada profundamente irracional e contrária ao espírito da química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ahoma"/>
              </a:rPr>
              <a:t>Se a análise matemática devesse ter um lugar de destaque na química – uma aberração que é infelizmente quase impossível – isto causaria uma rápida e generalizada degeneração desta ciência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Tahoma"/>
              </a:rPr>
              <a:t>Auguste Comte, filósofo francê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i="1" lang="pt-BR" sz="2000" spc="-1" strike="noStrike">
                <a:solidFill>
                  <a:srgbClr val="ffffff"/>
                </a:solidFill>
                <a:latin typeface="Tahoma"/>
              </a:rPr>
              <a:t>Philosophie Positive (1830)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1218960" y="7200"/>
            <a:ext cx="79246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9f83bd"/>
                </a:solidFill>
                <a:latin typeface="Comic Sans MS"/>
              </a:rPr>
              <a:t>Quimiometria – Por que tão tarde?</a:t>
            </a:r>
            <a:endParaRPr b="0" lang="en-US" sz="3600" spc="-1" strike="noStrike">
              <a:solidFill>
                <a:srgbClr val="9f83bd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8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3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95200" y="280080"/>
            <a:ext cx="6957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9f83bd"/>
                </a:solidFill>
                <a:latin typeface="Comic Sans MS"/>
              </a:rPr>
              <a:t>Introdução</a:t>
            </a:r>
            <a:endParaRPr b="0" lang="en-US" sz="36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9f83bd"/>
                </a:solidFill>
                <a:latin typeface="Comic Sans MS"/>
              </a:rPr>
              <a:t>Choques do petróleo nos anos 70;</a:t>
            </a: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9f83bd"/>
                </a:solidFill>
                <a:latin typeface="Comic Sans MS"/>
              </a:rPr>
              <a:t>Participação do gás natural na matriz energética: de 2,7% para 12% até o ano de 2010;</a:t>
            </a: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9f83bd"/>
                </a:solidFill>
                <a:latin typeface="Comic Sans MS"/>
              </a:rPr>
              <a:t>Portaria ANP nº 104/02.</a:t>
            </a: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142640" y="137160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9f83bd"/>
                </a:solidFill>
                <a:latin typeface="Comic Sans MS"/>
              </a:rPr>
              <a:t>Otimização</a:t>
            </a: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  <a:p>
            <a:pPr marL="3358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  <a:p>
            <a:pPr marL="335880" indent="-335880" algn="just">
              <a:lnSpc>
                <a:spcPct val="120000"/>
              </a:lnSpc>
              <a:spcBef>
                <a:spcPts val="799"/>
              </a:spcBef>
              <a:buClr>
                <a:srgbClr val="9f83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9f83bd"/>
                </a:solidFill>
                <a:latin typeface="Comic Sans MS"/>
              </a:rPr>
              <a:t>Encontrar o ótimo;</a:t>
            </a: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  <a:p>
            <a:pPr marL="335880" indent="-335880" algn="just">
              <a:lnSpc>
                <a:spcPct val="120000"/>
              </a:lnSpc>
              <a:spcBef>
                <a:spcPts val="799"/>
              </a:spcBef>
              <a:buClr>
                <a:srgbClr val="9f83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9f83bd"/>
                </a:solidFill>
                <a:latin typeface="Comic Sans MS"/>
              </a:rPr>
              <a:t>Melhorar as condições de um processo;</a:t>
            </a: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  <a:p>
            <a:pPr marL="335880" indent="-335880" algn="just">
              <a:lnSpc>
                <a:spcPct val="120000"/>
              </a:lnSpc>
              <a:spcBef>
                <a:spcPts val="799"/>
              </a:spcBef>
              <a:buClr>
                <a:srgbClr val="9f83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9f83bd"/>
                </a:solidFill>
                <a:latin typeface="Comic Sans MS"/>
              </a:rPr>
              <a:t>Planejamento fatorial, planejamento fatorial fracionário, Plackett-Burman, “Nested”, Tagushi, entre outros.</a:t>
            </a: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1211040" y="281520"/>
            <a:ext cx="3360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9f83bd"/>
                </a:solidFill>
                <a:latin typeface="Comic Sans MS"/>
              </a:rPr>
              <a:t>Metodologia</a:t>
            </a:r>
            <a:endParaRPr b="0" lang="en-US" sz="3600" spc="-1" strike="noStrike">
              <a:solidFill>
                <a:srgbClr val="9f83bd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371240" y="129492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9f83bd"/>
                </a:solidFill>
                <a:latin typeface="Comic Sans MS"/>
              </a:rPr>
              <a:t>Validação</a:t>
            </a: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2362320"/>
            <a:ext cx="7467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2000"/>
          </a:bodyPr>
          <a:p>
            <a:pPr marL="75240" indent="-75240" algn="just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9f83bd"/>
                </a:solidFill>
                <a:latin typeface="Comic Sans MS"/>
              </a:rPr>
              <a:t>Estudos laboratoriai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5240" indent="-75240" algn="just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9f83bd"/>
                </a:solidFill>
                <a:latin typeface="Comic Sans MS"/>
              </a:rPr>
              <a:t>Planejamento de experimento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5240" indent="-75240" algn="just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9f83bd"/>
                </a:solidFill>
                <a:latin typeface="Comic Sans MS"/>
              </a:rPr>
              <a:t>Características de desempenh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5240" indent="-75240" algn="just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9f83bd"/>
                </a:solidFill>
                <a:latin typeface="Comic Sans MS"/>
              </a:rPr>
              <a:t>Intenção ao us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5240" indent="-75240" algn="just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9f83bd"/>
                </a:solidFill>
                <a:latin typeface="Comic Sans MS"/>
              </a:rPr>
              <a:t>Organismo reconheci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5240" indent="-7524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5240" indent="-7524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5240" indent="-752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5240" indent="-7524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1363320" y="281520"/>
            <a:ext cx="3360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9f83bd"/>
                </a:solidFill>
                <a:latin typeface="Comic Sans MS"/>
              </a:rPr>
              <a:t>Metodologia</a:t>
            </a:r>
            <a:endParaRPr b="0" lang="en-US" sz="3600" spc="-1" strike="noStrike">
              <a:solidFill>
                <a:srgbClr val="9f83bd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295280" y="1523880"/>
            <a:ext cx="4800600" cy="2438640"/>
          </a:xfrm>
          <a:prstGeom prst="rect">
            <a:avLst/>
          </a:prstGeom>
          <a:noFill/>
          <a:ln w="38160">
            <a:solidFill>
              <a:srgbClr val="9f83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f83bd"/>
                </a:solidFill>
                <a:latin typeface="Comic Sans MS"/>
              </a:rPr>
              <a:t>1. Especificidade / Seletiv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f83bd"/>
                </a:solidFill>
                <a:latin typeface="Comic Sans MS"/>
              </a:rPr>
              <a:t>2. Precis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f83bd"/>
                </a:solidFill>
                <a:latin typeface="Comic Sans MS"/>
              </a:rPr>
              <a:t>3. Linear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f83bd"/>
                </a:solidFill>
                <a:latin typeface="Comic Sans MS"/>
              </a:rPr>
              <a:t>4. Faixa de Trabal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f83bd"/>
                </a:solidFill>
                <a:latin typeface="Comic Sans MS"/>
              </a:rPr>
              <a:t>5. Sensibil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f83bd"/>
                </a:solidFill>
                <a:latin typeface="Comic Sans MS"/>
              </a:rPr>
              <a:t>6. Limite de Detec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32080" y="22557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4419720"/>
            <a:ext cx="4038480" cy="838080"/>
          </a:xfrm>
          <a:prstGeom prst="rect">
            <a:avLst/>
          </a:prstGeom>
          <a:noFill/>
          <a:ln w="38160">
            <a:solidFill>
              <a:srgbClr val="9f83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f83bd"/>
                </a:solidFill>
                <a:latin typeface="Comic Sans MS"/>
              </a:rPr>
              <a:t>7. Exatid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f83bd"/>
                </a:solidFill>
                <a:latin typeface="Comic Sans MS"/>
              </a:rPr>
              <a:t>8. Limite de Quantific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71600" y="5791320"/>
            <a:ext cx="4876920" cy="838080"/>
          </a:xfrm>
          <a:prstGeom prst="rect">
            <a:avLst/>
          </a:prstGeom>
          <a:noFill/>
          <a:ln w="38160">
            <a:solidFill>
              <a:srgbClr val="9f83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f83bd"/>
                </a:solidFill>
                <a:latin typeface="Comic Sans MS"/>
              </a:rPr>
              <a:t>9. Comparação Interlaborato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f83bd"/>
                </a:solidFill>
                <a:latin typeface="Comic Sans MS"/>
              </a:rPr>
              <a:t>10. Precisão do Mét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324480" y="2514600"/>
            <a:ext cx="457200" cy="380880"/>
          </a:xfrm>
          <a:prstGeom prst="leftArrow">
            <a:avLst>
              <a:gd name="adj1" fmla="val 50000"/>
              <a:gd name="adj2" fmla="val 30009"/>
            </a:avLst>
          </a:prstGeom>
          <a:solidFill>
            <a:srgbClr val="9f83bd"/>
          </a:solidFill>
          <a:ln w="38160">
            <a:solidFill>
              <a:srgbClr val="9f83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81680" y="6095880"/>
            <a:ext cx="457200" cy="381240"/>
          </a:xfrm>
          <a:prstGeom prst="leftArrow">
            <a:avLst>
              <a:gd name="adj1" fmla="val 50000"/>
              <a:gd name="adj2" fmla="val 29981"/>
            </a:avLst>
          </a:prstGeom>
          <a:solidFill>
            <a:srgbClr val="9f83bd"/>
          </a:solidFill>
          <a:ln w="38160">
            <a:solidFill>
              <a:srgbClr val="9f83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33920" y="464832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9f83bd"/>
          </a:solidFill>
          <a:ln w="38160">
            <a:solidFill>
              <a:srgbClr val="9f83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10280" y="2437920"/>
            <a:ext cx="198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f83bd"/>
                </a:solidFill>
                <a:latin typeface="Comic Sans MS"/>
              </a:rPr>
              <a:t>Instru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06120" y="4647960"/>
            <a:ext cx="1402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f83bd"/>
                </a:solidFill>
                <a:latin typeface="Comic Sans MS"/>
              </a:rPr>
              <a:t>Amos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413840" y="6019560"/>
            <a:ext cx="100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f83bd"/>
                </a:solidFill>
                <a:latin typeface="Comic Sans MS"/>
              </a:rPr>
              <a:t>Fin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47560" y="303840"/>
            <a:ext cx="656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9f83bd"/>
                </a:solidFill>
                <a:latin typeface="Comic Sans MS"/>
              </a:rPr>
              <a:t>Critérios de desempenho </a:t>
            </a:r>
            <a:endParaRPr b="0" lang="en-US" sz="3600" spc="-1" strike="noStrike">
              <a:solidFill>
                <a:srgbClr val="9f83bd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600" y="28152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9f83bd"/>
                </a:solidFill>
                <a:latin typeface="Comic Sans MS"/>
              </a:rPr>
              <a:t>Critérios de desempenho</a:t>
            </a:r>
            <a:endParaRPr b="0" lang="en-US" sz="36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6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f83bd"/>
                </a:solidFill>
                <a:latin typeface="Comic Sans MS"/>
              </a:rPr>
              <a:t>Seletividade / Especificidade</a:t>
            </a: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  <a:p>
            <a:pPr marL="284400" indent="-284400" algn="ctr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f83bd"/>
                </a:solidFill>
                <a:latin typeface="Comic Sans MS"/>
              </a:rPr>
              <a:t>Específico</a:t>
            </a: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  <a:p>
            <a:pPr marL="28440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f83bd"/>
                </a:solidFill>
                <a:latin typeface="Comic Sans MS"/>
              </a:rPr>
              <a:t>Resposta para apenas 1 analito.</a:t>
            </a: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  <a:p>
            <a:pPr marL="28440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  <a:p>
            <a:pPr marL="284400" indent="-284400" algn="ctr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f83bd"/>
                </a:solidFill>
                <a:latin typeface="Comic Sans MS"/>
              </a:rPr>
              <a:t>Seletivo</a:t>
            </a: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  <a:p>
            <a:pPr marL="28440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f83bd"/>
                </a:solidFill>
                <a:latin typeface="Comic Sans MS"/>
              </a:rPr>
              <a:t>	</a:t>
            </a:r>
            <a:r>
              <a:rPr b="0" lang="pt-BR" sz="3200" spc="-1" strike="noStrike">
                <a:solidFill>
                  <a:srgbClr val="9f83bd"/>
                </a:solidFill>
                <a:latin typeface="Comic Sans MS"/>
              </a:rPr>
              <a:t>Resposta para vários analitos mas capaz de distinguir a resposta do analito de interesse da resposta dos outros analitos.</a:t>
            </a: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95280" y="280080"/>
            <a:ext cx="6477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9f83bd"/>
                </a:solidFill>
                <a:latin typeface="Comic Sans MS"/>
              </a:rPr>
              <a:t>Critérios de desempenho</a:t>
            </a:r>
            <a:endParaRPr b="0" lang="en-US" sz="36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ctr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f83bd"/>
                </a:solidFill>
                <a:latin typeface="Comic Sans MS"/>
              </a:rPr>
              <a:t>Faixa de Trabalho</a:t>
            </a: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  <a:p>
            <a:pPr marL="3052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f83bd"/>
              </a:solidFill>
              <a:latin typeface="Comic Sans MS"/>
            </a:endParaRPr>
          </a:p>
          <a:p>
            <a:pPr marL="305280" indent="0" algn="just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9f83bd"/>
                </a:solidFill>
                <a:latin typeface="Comic Sans MS"/>
              </a:rPr>
              <a:t>	</a:t>
            </a:r>
            <a:r>
              <a:rPr b="0" lang="pt-BR" sz="3000" spc="-1" strike="noStrike">
                <a:solidFill>
                  <a:srgbClr val="9f83bd"/>
                </a:solidFill>
                <a:latin typeface="Comic Sans MS"/>
              </a:rPr>
              <a:t>Faixa na qual a sensibilidade do método se mantém constante.</a:t>
            </a:r>
            <a:endParaRPr b="0" lang="en-US" sz="3000" spc="-1" strike="noStrike">
              <a:solidFill>
                <a:srgbClr val="9f83bd"/>
              </a:solidFill>
              <a:latin typeface="Comic Sans MS"/>
            </a:endParaRPr>
          </a:p>
          <a:p>
            <a:pPr marL="305280" indent="0" algn="just">
              <a:lnSpc>
                <a:spcPct val="1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f83bd"/>
              </a:solidFill>
              <a:latin typeface="Comic Sans MS"/>
            </a:endParaRPr>
          </a:p>
          <a:p>
            <a:pPr marL="305280" indent="0" algn="just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9f83bd"/>
                </a:solidFill>
                <a:latin typeface="Comic Sans MS"/>
              </a:rPr>
              <a:t>	</a:t>
            </a:r>
            <a:r>
              <a:rPr b="0" lang="pt-BR" sz="3000" spc="-1" strike="noStrike">
                <a:solidFill>
                  <a:srgbClr val="9f83bd"/>
                </a:solidFill>
                <a:latin typeface="Comic Sans MS"/>
              </a:rPr>
              <a:t>É determinada pelo exame de amostras com diferentes concentrações de analito e definindo a faixa na qual a exatidão e a precisão alcançam níveis desejáveis.</a:t>
            </a:r>
            <a:endParaRPr b="0" lang="en-US" sz="3000" spc="-1" strike="noStrike">
              <a:solidFill>
                <a:srgbClr val="9f83bd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8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3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3520" y="28008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9f83bd"/>
                </a:solidFill>
                <a:latin typeface="Comic Sans MS"/>
              </a:rPr>
              <a:t>Critérios de desempenho</a:t>
            </a:r>
            <a:endParaRPr b="0" lang="en-US" sz="36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f83bd"/>
                </a:solidFill>
                <a:latin typeface="Comic Sans MS"/>
              </a:rPr>
              <a:t>Linearidade</a:t>
            </a: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  <a:p>
            <a:pPr marL="34308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f83bd"/>
                </a:solidFill>
                <a:latin typeface="Comic Sans MS"/>
              </a:rPr>
              <a:t>	</a:t>
            </a:r>
            <a:r>
              <a:rPr b="0" lang="pt-BR" sz="3200" spc="-1" strike="noStrike">
                <a:solidFill>
                  <a:srgbClr val="9f83bd"/>
                </a:solidFill>
                <a:latin typeface="Comic Sans MS"/>
              </a:rPr>
              <a:t>A curva de calibração é construída com no mínimo 05 pontos e ajustada através de regressão linear, usando-se o método dos mínimos quadrados.</a:t>
            </a: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28008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9f83bd"/>
                </a:solidFill>
                <a:latin typeface="Comic Sans MS"/>
              </a:rPr>
              <a:t>Critérios de desempenho</a:t>
            </a:r>
            <a:endParaRPr b="0" lang="en-US" sz="36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ctr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f83bd"/>
                </a:solidFill>
                <a:latin typeface="Comic Sans MS"/>
              </a:rPr>
              <a:t>Sensibilidade</a:t>
            </a: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  <a:p>
            <a:pPr marL="3189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  <a:p>
            <a:pPr marL="31896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f83bd"/>
                </a:solidFill>
                <a:latin typeface="Comic Sans MS"/>
              </a:rPr>
              <a:t>	</a:t>
            </a:r>
            <a:r>
              <a:rPr b="0" lang="pt-BR" sz="3200" spc="-1" strike="noStrike">
                <a:solidFill>
                  <a:srgbClr val="9f83bd"/>
                </a:solidFill>
                <a:latin typeface="Comic Sans MS"/>
              </a:rPr>
              <a:t>É a variação na concentração do analito, correspondente à menor diferença que possa ser detectada pelo método, sendo representada pela inclinação da curva de calibração.</a:t>
            </a: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600" y="303840"/>
            <a:ext cx="6781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9f83bd"/>
                </a:solidFill>
                <a:latin typeface="Comic Sans MS"/>
              </a:rPr>
              <a:t>Critérios de desempenho</a:t>
            </a:r>
            <a:endParaRPr b="0" lang="en-US" sz="36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f83bd"/>
                </a:solidFill>
                <a:latin typeface="Comic Sans MS"/>
              </a:rPr>
              <a:t>Limite de Detecção (LD)</a:t>
            </a: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f83bd"/>
                </a:solidFill>
                <a:latin typeface="Comic Sans MS"/>
              </a:rPr>
              <a:t>	</a:t>
            </a:r>
            <a:r>
              <a:rPr b="0" lang="pt-BR" sz="3200" spc="-1" strike="noStrike">
                <a:solidFill>
                  <a:srgbClr val="9f83bd"/>
                </a:solidFill>
                <a:latin typeface="Comic Sans MS"/>
              </a:rPr>
              <a:t>É a menor quantidade de analito presente na amostra, que pode ser detectada mas não necessariamente quantificada.</a:t>
            </a: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47920" y="280080"/>
            <a:ext cx="6705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9f83bd"/>
                </a:solidFill>
                <a:latin typeface="Comic Sans MS"/>
              </a:rPr>
              <a:t>Critérios de desempenho</a:t>
            </a:r>
            <a:endParaRPr b="0" lang="en-US" sz="36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f83bd"/>
                </a:solidFill>
                <a:latin typeface="Comic Sans MS"/>
              </a:rPr>
              <a:t>Limite de Quantificação (LQ)</a:t>
            </a: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f83bd"/>
                </a:solidFill>
                <a:latin typeface="Comic Sans MS"/>
              </a:rPr>
              <a:t>	</a:t>
            </a:r>
            <a:r>
              <a:rPr b="0" lang="pt-BR" sz="3200" spc="-1" strike="noStrike">
                <a:solidFill>
                  <a:srgbClr val="9f83bd"/>
                </a:solidFill>
                <a:latin typeface="Comic Sans MS"/>
              </a:rPr>
              <a:t>É a menor quantidade de analito presente na amostra, que pode ser determinado com exatidão e precisão aceitáveis.</a:t>
            </a: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600" y="280080"/>
            <a:ext cx="6934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9f83bd"/>
                </a:solidFill>
                <a:latin typeface="Comic Sans MS"/>
              </a:rPr>
              <a:t>Critérios de desempenho</a:t>
            </a:r>
            <a:endParaRPr b="0" lang="en-US" sz="36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18960" y="12193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ctr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f83bd"/>
                </a:solidFill>
                <a:latin typeface="Comic Sans MS"/>
              </a:rPr>
              <a:t>Precisão</a:t>
            </a: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  <a:p>
            <a:pPr marL="29844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f83bd"/>
                </a:solidFill>
                <a:latin typeface="Comic Sans MS"/>
              </a:rPr>
              <a:t>	</a:t>
            </a:r>
            <a:r>
              <a:rPr b="0" lang="pt-BR" sz="3200" spc="-1" strike="noStrike">
                <a:solidFill>
                  <a:srgbClr val="9f83bd"/>
                </a:solidFill>
                <a:latin typeface="Comic Sans MS"/>
              </a:rPr>
              <a:t>É o grau de concordância entre resultados de ensaio mutuamente independentes.</a:t>
            </a: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  <a:p>
            <a:pPr marL="29844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f83bd"/>
                </a:solidFill>
                <a:latin typeface="Comic Sans MS"/>
              </a:rPr>
              <a:t>	</a:t>
            </a:r>
            <a:r>
              <a:rPr b="0" lang="pt-BR" sz="3200" spc="-1" strike="noStrike">
                <a:solidFill>
                  <a:srgbClr val="9f83bd"/>
                </a:solidFill>
                <a:latin typeface="Comic Sans MS"/>
              </a:rPr>
              <a:t>Pode ser expressa como:</a:t>
            </a: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  <a:p>
            <a:pPr marL="298440" indent="-298440" algn="just">
              <a:lnSpc>
                <a:spcPct val="120000"/>
              </a:lnSpc>
              <a:spcBef>
                <a:spcPts val="799"/>
              </a:spcBef>
              <a:buClr>
                <a:srgbClr val="9f83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f83bd"/>
                </a:solidFill>
                <a:latin typeface="Comic Sans MS"/>
              </a:rPr>
              <a:t>repetitividade</a:t>
            </a: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  <a:p>
            <a:pPr marL="298440" indent="-298440">
              <a:lnSpc>
                <a:spcPct val="120000"/>
              </a:lnSpc>
              <a:spcBef>
                <a:spcPts val="799"/>
              </a:spcBef>
              <a:buClr>
                <a:srgbClr val="9f83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f83bd"/>
                </a:solidFill>
                <a:latin typeface="Comic Sans MS"/>
              </a:rPr>
              <a:t>precisão intermediária</a:t>
            </a: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  <a:p>
            <a:pPr marL="298440" indent="-298440">
              <a:lnSpc>
                <a:spcPct val="120000"/>
              </a:lnSpc>
              <a:spcBef>
                <a:spcPts val="799"/>
              </a:spcBef>
              <a:buClr>
                <a:srgbClr val="9f83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f83bd"/>
                </a:solidFill>
                <a:latin typeface="Comic Sans MS"/>
              </a:rPr>
              <a:t>reprodutibilidade</a:t>
            </a: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5943600" y="5938920"/>
                <a:ext cx="292572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35240" y="333000"/>
            <a:ext cx="6742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9f83bd"/>
                </a:solidFill>
                <a:latin typeface="Comic Sans MS"/>
              </a:rPr>
              <a:t>Introdução</a:t>
            </a:r>
            <a:endParaRPr b="0" lang="en-US" sz="36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1371240"/>
            <a:ext cx="7391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9f83bd"/>
                </a:solidFill>
                <a:latin typeface="Comic Sans MS"/>
              </a:rPr>
              <a:t>Principais utilizações do gás natural</a:t>
            </a: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</p:txBody>
      </p:sp>
      <p:pic>
        <p:nvPicPr>
          <p:cNvPr id="92" name="Gasnat5" descr=""/>
          <p:cNvPicPr/>
          <p:nvPr/>
        </p:nvPicPr>
        <p:blipFill>
          <a:blip r:embed="rId3"/>
          <a:stretch/>
        </p:blipFill>
        <p:spPr>
          <a:xfrm>
            <a:off x="2239920" y="2133720"/>
            <a:ext cx="54561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18960" y="280080"/>
            <a:ext cx="6933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9f83bd"/>
                </a:solidFill>
                <a:latin typeface="Comic Sans MS"/>
              </a:rPr>
              <a:t>Critérios de desempenho</a:t>
            </a:r>
            <a:endParaRPr b="0" lang="en-US" sz="36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5212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2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9f83bd"/>
                </a:solidFill>
                <a:latin typeface="Comic Sans MS"/>
              </a:rPr>
              <a:t>Precisão – Teste F</a:t>
            </a:r>
            <a:r>
              <a:rPr b="0" lang="pt-BR" sz="3600" spc="-1" strike="noStrike">
                <a:solidFill>
                  <a:srgbClr val="9f83bd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41148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9f83bd"/>
                </a:solidFill>
                <a:latin typeface="Comic Sans MS"/>
                <a:ea typeface="Arial"/>
              </a:rPr>
              <a:t>S</a:t>
            </a:r>
            <a:r>
              <a:rPr b="0" lang="pt-BR" sz="2800" spc="-1" strike="noStrike" baseline="80000">
                <a:solidFill>
                  <a:srgbClr val="9f83bd"/>
                </a:solidFill>
                <a:latin typeface="Comic Sans MS"/>
                <a:ea typeface="Arial"/>
              </a:rPr>
              <a:t>2</a:t>
            </a:r>
            <a:r>
              <a:rPr b="0" lang="pt-BR" sz="2800" spc="-1" strike="noStrike" baseline="-25000">
                <a:solidFill>
                  <a:srgbClr val="9f83bd"/>
                </a:solidFill>
                <a:latin typeface="Comic Sans MS"/>
                <a:ea typeface="Arial"/>
              </a:rPr>
              <a:t>B,i</a:t>
            </a:r>
            <a:r>
              <a:rPr b="0" lang="pt-BR" sz="2800" spc="-1" strike="noStrike">
                <a:solidFill>
                  <a:srgbClr val="9f83bd"/>
                </a:solidFill>
                <a:latin typeface="Comic Sans MS"/>
                <a:ea typeface="Arial"/>
              </a:rPr>
              <a:t>= variância dos dados da cromatografia de linh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9f83bd"/>
                </a:solidFill>
                <a:latin typeface="Comic Sans MS"/>
                <a:ea typeface="Arial"/>
              </a:rPr>
              <a:t>S</a:t>
            </a:r>
            <a:r>
              <a:rPr b="0" lang="pt-BR" sz="2800" spc="-1" strike="noStrike" baseline="80000">
                <a:solidFill>
                  <a:srgbClr val="9f83bd"/>
                </a:solidFill>
                <a:latin typeface="Comic Sans MS"/>
                <a:ea typeface="Arial"/>
              </a:rPr>
              <a:t>2</a:t>
            </a:r>
            <a:r>
              <a:rPr b="0" lang="pt-BR" sz="2800" spc="-1" strike="noStrike" baseline="-25000">
                <a:solidFill>
                  <a:srgbClr val="9f83bd"/>
                </a:solidFill>
                <a:latin typeface="Comic Sans MS"/>
                <a:ea typeface="Arial"/>
              </a:rPr>
              <a:t>L,i</a:t>
            </a:r>
            <a:r>
              <a:rPr b="0" lang="pt-BR" sz="2800" spc="-1" strike="noStrike">
                <a:solidFill>
                  <a:srgbClr val="9f83bd"/>
                </a:solidFill>
                <a:latin typeface="Comic Sans MS"/>
                <a:ea typeface="Arial"/>
              </a:rPr>
              <a:t> = variância dos dados da cromatografia de banc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4343400" y="2208240"/>
                <a:ext cx="1674720" cy="13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L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47920" y="28152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9f83bd"/>
                </a:solidFill>
                <a:latin typeface="Comic Sans MS"/>
              </a:rPr>
              <a:t>Critérios</a:t>
            </a:r>
            <a:r>
              <a:rPr b="0" lang="pt-BR" sz="3600" spc="-1" strike="noStrike">
                <a:solidFill>
                  <a:srgbClr val="9f83bd"/>
                </a:solidFill>
                <a:latin typeface="Comic Sans MS"/>
              </a:rPr>
              <a:t> </a:t>
            </a:r>
            <a:r>
              <a:rPr b="1" lang="pt-BR" sz="3600" spc="-1" strike="noStrike">
                <a:solidFill>
                  <a:srgbClr val="9f83bd"/>
                </a:solidFill>
                <a:latin typeface="Comic Sans MS"/>
              </a:rPr>
              <a:t>de desempenho</a:t>
            </a:r>
            <a:endParaRPr b="0" lang="en-US" sz="36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94920" y="14479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f83bd"/>
                </a:solidFill>
                <a:latin typeface="Comic Sans MS"/>
              </a:rPr>
              <a:t>Exatidão</a:t>
            </a: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  <a:p>
            <a:pPr marL="34308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f83bd"/>
                </a:solidFill>
                <a:latin typeface="Comic Sans MS"/>
              </a:rPr>
              <a:t>	</a:t>
            </a:r>
            <a:r>
              <a:rPr b="0" lang="pt-BR" sz="3200" spc="-1" strike="noStrike">
                <a:solidFill>
                  <a:srgbClr val="9f83bd"/>
                </a:solidFill>
                <a:latin typeface="Comic Sans MS"/>
              </a:rPr>
              <a:t>É a concordância entre o valor verdadeiro convencional e o encontrado pelo analito.</a:t>
            </a: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4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9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9320" y="227520"/>
            <a:ext cx="68580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9f83bd"/>
                </a:solidFill>
                <a:latin typeface="Comic Sans MS"/>
              </a:rPr>
              <a:t>Critérios de desempenho</a:t>
            </a:r>
            <a:endParaRPr b="0" lang="en-US" sz="43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f83bd"/>
                </a:solidFill>
                <a:latin typeface="Comic Sans MS"/>
              </a:rPr>
              <a:t>Exatidão – Teste t (igualdade entre as variâncias)</a:t>
            </a: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749760" y="2971800"/>
                <a:ext cx="21844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603440" y="4702320"/>
                <a:ext cx="702000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rad>
                    <m:r>
                      <m:t xml:space="preserve">∗</m:t>
                    </m:r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95280" y="280080"/>
            <a:ext cx="7010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9f83bd"/>
                </a:solidFill>
                <a:latin typeface="Comic Sans MS"/>
              </a:rPr>
              <a:t>Critérios de desempenho</a:t>
            </a:r>
            <a:endParaRPr b="0" lang="en-US" sz="36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f83bd"/>
                </a:solidFill>
                <a:latin typeface="Comic Sans MS"/>
              </a:rPr>
              <a:t>Avaliação de Incerteza</a:t>
            </a: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  <a:p>
            <a:pPr marL="329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  <a:p>
            <a:pPr marL="32904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f83bd"/>
                </a:solidFill>
                <a:latin typeface="Comic Sans MS"/>
              </a:rPr>
              <a:t>	</a:t>
            </a:r>
            <a:r>
              <a:rPr b="0" lang="pt-BR" sz="3200" spc="-1" strike="noStrike">
                <a:solidFill>
                  <a:srgbClr val="9f83bd"/>
                </a:solidFill>
                <a:latin typeface="Comic Sans MS"/>
              </a:rPr>
              <a:t>A incerteza é um parâmetro, associado ao resultado de uma medição, que caracteriza a dispersão dos valores que podem ser razoavelmente atribuídos a um mensurando.</a:t>
            </a: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600" y="280080"/>
            <a:ext cx="6934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9f83bd"/>
                </a:solidFill>
                <a:latin typeface="Comic Sans MS"/>
              </a:rPr>
              <a:t>Critérios de desempenho</a:t>
            </a:r>
            <a:endParaRPr b="0" lang="en-US" sz="36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19320" y="1295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f83bd"/>
                </a:solidFill>
                <a:latin typeface="Comic Sans MS"/>
              </a:rPr>
              <a:t>Avaliação de Incerteza - ISO GUM</a:t>
            </a: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008080" y="4419720"/>
                <a:ext cx="5916600" cy="18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limUpp>
                                  <m:e>
                                    <m:r>
                                      <m:t xml:space="preserve">x</m:t>
                                    </m:r>
                                  </m:e>
                                  <m:lim/>
                                </m:limUpp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limUpp>
                                  <m:e>
                                    <m:r>
                                      <m:t xml:space="preserve">x</m:t>
                                    </m:r>
                                  </m:e>
                                  <m:lim/>
                                </m:limUpp>
                              </m:e>
                              <m:sub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sSub>
                              <m:e>
                                <m:limUpp>
                                  <m:e>
                                    <m:r>
                                      <m:t xml:space="preserve">x</m:t>
                                    </m:r>
                                  </m:e>
                                  <m:lim/>
                                </m:limUpp>
                              </m:e>
                              <m:sub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w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q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sSub>
                                  <m:e>
                                    <m:limUp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lim/>
                                    </m:limUpp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sub>
                            </m:sSub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371600" y="2590920"/>
                <a:ext cx="733104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a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b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,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44240" y="281520"/>
            <a:ext cx="6961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9f83bd"/>
                </a:solidFill>
                <a:latin typeface="Comic Sans MS"/>
              </a:rPr>
              <a:t>Metodologia</a:t>
            </a:r>
            <a:endParaRPr b="0" lang="en-US" sz="36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79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45360" bIns="-45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94920" y="1414440"/>
            <a:ext cx="7448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130000"/>
              </a:lnSpc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f83bd"/>
                </a:solidFill>
                <a:latin typeface="Comic Sans MS"/>
              </a:rPr>
              <a:t>Calibração – comprovar a exatidão;</a:t>
            </a: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2743200"/>
            <a:ext cx="752004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30000"/>
              </a:lnSpc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f83bd"/>
                </a:solidFill>
                <a:latin typeface="Comic Sans MS"/>
              </a:rPr>
              <a:t>Validação – amostras são analisadas usando ambos o instrumento a ser validado e um método de teste já valida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11040" y="281520"/>
            <a:ext cx="3360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9f83bd"/>
                </a:solidFill>
                <a:latin typeface="Comic Sans MS"/>
              </a:rPr>
              <a:t>Metodologia</a:t>
            </a:r>
            <a:endParaRPr b="0" lang="en-US" sz="36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79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45360" bIns="-45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2266920" y="1197000"/>
            <a:ext cx="527688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87360" y="7200"/>
            <a:ext cx="33609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9f83bd"/>
                </a:solidFill>
                <a:latin typeface="Comic Sans MS"/>
              </a:rPr>
              <a:t>Procedimento</a:t>
            </a:r>
            <a:endParaRPr b="0" lang="en-US" sz="36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79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45360" bIns="-45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95280" y="1569960"/>
            <a:ext cx="7620120" cy="51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pt-BR" sz="3200" spc="-1" strike="noStrike">
                <a:solidFill>
                  <a:srgbClr val="9f83bd"/>
                </a:solidFill>
                <a:latin typeface="Comic Sans MS"/>
                <a:ea typeface="Times New Roman"/>
              </a:rPr>
              <a:t>Foi analisada uma mesma corrente de gás natural, em condições operacionais constantes, em três replicatas, por três dias consecutivos, em ambos os cromatógrafos: linha e bancada.  A metodologia envolvida neste último foi considerada como valida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87000" y="281520"/>
            <a:ext cx="6180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9f83bd"/>
                </a:solidFill>
                <a:latin typeface="Comic Sans MS"/>
              </a:rPr>
              <a:t>Resultados e discussão</a:t>
            </a:r>
            <a:endParaRPr b="0" lang="en-US" sz="36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79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45360" bIns="-45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76520" y="1353960"/>
            <a:ext cx="708660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f83bd"/>
                </a:solidFill>
                <a:latin typeface="Comic Sans MS"/>
              </a:rPr>
              <a:t>Teste 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f83bd"/>
                </a:solidFill>
                <a:latin typeface="Comic Sans MS"/>
              </a:rPr>
              <a:t>Calculamos a variância em termos de reprodutibilidade tanto para os resultados de linha, como para os resultados de bancada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87000" y="281520"/>
            <a:ext cx="6180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9f83bd"/>
                </a:solidFill>
                <a:latin typeface="Comic Sans MS"/>
              </a:rPr>
              <a:t>Resultados e discussão</a:t>
            </a:r>
            <a:endParaRPr b="0" lang="en-US" sz="3600" spc="-1" strike="noStrike">
              <a:solidFill>
                <a:srgbClr val="9f83bd"/>
              </a:solidFill>
              <a:latin typeface="Comic Sans MS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838080" y="1371600"/>
          <a:ext cx="8550360" cy="5556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371600"/>
                    <a:ext cx="8550360" cy="555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27320" y="303840"/>
            <a:ext cx="6673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9f83bd"/>
                </a:solidFill>
                <a:latin typeface="Comic Sans MS"/>
              </a:rPr>
              <a:t>Introdução</a:t>
            </a:r>
            <a:endParaRPr b="0" lang="en-US" sz="36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361960" y="1371600"/>
            <a:ext cx="5562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9f83bd"/>
                </a:solidFill>
                <a:latin typeface="Comic Sans MS"/>
              </a:rPr>
              <a:t>Portaria ANP nº 104/02</a:t>
            </a: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95" name=""/>
          <p:cNvSpPr/>
          <p:nvPr/>
        </p:nvSpPr>
        <p:spPr>
          <a:xfrm>
            <a:off x="1371600" y="2286000"/>
            <a:ext cx="7391520" cy="20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9f83bd"/>
                </a:solidFill>
                <a:latin typeface="Comic Sans MS"/>
              </a:rPr>
              <a:t>O que faz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9f83bd"/>
                </a:solidFill>
                <a:latin typeface="Comic Sans MS"/>
              </a:rPr>
              <a:t>Utilizar mecanismos de acompanhamento e controle efici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71600" y="510552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9f83bd"/>
                </a:solidFill>
                <a:latin typeface="Comic Sans MS"/>
              </a:rPr>
              <a:t>Como faz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9f83bd"/>
                </a:solidFill>
                <a:latin typeface="Comic Sans MS"/>
              </a:rPr>
              <a:t>Analisadores “</a:t>
            </a:r>
            <a:r>
              <a:rPr b="0" i="1" lang="pt-PT" sz="3200" spc="-1" strike="noStrike">
                <a:solidFill>
                  <a:srgbClr val="9f83bd"/>
                </a:solidFill>
                <a:latin typeface="Comic Sans MS"/>
              </a:rPr>
              <a:t>on line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87000" y="281520"/>
            <a:ext cx="6180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9f83bd"/>
                </a:solidFill>
                <a:latin typeface="Comic Sans MS"/>
              </a:rPr>
              <a:t>Resultados e discussão</a:t>
            </a:r>
            <a:endParaRPr b="0" lang="en-US" sz="36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1371600" y="1044720"/>
            <a:ext cx="7391520" cy="55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9f83bd"/>
                </a:solidFill>
                <a:latin typeface="Comic Sans MS"/>
              </a:rPr>
              <a:t>As variâncias são consideradas equivalentes, ao nível de 95% de confiança; pois os valores de F calculados são menores do que o F tabelado – 2,27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9f83bd"/>
                </a:solidFill>
                <a:latin typeface="Comic Sans MS"/>
              </a:rPr>
              <a:t>Assim sendo, não existem diferenças significativas de precisão em termos de reprodutibilidade entre as duas metodologia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87000" y="281520"/>
            <a:ext cx="6180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9f83bd"/>
                </a:solidFill>
                <a:latin typeface="Comic Sans MS"/>
              </a:rPr>
              <a:t>Resultados e discussão</a:t>
            </a:r>
            <a:endParaRPr b="0" lang="en-US" sz="36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205" name=""/>
          <p:cNvSpPr/>
          <p:nvPr/>
        </p:nvSpPr>
        <p:spPr>
          <a:xfrm>
            <a:off x="1371600" y="1944720"/>
            <a:ext cx="7391520" cy="31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f83bd"/>
                </a:solidFill>
                <a:latin typeface="Comic Sans MS"/>
              </a:rPr>
              <a:t>Teste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f83bd"/>
                </a:solidFill>
                <a:latin typeface="Comic Sans MS"/>
              </a:rPr>
              <a:t>Calculamos a média, tanto para os resultados de linha, como para os resultados de bancada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87000" y="281520"/>
            <a:ext cx="6180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9f83bd"/>
                </a:solidFill>
                <a:latin typeface="Comic Sans MS"/>
              </a:rPr>
              <a:t>Resultados e discussão</a:t>
            </a:r>
            <a:endParaRPr b="0" lang="en-US" sz="3600" spc="-1" strike="noStrike">
              <a:solidFill>
                <a:srgbClr val="9f83bd"/>
              </a:solidFill>
              <a:latin typeface="Comic Sans MS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-692280" y="1447920"/>
          <a:ext cx="11588760" cy="7007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692280" y="1447920"/>
                    <a:ext cx="11588760" cy="700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87000" y="281520"/>
            <a:ext cx="6180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9f83bd"/>
                </a:solidFill>
                <a:latin typeface="Comic Sans MS"/>
              </a:rPr>
              <a:t>Resultados e discussão</a:t>
            </a:r>
            <a:endParaRPr b="0" lang="en-US" sz="36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1371600" y="1523880"/>
            <a:ext cx="7391520" cy="45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f83bd"/>
                </a:solidFill>
                <a:latin typeface="Comic Sans MS"/>
              </a:rPr>
              <a:t>Teste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9f83bd"/>
                </a:solidFill>
                <a:latin typeface="Comic Sans MS"/>
              </a:rPr>
              <a:t>As médias são consideradas equivalentes, ao nível de 95% de confiança; pois os valores de t calculados são menores do que o t tabelado – 2,03.  Assim sendo, não existem diferenças significativas de exatidão entre as duas metodolog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87000" y="281520"/>
            <a:ext cx="6180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9f83bd"/>
                </a:solidFill>
                <a:latin typeface="Comic Sans MS"/>
              </a:rPr>
              <a:t>Resultados e discussão</a:t>
            </a:r>
            <a:endParaRPr b="0" lang="en-US" sz="36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212" name=""/>
          <p:cNvSpPr/>
          <p:nvPr/>
        </p:nvSpPr>
        <p:spPr>
          <a:xfrm>
            <a:off x="1371600" y="1523880"/>
            <a:ext cx="7391520" cy="51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f83bd"/>
                </a:solidFill>
                <a:latin typeface="Comic Sans MS"/>
              </a:rPr>
              <a:t>Incerteza de Medi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9f83bd"/>
                </a:solidFill>
                <a:latin typeface="Comic Sans MS"/>
              </a:rPr>
              <a:t>Calculamos a incerteza de medição, para cada dia de análise, tanto para o cromatógrafo de linha, quanto para o de bancada.  Podemos observar, que os resultados são compatíveis; isto é, não impactam significativamente no cálculo do poder caloríf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87000" y="281520"/>
            <a:ext cx="6180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9f83bd"/>
                </a:solidFill>
                <a:latin typeface="Comic Sans MS"/>
              </a:rPr>
              <a:t>Resultados e discussão</a:t>
            </a:r>
            <a:endParaRPr b="0" lang="en-US" sz="3600" spc="-1" strike="noStrike">
              <a:solidFill>
                <a:srgbClr val="9f83bd"/>
              </a:solidFill>
              <a:latin typeface="Comic Sans MS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1143000" y="1938240"/>
          <a:ext cx="7935840" cy="3875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1938240"/>
                    <a:ext cx="7935840" cy="38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87000" y="281520"/>
            <a:ext cx="6180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9f83bd"/>
                </a:solidFill>
                <a:latin typeface="Comic Sans MS"/>
              </a:rPr>
              <a:t>Conclusão</a:t>
            </a:r>
            <a:endParaRPr b="0" lang="en-US" sz="36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217" name=""/>
          <p:cNvSpPr/>
          <p:nvPr/>
        </p:nvSpPr>
        <p:spPr>
          <a:xfrm>
            <a:off x="1600200" y="1371600"/>
            <a:ext cx="7238880" cy="51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f83bd"/>
                </a:solidFill>
                <a:latin typeface="Comic Sans MS"/>
                <a:ea typeface="Times New Roman"/>
              </a:rPr>
              <a:t>Não existem diferenças significativas de precisão em termos de reprodutibilidade entre as duas metodologi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f83bd"/>
                </a:solidFill>
                <a:latin typeface="Comic Sans MS"/>
                <a:ea typeface="Times New Roman"/>
              </a:rPr>
              <a:t>Não existem diferenças significativas de exatidão entre as duas metodologi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87000" y="281520"/>
            <a:ext cx="6180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9f83bd"/>
                </a:solidFill>
                <a:latin typeface="Comic Sans MS"/>
              </a:rPr>
              <a:t>Conclusão</a:t>
            </a:r>
            <a:endParaRPr b="0" lang="en-US" sz="36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1371600"/>
            <a:ext cx="7315200" cy="50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f83bd"/>
                </a:solidFill>
                <a:latin typeface="Comic Sans MS"/>
                <a:ea typeface="Times New Roman"/>
              </a:rPr>
              <a:t>Observamos que os cromatógrafos de linha apresentam resultados melhores ou iguais aos de bancada. Os componentes que mais contribuem no cálculo do poder calorífico do gás natural:  os de maior concentração –metano e etano; e os mais pesados – C6+, tiveram em média uma redução na incerteza, quando analisados com cromatógrafos de linh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371240" y="2057040"/>
            <a:ext cx="74185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f83bd"/>
                </a:solidFill>
                <a:latin typeface="Comic Sans MS"/>
                <a:ea typeface="Times New Roman"/>
              </a:rPr>
              <a:t>  </a:t>
            </a:r>
            <a:r>
              <a:rPr b="1" lang="pt-BR" sz="3600" spc="-1" strike="noStrike">
                <a:solidFill>
                  <a:srgbClr val="9f83bd"/>
                </a:solidFill>
                <a:latin typeface="Comic Sans MS"/>
              </a:rPr>
              <a:t>Elcio Cruz de Oliveira</a:t>
            </a:r>
            <a:endParaRPr b="0" lang="en-US" sz="3600" spc="-1" strike="noStrike">
              <a:solidFill>
                <a:srgbClr val="9f83bd"/>
              </a:solidFill>
              <a:latin typeface="Comic Sans MS"/>
            </a:endParaRPr>
          </a:p>
          <a:p>
            <a:pPr marL="34308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9f83bd"/>
                </a:solidFill>
                <a:latin typeface="Comic Sans MS"/>
              </a:rPr>
              <a:t>(21) 3211 9223</a:t>
            </a:r>
            <a:endParaRPr b="0" lang="en-US" sz="3600" spc="-1" strike="noStrike">
              <a:solidFill>
                <a:srgbClr val="9f83bd"/>
              </a:solidFill>
              <a:latin typeface="Comic Sans MS"/>
            </a:endParaRPr>
          </a:p>
          <a:p>
            <a:pPr marL="34308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9f83bd"/>
                </a:solidFill>
                <a:uFillTx/>
                <a:latin typeface="Comic Sans MS"/>
                <a:hlinkClick r:id="rId2"/>
              </a:rPr>
              <a:t>elciooliveira@petrobras.com.br</a:t>
            </a:r>
            <a:endParaRPr b="0" lang="en-US" sz="36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1287000" y="281520"/>
            <a:ext cx="6180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9f83bd"/>
                </a:solidFill>
                <a:latin typeface="Comic Sans MS"/>
              </a:rPr>
              <a:t>Contato</a:t>
            </a:r>
            <a:endParaRPr b="0" lang="en-US" sz="3600" spc="-1" strike="noStrike">
              <a:solidFill>
                <a:srgbClr val="9f83bd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67920" y="272520"/>
            <a:ext cx="6961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9f83bd"/>
                </a:solidFill>
                <a:latin typeface="Comic Sans MS"/>
              </a:rPr>
              <a:t>Introdução</a:t>
            </a:r>
            <a:endParaRPr b="0" lang="en-US" sz="36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361960" y="1143000"/>
            <a:ext cx="5562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9f83bd"/>
                </a:solidFill>
                <a:latin typeface="Comic Sans MS"/>
              </a:rPr>
              <a:t>Portaria ANP nº 104/02</a:t>
            </a: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1752480"/>
            <a:ext cx="7696080" cy="45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just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9f83bd"/>
                </a:solidFill>
                <a:latin typeface="Comic Sans MS"/>
              </a:rPr>
              <a:t>Por que fazer assi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just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9f83bd"/>
                </a:solidFill>
                <a:latin typeface="Comic Sans MS"/>
              </a:rPr>
              <a:t>Diminuição dos custo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just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9f83bd"/>
                </a:solidFill>
                <a:latin typeface="Comic Sans MS"/>
              </a:rPr>
              <a:t>Requer operadores não tão habilidosos, porém supervisores mais experient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just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9f83bd"/>
                </a:solidFill>
                <a:latin typeface="Comic Sans MS"/>
              </a:rPr>
              <a:t>Velocidade: monitoração contínu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just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9f83bd"/>
                </a:solidFill>
                <a:latin typeface="Comic Sans MS"/>
              </a:rPr>
              <a:t>Obtenção de resultados mais reprodutíveis em um longo período de tempo do que se pode obter um operador em instrumental manu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590560" y="1371240"/>
            <a:ext cx="556236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9f83bd"/>
                </a:solidFill>
                <a:latin typeface="Comic Sans MS"/>
              </a:rPr>
              <a:t>Portaria ANP nº 104/02</a:t>
            </a:r>
            <a:endParaRPr b="0" lang="en-US" sz="32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2057400"/>
            <a:ext cx="647676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9f83bd"/>
                </a:solidFill>
                <a:latin typeface="Comic Sans MS"/>
              </a:rPr>
              <a:t>O que alcanç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600200" y="2971800"/>
            <a:ext cx="3581280" cy="3276720"/>
            <a:chOff x="1600200" y="2971800"/>
            <a:chExt cx="3581280" cy="3276720"/>
          </a:xfrm>
        </p:grpSpPr>
        <p:sp>
          <p:nvSpPr>
            <p:cNvPr id="103" name=""/>
            <p:cNvSpPr/>
            <p:nvPr/>
          </p:nvSpPr>
          <p:spPr>
            <a:xfrm>
              <a:off x="2057400" y="2971800"/>
              <a:ext cx="2590560" cy="8380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200" spc="-1" strike="noStrike">
                  <a:solidFill>
                    <a:srgbClr val="9f83bd"/>
                  </a:solidFill>
                  <a:latin typeface="Comic Sans MS"/>
                </a:rPr>
                <a:t>Analisador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600200" y="4876920"/>
              <a:ext cx="3581280" cy="1371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200" spc="-1" strike="noStrike">
                  <a:solidFill>
                    <a:srgbClr val="9f83bd"/>
                  </a:solidFill>
                  <a:latin typeface="Comic Sans MS"/>
                </a:rPr>
                <a:t>Qualidade em seu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200" spc="-1" strike="noStrike">
                  <a:solidFill>
                    <a:srgbClr val="9f83bd"/>
                  </a:solidFill>
                  <a:latin typeface="Comic Sans MS"/>
                </a:rPr>
                <a:t> </a:t>
              </a:r>
              <a:r>
                <a:rPr b="0" lang="pt-BR" sz="3200" spc="-1" strike="noStrike">
                  <a:solidFill>
                    <a:srgbClr val="9f83bd"/>
                  </a:solidFill>
                  <a:latin typeface="Comic Sans MS"/>
                </a:rPr>
                <a:t>resultado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52680" y="3809880"/>
              <a:ext cx="0" cy="106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867280" y="2895480"/>
            <a:ext cx="2743200" cy="3353040"/>
            <a:chOff x="5867280" y="2895480"/>
            <a:chExt cx="2743200" cy="3353040"/>
          </a:xfrm>
        </p:grpSpPr>
        <p:sp>
          <p:nvSpPr>
            <p:cNvPr id="107" name=""/>
            <p:cNvSpPr/>
            <p:nvPr/>
          </p:nvSpPr>
          <p:spPr>
            <a:xfrm>
              <a:off x="6019920" y="2895480"/>
              <a:ext cx="2590560" cy="8384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200" spc="-1" strike="noStrike">
                  <a:solidFill>
                    <a:srgbClr val="9f83bd"/>
                  </a:solidFill>
                  <a:latin typeface="Comic Sans MS"/>
                </a:rPr>
                <a:t>Métod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867280" y="4876920"/>
              <a:ext cx="2743200" cy="1371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200" spc="-1" strike="noStrike">
                  <a:solidFill>
                    <a:srgbClr val="9f83bd"/>
                  </a:solidFill>
                  <a:latin typeface="Comic Sans MS"/>
                </a:rPr>
                <a:t>Adequação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200" spc="-1" strike="noStrike">
                  <a:solidFill>
                    <a:srgbClr val="9f83bd"/>
                  </a:solidFill>
                  <a:latin typeface="Comic Sans MS"/>
                </a:rPr>
                <a:t>ao us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238880" y="375300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267920" y="265680"/>
            <a:ext cx="6961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9f83bd"/>
                </a:solidFill>
                <a:latin typeface="Comic Sans MS"/>
              </a:rPr>
              <a:t>Introdução</a:t>
            </a:r>
            <a:endParaRPr b="0" lang="en-US" sz="3600" spc="-1" strike="noStrike">
              <a:solidFill>
                <a:srgbClr val="9f83bd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356840" y="310680"/>
            <a:ext cx="67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9f83bd"/>
                </a:solidFill>
                <a:latin typeface="Comic Sans MS"/>
              </a:rPr>
              <a:t>Gás Natural - Definição</a:t>
            </a:r>
            <a:endParaRPr b="0" lang="en-US" sz="3600" spc="-1" strike="noStrike">
              <a:solidFill>
                <a:srgbClr val="9f83bd"/>
              </a:solidFill>
              <a:latin typeface="Comic Sans MS"/>
            </a:endParaRPr>
          </a:p>
        </p:txBody>
      </p:sp>
      <p:sp>
        <p:nvSpPr>
          <p:cNvPr id="112" name=""/>
          <p:cNvSpPr/>
          <p:nvPr/>
        </p:nvSpPr>
        <p:spPr>
          <a:xfrm>
            <a:off x="900000" y="1916280"/>
            <a:ext cx="7772400" cy="30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f83bd"/>
                </a:solidFill>
                <a:latin typeface="Comic Sans MS"/>
                <a:ea typeface="Arial"/>
              </a:rPr>
              <a:t>   </a:t>
            </a:r>
            <a:r>
              <a:rPr b="0" lang="pt-BR" sz="3200" spc="-1" strike="noStrike">
                <a:solidFill>
                  <a:srgbClr val="9f83bd"/>
                </a:solidFill>
                <a:latin typeface="Comic Sans MS"/>
                <a:ea typeface="Arial"/>
              </a:rPr>
              <a:t>Gás combustível processado que consiste em uma mistura de hidrocarbonetos, principalmente metano, etano, propano e hidrocarbonetos mais pesados em quantidades meno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447560" y="259920"/>
            <a:ext cx="6933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9f83bd"/>
                </a:solidFill>
                <a:latin typeface="Comic Sans MS"/>
              </a:rPr>
              <a:t>Gás Natural - Definição</a:t>
            </a:r>
            <a:endParaRPr b="0" lang="en-US" sz="3600" spc="-1" strike="noStrike">
              <a:solidFill>
                <a:srgbClr val="9f83bd"/>
              </a:solidFill>
              <a:latin typeface="Comic Sans MS"/>
            </a:endParaRPr>
          </a:p>
        </p:txBody>
      </p:sp>
      <p:pic>
        <p:nvPicPr>
          <p:cNvPr id="114" name="Gasnat2" descr=""/>
          <p:cNvPicPr/>
          <p:nvPr/>
        </p:nvPicPr>
        <p:blipFill>
          <a:blip r:embed="rId2"/>
          <a:stretch/>
        </p:blipFill>
        <p:spPr>
          <a:xfrm>
            <a:off x="1739880" y="1413000"/>
            <a:ext cx="687060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371600" y="33300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9f83bd"/>
                </a:solidFill>
                <a:latin typeface="Comic Sans MS"/>
              </a:rPr>
              <a:t>Produção de Gás Natural</a:t>
            </a:r>
            <a:endParaRPr b="0" lang="en-US" sz="3600" spc="-1" strike="noStrike">
              <a:solidFill>
                <a:srgbClr val="9f83bd"/>
              </a:solidFill>
              <a:latin typeface="Comic Sans MS"/>
            </a:endParaRPr>
          </a:p>
        </p:txBody>
      </p:sp>
      <p:pic>
        <p:nvPicPr>
          <p:cNvPr id="116" name="Gasnat3" descr=""/>
          <p:cNvPicPr/>
          <p:nvPr/>
        </p:nvPicPr>
        <p:blipFill>
          <a:blip r:embed="rId2"/>
          <a:stretch/>
        </p:blipFill>
        <p:spPr>
          <a:xfrm>
            <a:off x="1739880" y="1268280"/>
            <a:ext cx="6870600" cy="51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1T10:31:46Z</dcterms:created>
  <dc:creator>edhq</dc:creator>
  <dc:description/>
  <dc:language>en-US</dc:language>
  <cp:lastModifiedBy>Ricardo de Araújo Kalid</cp:lastModifiedBy>
  <cp:lastPrinted>1999-12-01T14:38:48Z</cp:lastPrinted>
  <dcterms:modified xsi:type="dcterms:W3CDTF">2004-10-23T13:56:42Z</dcterms:modified>
  <cp:revision>778</cp:revision>
  <dc:subject/>
  <dc:title>Geral</dc:title>
</cp:coreProperties>
</file>