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006-BF27-4F2A-8A31-4399E44F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84A-C20F-48D2-BB76-3A0DF65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C62-3878-4568-B01C-7517A0AF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38B-98A6-4350-9F8C-41134C9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BE5-A372-4E7B-8705-C6EB8024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2B5-D459-44BC-942E-CB38D47F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CEE-227B-4769-BD6E-69C7ED51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16F-C95B-4BD5-B4B8-CF8F7FE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D65-A426-4895-8AD9-4B276C46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424-FFD6-40C5-A962-26EF7618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77D-E7D3-4E76-B69E-B22A617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4A4-4F76-4D2B-891B-8646520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5D4-4847-4AB3-AD86-7B3614D85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486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a abordagem sobre experiências e resultados ob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obile Compu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MbpsAccessPointXXX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752480" cy="1405080"/>
          </a:xfrm>
          <a:prstGeom prst="rect">
            <a:avLst/>
          </a:prstGeom>
          <a:ln w="0">
            <a:noFill/>
          </a:ln>
        </p:spPr>
      </p:pic>
      <p:pic>
        <p:nvPicPr>
          <p:cNvPr id="44" name="PDT8100IS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111600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PPT88009keyb" descr=""/>
          <p:cNvPicPr/>
          <p:nvPr/>
        </p:nvPicPr>
        <p:blipFill>
          <a:blip r:embed="rId3"/>
          <a:stretch/>
        </p:blipFill>
        <p:spPr>
          <a:xfrm>
            <a:off x="914400" y="1542960"/>
            <a:ext cx="1050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PT8800top" descr=""/>
          <p:cNvPicPr/>
          <p:nvPr/>
        </p:nvPicPr>
        <p:blipFill>
          <a:blip r:embed="rId4"/>
          <a:stretch/>
        </p:blipFill>
        <p:spPr>
          <a:xfrm>
            <a:off x="1066680" y="4362480"/>
            <a:ext cx="144792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treo600" descr=""/>
          <p:cNvPicPr/>
          <p:nvPr/>
        </p:nvPicPr>
        <p:blipFill>
          <a:blip r:embed="rId5"/>
          <a:stretch/>
        </p:blipFill>
        <p:spPr>
          <a:xfrm>
            <a:off x="2133720" y="2457360"/>
            <a:ext cx="847440" cy="1621080"/>
          </a:xfrm>
          <a:prstGeom prst="rect">
            <a:avLst/>
          </a:prstGeom>
          <a:ln w="0">
            <a:noFill/>
          </a:ln>
        </p:spPr>
      </p:pic>
      <p:pic>
        <p:nvPicPr>
          <p:cNvPr id="48" name="tungstenC" descr=""/>
          <p:cNvPicPr/>
          <p:nvPr/>
        </p:nvPicPr>
        <p:blipFill>
          <a:blip r:embed="rId6"/>
          <a:stretch/>
        </p:blipFill>
        <p:spPr>
          <a:xfrm>
            <a:off x="7696080" y="3429000"/>
            <a:ext cx="1067040" cy="103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228600"/>
            <a:ext cx="0" cy="64008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0" cy="59436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19320"/>
            <a:ext cx="0" cy="5410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zcr" descr=""/>
          <p:cNvPicPr/>
          <p:nvPr/>
        </p:nvPicPr>
        <p:blipFill>
          <a:blip r:embed="rId7"/>
          <a:stretch/>
        </p:blipFill>
        <p:spPr>
          <a:xfrm>
            <a:off x="3733920" y="2362320"/>
            <a:ext cx="20574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etrobrás/Gerd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de inspeção e monitoramento de Tag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 centraliz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ção de rot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isualização de relatórios estatíst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ção e controle de O.S.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rviço servidor (versão on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ases de su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37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etrobrás/Gerd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 mó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ção em rotas carreg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e das faixas de ris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mento com código de bar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ção e gerenciamento de O.S.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gistro de justificativ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missão wireless (versão on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ases de su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46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bile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alabilidade tecnológ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ácil integr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pidez na disponibilização das informaçõ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antia de qualidade das inform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55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ergunt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uilherme Lev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.: 3113-87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lherme@zcr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64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que é mobile computing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licações na indústri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se de suces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59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 ambiente de computação móvel baseia-se na capacidade que os usuários têm de, munidos de um dispositivo móvel (celular, PDA, smartphone, notebook, etc), se comunicar com a parte fixa da rede e com outros dispositivos, independente de sua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offline e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O que é 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68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Tahoma"/>
              </a:rPr>
              <a:t>O que é 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75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lguns 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r soluções de negócio usando computadores e comunicações para permitir aos usuários trabalharem fora dos ambientes fixos nos quais normalmente ope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rcionar aos usuários a possibilidade de execução das tarefas em campo, dispensando o uso de caneta, papel e posterior trabalho de entrada de dados, reduzindo a margem de er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cessidades com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ção disponível onde necessá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pidez nas decisões com base em informações confiá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esso às informações de forma prática e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ca de diferenciais competi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Tahoma"/>
              </a:rPr>
              <a:t>O que é 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86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book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hel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phon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ular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esso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tão de expans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to de acess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ena wirel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O que é 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95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98" name="PPT88009keyb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0512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PT8800top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100" name="treo600" descr=""/>
          <p:cNvPicPr/>
          <p:nvPr/>
        </p:nvPicPr>
        <p:blipFill>
          <a:blip r:embed="rId4"/>
          <a:stretch/>
        </p:blipFill>
        <p:spPr>
          <a:xfrm>
            <a:off x="7924680" y="3276720"/>
            <a:ext cx="847800" cy="1620720"/>
          </a:xfrm>
          <a:prstGeom prst="rect">
            <a:avLst/>
          </a:prstGeom>
          <a:ln w="0">
            <a:noFill/>
          </a:ln>
        </p:spPr>
      </p:pic>
      <p:pic>
        <p:nvPicPr>
          <p:cNvPr id="101" name="2MbpsAccessPointXXX" descr=""/>
          <p:cNvPicPr/>
          <p:nvPr/>
        </p:nvPicPr>
        <p:blipFill>
          <a:blip r:embed="rId5"/>
          <a:stretch/>
        </p:blipFill>
        <p:spPr>
          <a:xfrm>
            <a:off x="6934320" y="1523880"/>
            <a:ext cx="1752480" cy="1405080"/>
          </a:xfrm>
          <a:prstGeom prst="rect">
            <a:avLst/>
          </a:prstGeom>
          <a:ln w="0">
            <a:noFill/>
          </a:ln>
        </p:spPr>
      </p:pic>
      <p:pic>
        <p:nvPicPr>
          <p:cNvPr id="102" name="PDT8100IS" descr=""/>
          <p:cNvPicPr/>
          <p:nvPr/>
        </p:nvPicPr>
        <p:blipFill>
          <a:blip r:embed="rId6"/>
          <a:stretch/>
        </p:blipFill>
        <p:spPr>
          <a:xfrm>
            <a:off x="4648320" y="2514600"/>
            <a:ext cx="111600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tungstenC" descr=""/>
          <p:cNvPicPr/>
          <p:nvPr/>
        </p:nvPicPr>
        <p:blipFill>
          <a:blip r:embed="rId7"/>
          <a:stretch/>
        </p:blipFill>
        <p:spPr>
          <a:xfrm>
            <a:off x="6172200" y="396252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 específico para equipamento móv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de integr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das funcionalidades são usadas 80% d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Tahoma"/>
              </a:rPr>
              <a:t>O que é mobi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10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ersidades do Amb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is de difícil aces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ção à umidade e poei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mosfera explos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plicações na indú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19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cterísticas dos equipa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rtificações em padrões internacion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insecamente segu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ência a poeira e um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ência a que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80880"/>
            <a:ext cx="0" cy="6248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0" cy="5715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28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plicações na indú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6120" y="685800"/>
            <a:ext cx="7543800" cy="5943600"/>
            <a:chOff x="276120" y="685800"/>
            <a:chExt cx="7543800" cy="5943600"/>
          </a:xfrm>
        </p:grpSpPr>
        <p:sp>
          <p:nvSpPr>
            <p:cNvPr id="128" name=""/>
            <p:cNvSpPr/>
            <p:nvPr/>
          </p:nvSpPr>
          <p:spPr>
            <a:xfrm>
              <a:off x="304920" y="685800"/>
              <a:ext cx="0" cy="5943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120" y="685800"/>
              <a:ext cx="75438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logozcr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4:02:14Z</dcterms:created>
  <dc:creator>guilherme</dc:creator>
  <dc:description/>
  <dc:language>en-US</dc:language>
  <cp:lastModifiedBy>guilherme</cp:lastModifiedBy>
  <dcterms:modified xsi:type="dcterms:W3CDTF">2004-10-22T21:10:04Z</dcterms:modified>
  <cp:revision>90</cp:revision>
  <dc:subject/>
  <dc:title>Departamento de Computação Móvel</dc:title>
</cp:coreProperties>
</file>