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ABF-DE76-4D00-B2CF-9EB5BDBA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2495520"/>
            <a:ext cx="77724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165-0C0D-4732-AEC1-42975BAF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249552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249552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6AF-53B5-45E1-954C-2B564EA2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249552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249552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249552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485-4E8B-4305-95AD-877D52C7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2A49-A4F0-4E8C-B6D7-A016DAB8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2B7B-360F-4FF5-8A31-C647452C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2398-A4CA-48AD-8500-296CBCED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2A10-5DD4-4846-9609-F499AC2D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7E95-78A0-4648-B069-54959C7D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7382-A37C-4A31-9B2E-F0F8520B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249552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892E-CB9A-46B8-B99B-88DCFF29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27C-A89A-4595-A8D6-2E03221F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249552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72D4-8FB4-47CB-B229-CCC8F6C9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2495520"/>
            <a:ext cx="77724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1C69-EB85-4A50-89B4-F6B17BF7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2495520"/>
            <a:ext cx="77724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4FD4-FF88-43FE-8A92-A09386B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249552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249552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FBCD-4349-44BE-97F7-05665CC6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249552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249552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2495520"/>
            <a:ext cx="250236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F48D-334F-4D1C-97E2-FD8911D3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DEC-EB0B-419E-B29D-7FD3DCE2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C27-98A8-47EF-97E4-EFEFCB69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5A6-009A-4677-9445-7FABE3E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B72-A1CE-4344-A0D6-E3229A2B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249552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39B-0282-46E7-A1CF-EA6F1D6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249552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3D9-2B91-40C8-94C6-6379F74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2495520"/>
            <a:ext cx="7772400" cy="3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D44-A4C5-4039-99EF-2DDBAD8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82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82080" indent="-820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82080" indent="-82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82080" indent="-820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4" marL="82080" indent="-82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5" marL="82080" indent="-82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6" marL="82080" indent="-82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SENAI CET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6CA4-4E10-488B-97A7-68DA0A67A84C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28800" y="3352680"/>
            <a:ext cx="6705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ED76-A8D2-436E-9FBA-671D8C4C186E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WNAP 200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ahoma"/>
              </a:rPr>
              <a:t>SENAI CETIND- Outubr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Confiabilidade Metrológica em análises Quím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O que é validação de métod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657600"/>
            <a:ext cx="754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A validação de método tem o objetivo de demonstrar que o laboratório é capaz de reproduzir o desempenho do método relatado na norma de origem e deve ser realizada na faixa que atende às necessidades dos clientes para atendimento aos requisitos de uma legislação específica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548640" indent="-109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Seletividade / Especific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Faixa de trabal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Linear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Sensibil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Limite de detecção e quantificaç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Repetitiv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Reprodutibil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Exatid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Robust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834120" indent="-1666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Seletividade / Especific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Adição de padrão na matriz e no branco para dez replicat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167840" indent="-166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avalia homogeneidade das variância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167840" indent="-166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Compara as inclinações das curvas analít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605520" indent="-120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Faixa de trabal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Estimar limite mínimo – 4x o ruí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Estimar limite máximo – resposta máxima do sistema instrumen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Teste de variânci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0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685800" indent="-1371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Linear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Construção de uma curva analítica com 5 pontos 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aplicar teste de linearidade para o último po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Sensibil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1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Inclinação da curva analíti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1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1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1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1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1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1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1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1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0" y="3548160"/>
            <a:ext cx="5864040" cy="3154320"/>
            <a:chOff x="2286000" y="3548160"/>
            <a:chExt cx="5864040" cy="3154320"/>
          </a:xfrm>
        </p:grpSpPr>
        <p:graphicFrame>
          <p:nvGraphicFramePr>
            <p:cNvPr id="145" name=""/>
            <p:cNvGraphicFramePr/>
            <p:nvPr/>
          </p:nvGraphicFramePr>
          <p:xfrm>
            <a:off x="2286000" y="3548160"/>
            <a:ext cx="5864040" cy="3154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3548160"/>
                      <a:ext cx="5864040" cy="31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V="1">
              <a:off x="3198240" y="5664600"/>
              <a:ext cx="0" cy="834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879000" y="4073400"/>
              <a:ext cx="0" cy="242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499480" y="5696640"/>
              <a:ext cx="698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531160" y="4059720"/>
              <a:ext cx="134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517120" y="6316920"/>
              <a:ext cx="680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517120" y="5959440"/>
              <a:ext cx="134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871720" y="3810960"/>
              <a:ext cx="1098360" cy="2642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49160" y="5976720"/>
              <a:ext cx="0" cy="33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549160" y="4073400"/>
              <a:ext cx="0" cy="1622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662760" indent="-13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Limite de detecção e quantificaç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Preparar 10 replicatas do bran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LDM = t</a:t>
            </a:r>
            <a:r>
              <a:rPr b="1" lang="pt-BR" sz="1800" spc="-1" strike="noStrike" baseline="-20000">
                <a:solidFill>
                  <a:srgbClr val="ffffcc"/>
                </a:solidFill>
                <a:latin typeface="Arial"/>
                <a:ea typeface="Arial"/>
              </a:rPr>
              <a:t>(9,99%)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x s           onde t aproximadamente 3</a:t>
            </a: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LQM = 3  LD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Limite de detecção e quantificaç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3880" y="3313080"/>
            <a:ext cx="6782040" cy="3316320"/>
            <a:chOff x="1523880" y="3313080"/>
            <a:chExt cx="6782040" cy="3316320"/>
          </a:xfrm>
        </p:grpSpPr>
        <p:sp>
          <p:nvSpPr>
            <p:cNvPr id="163" name=""/>
            <p:cNvSpPr/>
            <p:nvPr/>
          </p:nvSpPr>
          <p:spPr>
            <a:xfrm>
              <a:off x="1523880" y="3313080"/>
              <a:ext cx="6782040" cy="3316320"/>
            </a:xfrm>
            <a:prstGeom prst="rect">
              <a:avLst/>
            </a:prstGeom>
            <a:solidFill>
              <a:srgbClr val="ff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77360" y="4217400"/>
              <a:ext cx="5274720" cy="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729520" y="4217400"/>
              <a:ext cx="0" cy="1356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6520" y="5423400"/>
              <a:ext cx="1506960" cy="602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Tahoma"/>
                </a:rPr>
                <a:t>LD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086000" y="4217400"/>
              <a:ext cx="0" cy="1356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84320" y="5423400"/>
              <a:ext cx="1356480" cy="602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Tahoma"/>
                </a:rPr>
                <a:t>LQ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29520" y="4217400"/>
              <a:ext cx="13564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76920" y="4217400"/>
              <a:ext cx="55224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9960" y="4217400"/>
              <a:ext cx="195912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Resultados quantificado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0360" y="3614400"/>
              <a:ext cx="16578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esultados estimado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74360" y="3614400"/>
              <a:ext cx="165780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9966"/>
                  </a:solidFill>
                  <a:latin typeface="Arial"/>
                </a:rPr>
                <a:t>Não detectado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0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Limites máximos permiti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Arial"/>
                <a:ea typeface="Arial"/>
              </a:rPr>
              <a:t>Limites de detecção do métod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529280" y="188604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Legislação ou especificaçã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628560" indent="-125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Repetitiv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10 replica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r = t</a:t>
            </a:r>
            <a:r>
              <a:rPr b="1" lang="pt-BR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∞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√2 s           onde t</a:t>
            </a:r>
            <a:r>
              <a:rPr b="1" lang="pt-BR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∞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= 1,9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r=2,772 s</a:t>
            </a: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14800" y="45720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304812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0481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514600"/>
            <a:ext cx="83808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2590920"/>
            <a:ext cx="838440" cy="838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491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m             s             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         </a:t>
            </a: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kg           A             c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m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4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628560" indent="-125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Reprodutibil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10 replica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R = t</a:t>
            </a:r>
            <a:r>
              <a:rPr b="1" lang="pt-BR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∞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√2 s           onde t</a:t>
            </a:r>
            <a:r>
              <a:rPr b="1" lang="pt-BR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∞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= 1,9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r=2,772 s</a:t>
            </a: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28954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742680" indent="-148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Exatid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Uso de material de referê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8954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628560" indent="-125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Robust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Métodos desenvolvidos intern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Introduzir variações nas condições do ensa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327672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674280" indent="-134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Utilização de laboratórios da RB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-134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Quando não houver, solicitar os certificados de calibração dos instrumentos secundários calibrados em laboratórios da RB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-134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Vidrarias calibradas em laboratório da RB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-134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Certificados com incerteza e k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7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Calibração de Equipamentos, instrumentos e Vidrar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327672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08480" indent="-141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Periodicidade de calibraç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Sugestão – Anualm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-141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Verificações entre as calibraçõ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0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Calibração de Equipamentos, instrumentos e Vidrar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327672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Somente pessoas habilitadas utilizem os equipamen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Manter registro do histórico do equipamento: calibrações, verificações e manutençõ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Softwares valid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Calibração de Equipamentos, instrumentos e Vidrar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468360" indent="-9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Bran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Adição de padrão no bran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Adição de padrão na amo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Duplicat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oeficiente de correlação da curva analític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Padrão de Verificaç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Re-ensaio de item ret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orrelação de result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Ensaio de proficiênc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4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Implantação de um programa de controle da qualidade analí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Definir periodicidade de cada contro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Definir critérios de aceitação dos contro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Acompanhar com cartas contro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Implantação de um programa de controle da qualidade analí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617040" indent="-123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Propriedade do resultado de uma medição estar relacionado a referências estabelecidas, geralmente a padrões nacionais ou internacionais , através de uma cadeia contínua de comparações, todas tendo incertezas estabelecidas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-123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omo demonsntrar a rastreabilidade 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Garantia da rastreabilidade dos resultados de ensa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Utilizando equipamentos e instrumentos calibrados na RBC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Utilizando vidrarias calibradas na RB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Utilizando padrões químicos com certificados contendo incerteza (NIS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Realizando registro de todos os dados </a:t>
            </a: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9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Garantia da rastreabilidade dos resultados de ensa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Ensaio Químico = Mediçã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335268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Medição Errada = Per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BS00508_" descr=""/>
          <p:cNvPicPr/>
          <p:nvPr/>
        </p:nvPicPr>
        <p:blipFill>
          <a:blip r:embed="rId1"/>
          <a:stretch/>
        </p:blipFill>
        <p:spPr>
          <a:xfrm>
            <a:off x="2743200" y="4572000"/>
            <a:ext cx="33526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857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508040" y="188604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Avaliação das incertezas dos ensa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276720"/>
            <a:ext cx="342900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Err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Incertez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276720"/>
            <a:ext cx="42670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Méd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Desvio Padrã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335268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457200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491400" indent="-982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Definir o mensurando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 y= f (x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-982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Definir incerteza das grandezas de entrada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u (x</a:t>
            </a:r>
            <a:r>
              <a:rPr b="1" lang="pt-BR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i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-982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alcular os coeficientes de sensibilidade do mensurando em relação às grandezas de entrada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 c</a:t>
            </a:r>
            <a:r>
              <a:rPr b="1" lang="pt-BR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i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= (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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f) / (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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x</a:t>
            </a:r>
            <a:r>
              <a:rPr b="1" lang="pt-BR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i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-982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Calcular a incerteza combinada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 u</a:t>
            </a:r>
            <a:r>
              <a:rPr b="1" lang="es-ES_tradnl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c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(y) = 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c</a:t>
            </a:r>
            <a:r>
              <a:rPr b="1" lang="es-ES_tradnl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i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. u (x</a:t>
            </a:r>
            <a:r>
              <a:rPr b="1" lang="es-ES_tradnl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i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 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alcular a incerteza expandida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U = k. u</a:t>
            </a:r>
            <a:r>
              <a:rPr b="1" lang="pt-BR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c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(y), onde k=2 para um nível de confiança de 95%.</a:t>
            </a: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9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4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508040" y="188604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Avaliação das incertezas dos ensa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2000"/>
          </a:bodyPr>
          <a:p>
            <a:pPr marL="14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479880" indent="-9576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Definir o mensurando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 C= m / 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-9576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Definir incerteza das grandezas de entrada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u (m), u(V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u(m)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incerteza certificado / 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864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Arial"/>
              </a:rPr>
              <a:t>u(m) = </a:t>
            </a:r>
            <a:r>
              <a:rPr b="1" lang="pt-BR" sz="18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2 u(m)</a:t>
            </a:r>
            <a:r>
              <a:rPr b="1" lang="pt-BR" sz="1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4" marL="864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4" marL="864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4" marL="864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Arial"/>
              </a:rPr>
              <a:t>u(V) </a:t>
            </a:r>
            <a:r>
              <a:rPr b="1" lang="pt-BR" sz="1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 incerteza do certificado / 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4" marL="864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</a:t>
            </a:r>
            <a:r>
              <a:rPr b="1" lang="pt-BR" sz="1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efeito da temperatura  solução    v .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Arial"/>
              </a:rPr>
              <a:t>ΔT . 2,1 x 10</a:t>
            </a:r>
            <a:r>
              <a:rPr b="1" lang="pt-BR" sz="1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4" marL="864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u(V) = </a:t>
            </a:r>
            <a:r>
              <a:rPr b="1" lang="pt-BR" sz="18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u</a:t>
            </a:r>
            <a:r>
              <a:rPr b="1" lang="pt-BR" sz="18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1</a:t>
            </a:r>
            <a:r>
              <a:rPr b="1" lang="pt-BR" sz="1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+ u</a:t>
            </a:r>
            <a:r>
              <a:rPr b="1" lang="pt-BR" sz="18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pt-BR" sz="1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7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4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752480"/>
            <a:ext cx="71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Avaliação das incertezas dos ensa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4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alcular os coeficientes de sensibilidade do mensurando em relação às grandezas de entrad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</a:t>
            </a:r>
            <a:r>
              <a:rPr b="1" lang="pt-BR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1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= (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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C) / (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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m) 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 1/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</a:t>
            </a:r>
            <a:r>
              <a:rPr b="1" lang="pt-BR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= (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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C) / (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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V)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  -m/V</a:t>
            </a:r>
            <a:r>
              <a:rPr b="1" lang="pt-BR" sz="20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Calcular a incerteza combinad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-9360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u</a:t>
            </a:r>
            <a:r>
              <a:rPr b="1" lang="es-ES_tradnl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c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(V) = 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c</a:t>
            </a:r>
            <a:r>
              <a:rPr b="1" lang="es-ES_tradnl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1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. u (m)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 2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+ c</a:t>
            </a:r>
            <a:r>
              <a:rPr b="1" lang="es-ES_tradnl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. u (V)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 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alcular a incerteza expandida </a:t>
            </a:r>
            <a:r>
              <a:rPr b="1" lang="pt-BR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U(V) = k. u</a:t>
            </a:r>
            <a:r>
              <a:rPr b="1" lang="pt-BR" sz="20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c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(V)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    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onde k=2 para um nível de confiança de 95%.</a:t>
            </a: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4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752480"/>
            <a:ext cx="71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Avaliação das incertezas dos ensa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7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1752480"/>
            <a:ext cx="71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Avaliação das incertezas dos ensa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581280"/>
            <a:ext cx="51818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32418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ahoma"/>
              </a:rPr>
              <a:t>Limite da legislação ou especificaç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28800" y="3870360"/>
            <a:ext cx="152280" cy="990720"/>
            <a:chOff x="1828800" y="3870360"/>
            <a:chExt cx="152280" cy="990720"/>
          </a:xfrm>
        </p:grpSpPr>
        <p:sp>
          <p:nvSpPr>
            <p:cNvPr id="233" name=""/>
            <p:cNvSpPr/>
            <p:nvPr/>
          </p:nvSpPr>
          <p:spPr>
            <a:xfrm>
              <a:off x="1828800" y="4267080"/>
              <a:ext cx="152280" cy="15264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3886200"/>
              <a:ext cx="0" cy="9144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876320" y="4784760"/>
              <a:ext cx="76320" cy="7632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876320" y="3870360"/>
              <a:ext cx="76320" cy="7632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657600" y="4282920"/>
            <a:ext cx="152280" cy="1526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2590920"/>
            <a:ext cx="0" cy="35208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705120" y="60199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705120" y="25146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4343400"/>
            <a:ext cx="5334120" cy="0"/>
          </a:xfrm>
          <a:prstGeom prst="line">
            <a:avLst/>
          </a:prstGeom>
          <a:ln w="32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651240" indent="-129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Amostragem representativa                      Plano de amostragem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-129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Condições adequadas de preservação da amostra (pH, temperatur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-129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Material dos recipient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-129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Prazo de validade das amostras </a:t>
            </a: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Realização de uma amostragem e coleta adequa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3505320"/>
            <a:ext cx="1143000" cy="304560"/>
          </a:xfrm>
          <a:prstGeom prst="rightArrow">
            <a:avLst>
              <a:gd name="adj1" fmla="val 50000"/>
              <a:gd name="adj2" fmla="val 93824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1508040" y="188604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Utilização de acomodações adequ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9718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Instalações adequadas (iluminação, exaustão, umidade, pressão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emperatura control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Controle microbiológico do 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eparação física para áreas confli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Controle de acesso de visi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Limpeza observando limitação de uso de produ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Controle de condições ambientais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-111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Temperatura do laboratório                     Volume das soluçõ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-111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Umidade                           Desempenho de equipamen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-111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Bactérias                          Contaminaç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67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508040" y="188604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Utilização de acomodações adequ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380988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44197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51055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651240" indent="-129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Formação técnica necessária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-129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Treinamento nos métodos de ensaio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-129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Realização de programas intralaboratoriai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-129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Avaliação da capacitação para realização de ensaios (exatidão e precisão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-129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Levantamento das necessidades de treinament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65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508040" y="188604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Qualificação do Pesso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Realização de programas intralaboratoriai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-102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Identificação de valor disperso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-102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Garantia da homogeneidade de analist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Avaliar homogeneidade das médias e variâncias dos analistas (Dixon e Cochra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-102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Obter valor da variância agrupada do laboratóri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ANOV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1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1508040" y="188604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Qualificação do Pesso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Ensaio Químico = Mediçã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352680"/>
            <a:ext cx="8534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Tahoma"/>
              </a:rPr>
              <a:t>Medição Errada = Consequências séria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Novos funcionário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Capacitaçõe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Verificar homogeneidade do novo analista com o grupo Comparar variância do analista com a variância agrupada do laboratório obtida no intralaborator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Verificar exatidão do analista                   Teste 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508040" y="188604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Qualificação do Pesso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55627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-123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ahoma"/>
              </a:rPr>
              <a:t>Participação em programas de Ensaios de Profiê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-123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ahoma"/>
              </a:rPr>
              <a:t>Acreditação – ISO 1702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61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88604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Avaliação externa do laborató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Substituição da ABNT ISO IEC Guia 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  <a:ea typeface="Arial"/>
              </a:rPr>
              <a:t>Norma de competê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  <a:ea typeface="Arial"/>
              </a:rPr>
              <a:t>Garantia da qualidade analítica de resul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654920" y="188604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Acreditação ABNT ISO IEC 1702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Critérios da gerê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  <a:ea typeface="Arial"/>
              </a:rPr>
              <a:t>Critérios técn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1649160" y="1886040"/>
            <a:ext cx="36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ABNT ISO IEC 1702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Participação em programas de Ensaios de Proficiê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297180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Identificação de problemas não detectáveis intern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508040" y="188604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Participação em programas de Ensaios de Proficiê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2286000"/>
            <a:ext cx="8610480" cy="39625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5880" y="3613320"/>
            <a:ext cx="57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enas mais uma ferramenta do CQ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usar como CQA rotin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valiação pont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90720" y="1981080"/>
            <a:ext cx="8001000" cy="4117320"/>
            <a:chOff x="990720" y="1981080"/>
            <a:chExt cx="8001000" cy="4117320"/>
          </a:xfrm>
        </p:grpSpPr>
        <p:sp>
          <p:nvSpPr>
            <p:cNvPr id="287" name=""/>
            <p:cNvSpPr/>
            <p:nvPr/>
          </p:nvSpPr>
          <p:spPr>
            <a:xfrm>
              <a:off x="4876920" y="5638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Arial"/>
                </a:rPr>
                <a:t>Itens retido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350532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Ensaios de proficiênci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990720" y="1981080"/>
              <a:ext cx="7619760" cy="3888720"/>
              <a:chOff x="990720" y="1981080"/>
              <a:chExt cx="7619760" cy="3888720"/>
            </a:xfrm>
          </p:grpSpPr>
          <p:sp>
            <p:nvSpPr>
              <p:cNvPr id="290" name=""/>
              <p:cNvSpPr/>
              <p:nvPr/>
            </p:nvSpPr>
            <p:spPr>
              <a:xfrm>
                <a:off x="3581280" y="3352680"/>
                <a:ext cx="1676520" cy="1371600"/>
              </a:xfrm>
              <a:custGeom>
                <a:avLst/>
                <a:gdLst>
                  <a:gd name="textAreaLeft" fmla="*/ 382680 w 1676520"/>
                  <a:gd name="textAreaRight" fmla="*/ 1293840 w 1676520"/>
                  <a:gd name="textAreaTop" fmla="*/ 313200 h 1371600"/>
                  <a:gd name="textAreaBottom" fmla="*/ 105840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14600" y="3809880"/>
                <a:ext cx="914400" cy="381240"/>
              </a:xfrm>
              <a:prstGeom prst="rightArrow">
                <a:avLst>
                  <a:gd name="adj1" fmla="val 50000"/>
                  <a:gd name="adj2" fmla="val 59962"/>
                </a:avLst>
              </a:prstGeom>
              <a:solidFill>
                <a:srgbClr val="ffff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3600000">
                <a:off x="3238200" y="2781360"/>
                <a:ext cx="914400" cy="380880"/>
              </a:xfrm>
              <a:prstGeom prst="rightArrow">
                <a:avLst>
                  <a:gd name="adj1" fmla="val 50000"/>
                  <a:gd name="adj2" fmla="val 60019"/>
                </a:avLst>
              </a:prstGeom>
              <a:solidFill>
                <a:srgbClr val="ffff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8900000">
                <a:off x="2971800" y="4800600"/>
                <a:ext cx="914400" cy="380880"/>
              </a:xfrm>
              <a:prstGeom prst="rightArrow">
                <a:avLst>
                  <a:gd name="adj1" fmla="val 50000"/>
                  <a:gd name="adj2" fmla="val 60019"/>
                </a:avLst>
              </a:prstGeom>
              <a:solidFill>
                <a:srgbClr val="ffff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7200000">
                <a:off x="4685760" y="2819160"/>
                <a:ext cx="914400" cy="381240"/>
              </a:xfrm>
              <a:prstGeom prst="rightArrow">
                <a:avLst>
                  <a:gd name="adj1" fmla="val 50000"/>
                  <a:gd name="adj2" fmla="val 59962"/>
                </a:avLst>
              </a:prstGeom>
              <a:solidFill>
                <a:srgbClr val="ffff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00000">
                <a:off x="4228920" y="5067000"/>
                <a:ext cx="914400" cy="381240"/>
              </a:xfrm>
              <a:prstGeom prst="rightArrow">
                <a:avLst>
                  <a:gd name="adj1" fmla="val 50000"/>
                  <a:gd name="adj2" fmla="val 59962"/>
                </a:avLst>
              </a:prstGeom>
              <a:solidFill>
                <a:srgbClr val="ffff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3500000">
                <a:off x="5219640" y="4686120"/>
                <a:ext cx="914400" cy="380880"/>
              </a:xfrm>
              <a:prstGeom prst="rightArrow">
                <a:avLst>
                  <a:gd name="adj1" fmla="val 50000"/>
                  <a:gd name="adj2" fmla="val 60019"/>
                </a:avLst>
              </a:prstGeom>
              <a:solidFill>
                <a:srgbClr val="ffff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90720" y="37339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00"/>
                    </a:solidFill>
                    <a:latin typeface="Arial"/>
                  </a:rPr>
                  <a:t>Padrões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47920" y="2209680"/>
                <a:ext cx="2971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00"/>
                    </a:solidFill>
                    <a:latin typeface="Arial"/>
                  </a:rPr>
                  <a:t>Materiais de referênci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00200" y="54100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00"/>
                    </a:solidFill>
                    <a:latin typeface="Arial"/>
                  </a:rPr>
                  <a:t>Brancos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38680" y="1981080"/>
                <a:ext cx="2971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00"/>
                    </a:solidFill>
                    <a:latin typeface="Arial"/>
                  </a:rPr>
                  <a:t>Correlação de resultados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62520" y="374796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Arial"/>
                  </a:rPr>
                  <a:t>CQA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0800000">
                <a:off x="5486400" y="3733920"/>
                <a:ext cx="914400" cy="380880"/>
              </a:xfrm>
              <a:prstGeom prst="rightArrow">
                <a:avLst>
                  <a:gd name="adj1" fmla="val 50000"/>
                  <a:gd name="adj2" fmla="val 60019"/>
                </a:avLst>
              </a:prstGeom>
              <a:solidFill>
                <a:srgbClr val="ffff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6172200" y="4952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uplica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67652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Participação em programas de Ensaios de Proficiê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7" name="PE01496_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922480" cy="3468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914400" y="39466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Arial"/>
              </a:rPr>
              <a:t>Passou                        Perdeu  ??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1752480"/>
            <a:ext cx="717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Participação em programas de Ensaios de Proficiê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4038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sultados satisfatóri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om laborató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sultados ruin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au laborató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261160" y="3090240"/>
            <a:ext cx="5230440" cy="2963520"/>
          </a:xfrm>
          <a:prstGeom prst="line">
            <a:avLst/>
          </a:prstGeom>
          <a:ln w="190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124080"/>
            <a:ext cx="5181480" cy="3048120"/>
          </a:xfrm>
          <a:prstGeom prst="line">
            <a:avLst/>
          </a:prstGeom>
          <a:ln w="190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3200400"/>
            <a:ext cx="1447920" cy="76212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67080" y="5257800"/>
            <a:ext cx="1371600" cy="7621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60020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Participação em programas de Ensaios de Proficiê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2880" y="54259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s resultados devem ser estudados e lições aprendidas para não repetir o proble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1" name="BS00554_" descr=""/>
          <p:cNvPicPr/>
          <p:nvPr/>
        </p:nvPicPr>
        <p:blipFill>
          <a:blip r:embed="rId1"/>
          <a:stretch/>
        </p:blipFill>
        <p:spPr>
          <a:xfrm>
            <a:off x="3500280" y="2454120"/>
            <a:ext cx="31370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Produtiv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Meio Amb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Saú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2595600"/>
            <a:ext cx="7238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Arial"/>
              </a:rPr>
              <a:t>SENAI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Arial"/>
              </a:rPr>
              <a:t>CETI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Ensaios Químicos e Microbiológ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alibração Volumétrica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Ensaios de Proficiê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érgio Motta- smotta@cetind.fieb.org.b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l (71) 379-83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8840" y="152388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Obrigado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Tahoma"/>
              </a:rPr>
              <a:t>O que faz você confiar no resultado de uma análise 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5" name="BD00028_" descr=""/>
          <p:cNvPicPr/>
          <p:nvPr/>
        </p:nvPicPr>
        <p:blipFill>
          <a:blip r:embed="rId1"/>
          <a:stretch/>
        </p:blipFill>
        <p:spPr>
          <a:xfrm>
            <a:off x="3276720" y="3886200"/>
            <a:ext cx="25905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55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ahoma"/>
              </a:rPr>
              <a:t>COMPORTAM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ahoma"/>
              </a:rPr>
              <a:t>QUALIDA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55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67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3505320"/>
            <a:ext cx="838080" cy="1066680"/>
          </a:xfrm>
          <a:prstGeom prst="downArrow">
            <a:avLst>
              <a:gd name="adj1" fmla="val 50000"/>
              <a:gd name="adj2" fmla="val 3181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Utilização de métodos validado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Calibração de Instrumentos, Equipamentos e vidraria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Implantação de um programa de controle da qualidade analítica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Garantia da rastreabilidade dos resultados de ensaio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Avaliação de incertezas dos ensaio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Realização de uma amostragem adequada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Utilização de acomodações adequada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Qualificação de pessoal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Avaliação extern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503720" y="1886040"/>
            <a:ext cx="57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Garantia da qualidade analí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ahoma"/>
              </a:rPr>
              <a:t>Metrologia Química</a:t>
            </a:r>
            <a:endParaRPr b="1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30481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O que é validação de métod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Quando é necessário validar métod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Que itens devem ser levados em conta na validaçã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515960" y="18860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Validação de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2:51:10Z</dcterms:created>
  <dc:creator>smotta</dc:creator>
  <dc:description/>
  <dc:language>en-US</dc:language>
  <cp:lastModifiedBy>ESCOLA POLITECNICA</cp:lastModifiedBy>
  <dcterms:modified xsi:type="dcterms:W3CDTF">2004-10-20T03:05:16Z</dcterms:modified>
  <cp:revision>284</cp:revision>
  <dc:subject/>
  <dc:title>Programa de Ensaio de Proficiência-PEP</dc:title>
</cp:coreProperties>
</file>