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18600"/>
  <p:custShowLst>
    <p:custShow name="GC1000 &amp; GCMT" id="0">
      <p:sldLst>
        <p:sld r:id="rId5"/>
        <p:sld r:id="rId7"/>
        <p:sld r:id="rId13"/>
        <p:sld r:id="rId17"/>
        <p:sld r:id="rId16"/>
        <p:sld r:id="rId9"/>
        <p:sld r:id="rId10"/>
        <p:sld r:id="rId12"/>
        <p:sld r:id="rId8"/>
        <p:sld r:id="rId18"/>
        <p:sld r:id="rId19"/>
        <p:sld r:id="rId20"/>
        <p:sld r:id="rId21"/>
        <p:sld r:id="rId22"/>
        <p:sld r:id="rId23"/>
        <p:sld r:id="rId11"/>
        <p:sld r:id="rId25"/>
        <p:sld r:id="rId1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298160" y="797040"/>
            <a:ext cx="4259160" cy="319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8720" y="4343400"/>
            <a:ext cx="5031000" cy="412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50760" bIns="50760" anchor="t">
            <a:noAutofit/>
          </a:bodyPr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lick to edit the notes format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0480" y="8726400"/>
            <a:ext cx="10051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50760" bIns="5076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fld id="{8AD9E4A2-8F96-4BEB-BB5A-15FDAD954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918720" y="4343400"/>
            <a:ext cx="5031000" cy="412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50760" bIns="50760" anchor="t">
            <a:noAutofit/>
          </a:bodyPr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ldImg"/>
          </p:nvPr>
        </p:nvSpPr>
        <p:spPr>
          <a:xfrm>
            <a:off x="1298520" y="797040"/>
            <a:ext cx="4259160" cy="31939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04BDE-6532-4A7A-A646-2AC6BA750C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36626-D1AE-48DB-8942-44F5CC2BEE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9C885-1303-44F9-B5F6-0D6A8BCE70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9CFDD-3331-4E72-94F5-B612642165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A4D84-E69B-461C-BB76-4914641FF3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CC67D-3B03-4563-ABFF-35A6EC37FC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961CB-E4B4-428F-B7BF-0235B490A5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6B592-13A9-4ADA-AA46-CC4B469A94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4EEBC-6A83-479C-8166-61173470EF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82253-C534-4961-B4E7-1A51BB9DDD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BBB73-5DEE-4280-92D4-E9C34FE952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2EB56-2CB5-4708-BA1F-96953547FB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0948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324480" y="6643800"/>
            <a:ext cx="99072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Page.</a:t>
            </a:r>
            <a:fld id="{B7626D6F-B4F5-4B18-A45A-F012D64451AC}" type="slidenum">
              <a:rPr b="0" lang="en-US" sz="1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6477120"/>
            <a:ext cx="32004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Copyright © Yokogawa Electric Corpo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rcRect l="0" t="0" r="0" b="9679"/>
          <a:stretch/>
        </p:blipFill>
        <p:spPr>
          <a:xfrm>
            <a:off x="7238880" y="0"/>
            <a:ext cx="1828800" cy="582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flipH="1">
            <a:off x="0" y="0"/>
            <a:ext cx="76320" cy="685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543800" y="6553080"/>
            <a:ext cx="1371600" cy="2286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6253200"/>
            <a:ext cx="91440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988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280" y="6346800"/>
            <a:ext cx="3200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＜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Document Numb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086600" y="6426360"/>
            <a:ext cx="1676520" cy="27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flipH="1">
            <a:off x="0" y="0"/>
            <a:ext cx="76320" cy="685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498132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YOKOGAWA GC1000</a:t>
            </a:r>
            <a:br>
              <a:rPr sz="3600"/>
            </a:br>
            <a:r>
              <a:rPr b="1" i="1" lang="en-US" sz="3600" spc="-1" strike="noStrike">
                <a:solidFill>
                  <a:srgbClr val="fafd00"/>
                </a:solidFill>
                <a:latin typeface="Tahoma"/>
              </a:rPr>
              <a:t>Mark II</a:t>
            </a:r>
            <a:br>
              <a:rPr sz="3600"/>
            </a:br>
            <a:r>
              <a:rPr b="1" i="1" lang="en-US" sz="3600" spc="-1" strike="noStrike">
                <a:solidFill>
                  <a:srgbClr val="fafd00"/>
                </a:solidFill>
                <a:latin typeface="Tahoma"/>
              </a:rPr>
              <a:t>Detector Advanc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35240" y="4495320"/>
            <a:ext cx="6473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okogawa Electric Corpor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ss Analyzer Center Texas (PAC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GC1000MKúK" descr=""/>
          <p:cNvPicPr/>
          <p:nvPr/>
        </p:nvPicPr>
        <p:blipFill>
          <a:blip r:embed="rId1"/>
          <a:stretch/>
        </p:blipFill>
        <p:spPr>
          <a:xfrm>
            <a:off x="5715000" y="914400"/>
            <a:ext cx="2535120" cy="3486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SzPct val="1235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afd00"/>
                </a:solidFill>
                <a:latin typeface="Tahoma"/>
              </a:rPr>
              <a:t>Mark II ..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hermal Conductivity Detecto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876920" y="3429000"/>
            <a:ext cx="3276360" cy="1346040"/>
            <a:chOff x="4876920" y="3429000"/>
            <a:chExt cx="3276360" cy="1346040"/>
          </a:xfrm>
        </p:grpSpPr>
        <p:sp>
          <p:nvSpPr>
            <p:cNvPr id="157" name=""/>
            <p:cNvSpPr/>
            <p:nvPr/>
          </p:nvSpPr>
          <p:spPr>
            <a:xfrm>
              <a:off x="5832360" y="3429000"/>
              <a:ext cx="1365120" cy="1346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6105600" y="3636000"/>
              <a:ext cx="819000" cy="931680"/>
              <a:chOff x="6105600" y="3636000"/>
              <a:chExt cx="819000" cy="931680"/>
            </a:xfrm>
          </p:grpSpPr>
          <p:sp>
            <p:nvSpPr>
              <p:cNvPr id="159" name=""/>
              <p:cNvSpPr/>
              <p:nvPr/>
            </p:nvSpPr>
            <p:spPr>
              <a:xfrm>
                <a:off x="6105600" y="3946320"/>
                <a:ext cx="819000" cy="3106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378480" y="3636000"/>
                <a:ext cx="272880" cy="931680"/>
              </a:xfrm>
              <a:custGeom>
                <a:avLst/>
                <a:gdLst>
                  <a:gd name="textAreaLeft" fmla="*/ 39960 w 272880"/>
                  <a:gd name="textAreaRight" fmla="*/ 232920 w 272880"/>
                  <a:gd name="textAreaTop" fmla="*/ 39960 h 931680"/>
                  <a:gd name="textAreaBottom" fmla="*/ 891720 h 931680"/>
                </a:gdLst>
                <a:ahLst/>
                <a:rect l="textAreaLeft" t="textAreaTop" r="textAreaRight" b="textAreaBottom"/>
                <a:pathLst>
                  <a:path w="21600" h="73679">
                    <a:moveTo>
                      <a:pt x="10800" y="0"/>
                    </a:moveTo>
                    <a:arcTo wR="10800" hR="10800" stAng="16200000" swAng="-5400000"/>
                    <a:lnTo>
                      <a:pt x="0" y="62879"/>
                    </a:lnTo>
                    <a:arcTo wR="10800" hR="10800" stAng="10800000" swAng="-5400000"/>
                    <a:lnTo>
                      <a:pt x="10800" y="7367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255360" y="3846240"/>
                <a:ext cx="542880" cy="514440"/>
              </a:xfrm>
              <a:custGeom>
                <a:avLst/>
                <a:gdLst/>
                <a:ahLst/>
                <a:rect l="l" t="t" r="r" b="b"/>
                <a:pathLst>
                  <a:path w="855" h="810">
                    <a:moveTo>
                      <a:pt x="0" y="300"/>
                    </a:moveTo>
                    <a:lnTo>
                      <a:pt x="458" y="0"/>
                    </a:lnTo>
                    <a:lnTo>
                      <a:pt x="855" y="443"/>
                    </a:lnTo>
                    <a:lnTo>
                      <a:pt x="409" y="810"/>
                    </a:lnTo>
                    <a:lnTo>
                      <a:pt x="15" y="488"/>
                    </a:lnTo>
                    <a:lnTo>
                      <a:pt x="0" y="3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6493320" y="4074840"/>
              <a:ext cx="75960" cy="7596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12" y="9"/>
                  </a:moveTo>
                  <a:lnTo>
                    <a:pt x="0" y="60"/>
                  </a:lnTo>
                  <a:lnTo>
                    <a:pt x="12" y="108"/>
                  </a:lnTo>
                  <a:lnTo>
                    <a:pt x="69" y="120"/>
                  </a:lnTo>
                  <a:lnTo>
                    <a:pt x="108" y="108"/>
                  </a:lnTo>
                  <a:lnTo>
                    <a:pt x="120" y="60"/>
                  </a:lnTo>
                  <a:lnTo>
                    <a:pt x="108" y="9"/>
                  </a:lnTo>
                  <a:lnTo>
                    <a:pt x="63" y="0"/>
                  </a:lnTo>
                  <a:lnTo>
                    <a:pt x="1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34280" y="3636000"/>
              <a:ext cx="81900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Fila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6651720" y="3843000"/>
              <a:ext cx="682560" cy="20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76920" y="3532320"/>
              <a:ext cx="9554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iffus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95920" y="3739680"/>
              <a:ext cx="409680" cy="20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905120" y="3048120"/>
            <a:ext cx="2043000" cy="2009520"/>
            <a:chOff x="1905120" y="3048120"/>
            <a:chExt cx="2043000" cy="2009520"/>
          </a:xfrm>
        </p:grpSpPr>
        <p:sp>
          <p:nvSpPr>
            <p:cNvPr id="168" name=""/>
            <p:cNvSpPr/>
            <p:nvPr/>
          </p:nvSpPr>
          <p:spPr>
            <a:xfrm>
              <a:off x="1905120" y="3571920"/>
              <a:ext cx="2043000" cy="923760"/>
            </a:xfrm>
            <a:custGeom>
              <a:avLst/>
              <a:gdLst/>
              <a:ahLst/>
              <a:rect l="l" t="t" r="r" b="b"/>
              <a:pathLst>
                <a:path w="3217" h="1455">
                  <a:moveTo>
                    <a:pt x="0" y="0"/>
                  </a:moveTo>
                  <a:lnTo>
                    <a:pt x="3217" y="15"/>
                  </a:lnTo>
                  <a:lnTo>
                    <a:pt x="3210" y="1455"/>
                  </a:lnTo>
                  <a:lnTo>
                    <a:pt x="0" y="14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06200" y="3567240"/>
              <a:ext cx="615960" cy="928080"/>
            </a:xfrm>
            <a:custGeom>
              <a:avLst/>
              <a:gdLst/>
              <a:ahLst/>
              <a:rect l="l" t="t" r="r" b="b"/>
              <a:pathLst>
                <a:path w="970" h="1462">
                  <a:moveTo>
                    <a:pt x="965" y="0"/>
                  </a:moveTo>
                  <a:lnTo>
                    <a:pt x="283" y="757"/>
                  </a:lnTo>
                  <a:lnTo>
                    <a:pt x="970" y="1462"/>
                  </a:lnTo>
                  <a:lnTo>
                    <a:pt x="0" y="1462"/>
                  </a:lnTo>
                  <a:lnTo>
                    <a:pt x="0" y="2"/>
                  </a:lnTo>
                  <a:lnTo>
                    <a:pt x="965" y="0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05520" y="3705120"/>
              <a:ext cx="352440" cy="647640"/>
            </a:xfrm>
            <a:custGeom>
              <a:avLst/>
              <a:gdLst/>
              <a:ahLst/>
              <a:rect l="l" t="t" r="r" b="b"/>
              <a:pathLst>
                <a:path w="555" h="1020">
                  <a:moveTo>
                    <a:pt x="75" y="0"/>
                  </a:moveTo>
                  <a:lnTo>
                    <a:pt x="82" y="105"/>
                  </a:lnTo>
                  <a:lnTo>
                    <a:pt x="0" y="105"/>
                  </a:lnTo>
                  <a:lnTo>
                    <a:pt x="0" y="923"/>
                  </a:lnTo>
                  <a:lnTo>
                    <a:pt x="75" y="915"/>
                  </a:lnTo>
                  <a:lnTo>
                    <a:pt x="67" y="1020"/>
                  </a:lnTo>
                  <a:lnTo>
                    <a:pt x="555" y="518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1680" y="3581280"/>
              <a:ext cx="676080" cy="919440"/>
            </a:xfrm>
            <a:custGeom>
              <a:avLst/>
              <a:gdLst/>
              <a:ahLst/>
              <a:rect l="l" t="t" r="r" b="b"/>
              <a:pathLst>
                <a:path w="1065" h="1448">
                  <a:moveTo>
                    <a:pt x="80" y="0"/>
                  </a:moveTo>
                  <a:lnTo>
                    <a:pt x="713" y="713"/>
                  </a:lnTo>
                  <a:lnTo>
                    <a:pt x="0" y="1448"/>
                  </a:lnTo>
                  <a:lnTo>
                    <a:pt x="1065" y="1448"/>
                  </a:lnTo>
                  <a:lnTo>
                    <a:pt x="106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667240" y="4233960"/>
              <a:ext cx="223200" cy="257040"/>
            </a:xfrm>
            <a:custGeom>
              <a:avLst/>
              <a:gdLst/>
              <a:ahLst/>
              <a:rect l="l" t="t" r="r" b="b"/>
              <a:pathLst>
                <a:path w="352" h="405">
                  <a:moveTo>
                    <a:pt x="0" y="405"/>
                  </a:moveTo>
                  <a:lnTo>
                    <a:pt x="7" y="352"/>
                  </a:lnTo>
                  <a:lnTo>
                    <a:pt x="352" y="0"/>
                  </a:lnTo>
                  <a:lnTo>
                    <a:pt x="352" y="395"/>
                  </a:lnTo>
                  <a:lnTo>
                    <a:pt x="0" y="405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938320" y="4233960"/>
              <a:ext cx="237960" cy="250560"/>
            </a:xfrm>
            <a:custGeom>
              <a:avLst/>
              <a:gdLst/>
              <a:ahLst/>
              <a:rect l="l" t="t" r="r" b="b"/>
              <a:pathLst>
                <a:path w="375" h="395">
                  <a:moveTo>
                    <a:pt x="375" y="390"/>
                  </a:moveTo>
                  <a:lnTo>
                    <a:pt x="345" y="337"/>
                  </a:lnTo>
                  <a:lnTo>
                    <a:pt x="0" y="0"/>
                  </a:lnTo>
                  <a:lnTo>
                    <a:pt x="4" y="395"/>
                  </a:lnTo>
                  <a:lnTo>
                    <a:pt x="375" y="390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641680" y="3705120"/>
              <a:ext cx="530640" cy="657000"/>
            </a:xfrm>
            <a:custGeom>
              <a:avLst/>
              <a:gdLst/>
              <a:ahLst/>
              <a:rect l="l" t="t" r="r" b="b"/>
              <a:pathLst>
                <a:path w="836" h="1035">
                  <a:moveTo>
                    <a:pt x="752" y="998"/>
                  </a:moveTo>
                  <a:lnTo>
                    <a:pt x="755" y="918"/>
                  </a:lnTo>
                  <a:lnTo>
                    <a:pt x="832" y="918"/>
                  </a:lnTo>
                  <a:lnTo>
                    <a:pt x="836" y="102"/>
                  </a:lnTo>
                  <a:lnTo>
                    <a:pt x="763" y="102"/>
                  </a:lnTo>
                  <a:lnTo>
                    <a:pt x="752" y="8"/>
                  </a:lnTo>
                  <a:lnTo>
                    <a:pt x="430" y="323"/>
                  </a:lnTo>
                  <a:lnTo>
                    <a:pt x="85" y="0"/>
                  </a:lnTo>
                  <a:lnTo>
                    <a:pt x="85" y="102"/>
                  </a:lnTo>
                  <a:lnTo>
                    <a:pt x="4" y="98"/>
                  </a:lnTo>
                  <a:lnTo>
                    <a:pt x="0" y="932"/>
                  </a:lnTo>
                  <a:lnTo>
                    <a:pt x="77" y="932"/>
                  </a:lnTo>
                  <a:lnTo>
                    <a:pt x="77" y="1035"/>
                  </a:lnTo>
                  <a:lnTo>
                    <a:pt x="437" y="675"/>
                  </a:lnTo>
                  <a:lnTo>
                    <a:pt x="752" y="998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71560" y="3578760"/>
              <a:ext cx="218880" cy="235800"/>
            </a:xfrm>
            <a:custGeom>
              <a:avLst/>
              <a:gdLst/>
              <a:ahLst/>
              <a:rect l="l" t="t" r="r" b="b"/>
              <a:pathLst>
                <a:path w="345" h="372">
                  <a:moveTo>
                    <a:pt x="35" y="0"/>
                  </a:moveTo>
                  <a:lnTo>
                    <a:pt x="0" y="42"/>
                  </a:lnTo>
                  <a:lnTo>
                    <a:pt x="338" y="372"/>
                  </a:lnTo>
                  <a:lnTo>
                    <a:pt x="34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40840" y="3578760"/>
              <a:ext cx="216360" cy="235800"/>
            </a:xfrm>
            <a:custGeom>
              <a:avLst/>
              <a:gdLst/>
              <a:ahLst/>
              <a:rect l="l" t="t" r="r" b="b"/>
              <a:pathLst>
                <a:path w="341" h="372">
                  <a:moveTo>
                    <a:pt x="310" y="0"/>
                  </a:moveTo>
                  <a:lnTo>
                    <a:pt x="341" y="27"/>
                  </a:lnTo>
                  <a:lnTo>
                    <a:pt x="4" y="372"/>
                  </a:lnTo>
                  <a:lnTo>
                    <a:pt x="0" y="0"/>
                  </a:lnTo>
                  <a:lnTo>
                    <a:pt x="310" y="0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2397960" y="3351960"/>
              <a:ext cx="354240" cy="409320"/>
              <a:chOff x="2397960" y="3351960"/>
              <a:chExt cx="354240" cy="409320"/>
            </a:xfrm>
          </p:grpSpPr>
          <p:sp>
            <p:nvSpPr>
              <p:cNvPr id="178" name=""/>
              <p:cNvSpPr/>
              <p:nvPr/>
            </p:nvSpPr>
            <p:spPr>
              <a:xfrm>
                <a:off x="2471760" y="3488400"/>
                <a:ext cx="221760" cy="204480"/>
              </a:xfrm>
              <a:prstGeom prst="ellipse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6200000">
                <a:off x="2530080" y="3356280"/>
                <a:ext cx="90000" cy="354240"/>
              </a:xfrm>
              <a:prstGeom prst="flowChartDelay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545920" y="3351960"/>
                <a:ext cx="73800" cy="4093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2397960" y="4308120"/>
              <a:ext cx="354240" cy="409320"/>
              <a:chOff x="2397960" y="4308120"/>
              <a:chExt cx="354240" cy="409320"/>
            </a:xfrm>
          </p:grpSpPr>
          <p:sp>
            <p:nvSpPr>
              <p:cNvPr id="182" name=""/>
              <p:cNvSpPr/>
              <p:nvPr/>
            </p:nvSpPr>
            <p:spPr>
              <a:xfrm flipV="1">
                <a:off x="2471760" y="4376520"/>
                <a:ext cx="221760" cy="204480"/>
              </a:xfrm>
              <a:prstGeom prst="ellipse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 rot="5400000">
                <a:off x="2530080" y="4358880"/>
                <a:ext cx="90000" cy="354240"/>
              </a:xfrm>
              <a:prstGeom prst="flowChartDelay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2545920" y="4307760"/>
                <a:ext cx="73800" cy="4093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2545920" y="3052800"/>
              <a:ext cx="73440" cy="2004480"/>
            </a:xfrm>
            <a:custGeom>
              <a:avLst/>
              <a:gdLst/>
              <a:ahLst/>
              <a:rect l="l" t="t" r="r" b="b"/>
              <a:pathLst>
                <a:path w="116" h="3157">
                  <a:moveTo>
                    <a:pt x="56" y="0"/>
                  </a:moveTo>
                  <a:lnTo>
                    <a:pt x="56" y="1342"/>
                  </a:lnTo>
                  <a:lnTo>
                    <a:pt x="0" y="1374"/>
                  </a:lnTo>
                  <a:lnTo>
                    <a:pt x="113" y="1432"/>
                  </a:lnTo>
                  <a:lnTo>
                    <a:pt x="1" y="1478"/>
                  </a:lnTo>
                  <a:lnTo>
                    <a:pt x="113" y="1531"/>
                  </a:lnTo>
                  <a:lnTo>
                    <a:pt x="1" y="1568"/>
                  </a:lnTo>
                  <a:lnTo>
                    <a:pt x="116" y="1625"/>
                  </a:lnTo>
                  <a:lnTo>
                    <a:pt x="1" y="1665"/>
                  </a:lnTo>
                  <a:lnTo>
                    <a:pt x="116" y="1718"/>
                  </a:lnTo>
                  <a:lnTo>
                    <a:pt x="56" y="1740"/>
                  </a:lnTo>
                  <a:lnTo>
                    <a:pt x="56" y="315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058200" y="3359160"/>
              <a:ext cx="354240" cy="409320"/>
              <a:chOff x="3058200" y="3359160"/>
              <a:chExt cx="354240" cy="409320"/>
            </a:xfrm>
          </p:grpSpPr>
          <p:sp>
            <p:nvSpPr>
              <p:cNvPr id="187" name=""/>
              <p:cNvSpPr/>
              <p:nvPr/>
            </p:nvSpPr>
            <p:spPr>
              <a:xfrm flipH="1">
                <a:off x="3116880" y="3495600"/>
                <a:ext cx="221760" cy="204480"/>
              </a:xfrm>
              <a:prstGeom prst="ellipse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rot="5400000">
                <a:off x="3190320" y="3363480"/>
                <a:ext cx="90000" cy="354240"/>
              </a:xfrm>
              <a:prstGeom prst="flowChartDelay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3190320" y="3359160"/>
                <a:ext cx="73800" cy="4093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3058200" y="4314960"/>
              <a:ext cx="354240" cy="409320"/>
              <a:chOff x="3058200" y="4314960"/>
              <a:chExt cx="354240" cy="409320"/>
            </a:xfrm>
          </p:grpSpPr>
          <p:sp>
            <p:nvSpPr>
              <p:cNvPr id="191" name=""/>
              <p:cNvSpPr/>
              <p:nvPr/>
            </p:nvSpPr>
            <p:spPr>
              <a:xfrm flipH="1" flipV="1">
                <a:off x="3116880" y="4383360"/>
                <a:ext cx="221760" cy="204480"/>
              </a:xfrm>
              <a:prstGeom prst="ellipse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flipV="1" rot="16200000">
                <a:off x="3190320" y="4365720"/>
                <a:ext cx="90000" cy="354240"/>
              </a:xfrm>
              <a:prstGeom prst="flowChartDelay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 flipV="1">
                <a:off x="3190320" y="4314600"/>
                <a:ext cx="73800" cy="4093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3191040" y="3048120"/>
              <a:ext cx="73440" cy="2009520"/>
            </a:xfrm>
            <a:custGeom>
              <a:avLst/>
              <a:gdLst/>
              <a:ahLst/>
              <a:rect l="l" t="t" r="r" b="b"/>
              <a:pathLst>
                <a:path w="116" h="3165">
                  <a:moveTo>
                    <a:pt x="45" y="0"/>
                  </a:moveTo>
                  <a:lnTo>
                    <a:pt x="52" y="1358"/>
                  </a:lnTo>
                  <a:lnTo>
                    <a:pt x="116" y="1393"/>
                  </a:lnTo>
                  <a:lnTo>
                    <a:pt x="3" y="1451"/>
                  </a:lnTo>
                  <a:lnTo>
                    <a:pt x="115" y="1497"/>
                  </a:lnTo>
                  <a:lnTo>
                    <a:pt x="3" y="1550"/>
                  </a:lnTo>
                  <a:lnTo>
                    <a:pt x="115" y="1587"/>
                  </a:lnTo>
                  <a:lnTo>
                    <a:pt x="0" y="1644"/>
                  </a:lnTo>
                  <a:lnTo>
                    <a:pt x="115" y="1684"/>
                  </a:lnTo>
                  <a:lnTo>
                    <a:pt x="0" y="1737"/>
                  </a:lnTo>
                  <a:lnTo>
                    <a:pt x="60" y="1785"/>
                  </a:lnTo>
                  <a:lnTo>
                    <a:pt x="52" y="316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157120" y="3691080"/>
              <a:ext cx="360000" cy="666360"/>
            </a:xfrm>
            <a:custGeom>
              <a:avLst/>
              <a:gdLst/>
              <a:ahLst/>
              <a:rect l="l" t="t" r="r" b="b"/>
              <a:pathLst>
                <a:path w="567" h="1050">
                  <a:moveTo>
                    <a:pt x="495" y="0"/>
                  </a:moveTo>
                  <a:lnTo>
                    <a:pt x="495" y="112"/>
                  </a:lnTo>
                  <a:lnTo>
                    <a:pt x="567" y="120"/>
                  </a:lnTo>
                  <a:lnTo>
                    <a:pt x="567" y="945"/>
                  </a:lnTo>
                  <a:lnTo>
                    <a:pt x="483" y="945"/>
                  </a:lnTo>
                  <a:lnTo>
                    <a:pt x="477" y="1050"/>
                  </a:lnTo>
                  <a:lnTo>
                    <a:pt x="0" y="555"/>
                  </a:lnTo>
                  <a:lnTo>
                    <a:pt x="495" y="0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04920" y="129528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ORGET ROUND HO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SzPct val="1235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ow did it turn out?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85800" y="1374840"/>
          <a:ext cx="7772400" cy="349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374840"/>
                    <a:ext cx="7772400" cy="34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SzPct val="1235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afd00"/>
                </a:solidFill>
                <a:latin typeface="Tahoma"/>
              </a:rPr>
              <a:t>Mark II ..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CD Chromatogram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1" name="NEWTCD0" descr=""/>
          <p:cNvPicPr/>
          <p:nvPr/>
        </p:nvPicPr>
        <p:blipFill>
          <a:blip r:embed="rId2"/>
          <a:stretch/>
        </p:blipFill>
        <p:spPr>
          <a:xfrm>
            <a:off x="1523880" y="1905120"/>
            <a:ext cx="6019920" cy="42764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724280" y="4343400"/>
            <a:ext cx="1371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p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etyl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38280" y="571500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mum detectability 0.01 pp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0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SzPct val="1235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afd00"/>
                </a:solidFill>
                <a:latin typeface="Tahoma"/>
              </a:rPr>
              <a:t>Mark II ..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igh Sensitivity TCD approach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641680" y="2049480"/>
            <a:ext cx="0" cy="373392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41680" y="5783400"/>
            <a:ext cx="457200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4792680"/>
            <a:ext cx="3047760" cy="990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84680" y="3649680"/>
            <a:ext cx="0" cy="1523880"/>
          </a:xfrm>
          <a:prstGeom prst="line">
            <a:avLst/>
          </a:prstGeom>
          <a:ln cap="sq" w="19080">
            <a:solidFill>
              <a:srgbClr val="0000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27680" y="2887560"/>
            <a:ext cx="0" cy="2667240"/>
          </a:xfrm>
          <a:prstGeom prst="line">
            <a:avLst/>
          </a:prstGeom>
          <a:ln cap="sq" w="19080">
            <a:solidFill>
              <a:srgbClr val="0000ff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27680" y="288756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27680" y="55548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3784680" y="2887200"/>
            <a:ext cx="1143000" cy="7621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84680" y="5173560"/>
            <a:ext cx="1143000" cy="38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41680" y="4792680"/>
            <a:ext cx="3047760" cy="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41680" y="364968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70680" y="288756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70680" y="555480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403440" y="3649320"/>
            <a:ext cx="0" cy="114300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451560" y="2887200"/>
            <a:ext cx="0" cy="2667240"/>
          </a:xfrm>
          <a:prstGeom prst="line">
            <a:avLst/>
          </a:prstGeom>
          <a:ln cap="sq"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41680" y="518328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60440" y="3649680"/>
            <a:ext cx="38124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60440" y="4792680"/>
            <a:ext cx="38124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60440" y="5173560"/>
            <a:ext cx="38124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25360" y="3496320"/>
            <a:ext cx="103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CD 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22480" y="4639320"/>
            <a:ext cx="116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mp. 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20400" y="5028120"/>
            <a:ext cx="9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CD 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70680" y="2887560"/>
            <a:ext cx="0" cy="2667240"/>
          </a:xfrm>
          <a:prstGeom prst="line">
            <a:avLst/>
          </a:prstGeom>
          <a:ln cap="sq" w="19080">
            <a:solidFill>
              <a:srgbClr val="0000ff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28640" y="2801520"/>
            <a:ext cx="727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93080" y="2045880"/>
            <a:ext cx="877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612760" y="204588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ptimiz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65360" y="4029480"/>
            <a:ext cx="89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/N R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08000" y="410580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/n R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89440" y="5630760"/>
            <a:ext cx="1524240" cy="15264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89440" y="479268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89440" y="563076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h2clm" descr=""/>
          <p:cNvPicPr/>
          <p:nvPr/>
        </p:nvPicPr>
        <p:blipFill>
          <a:blip r:embed="rId1"/>
          <a:stretch/>
        </p:blipFill>
        <p:spPr>
          <a:xfrm>
            <a:off x="4495680" y="685800"/>
            <a:ext cx="4029120" cy="5791320"/>
          </a:xfrm>
          <a:prstGeom prst="rect">
            <a:avLst/>
          </a:prstGeom>
          <a:ln w="0">
            <a:noFill/>
          </a:ln>
        </p:spPr>
      </p:pic>
      <p:pic>
        <p:nvPicPr>
          <p:cNvPr id="237" name="h2rng" descr=""/>
          <p:cNvPicPr/>
          <p:nvPr/>
        </p:nvPicPr>
        <p:blipFill>
          <a:blip r:embed="rId2"/>
          <a:stretch/>
        </p:blipFill>
        <p:spPr>
          <a:xfrm>
            <a:off x="536400" y="762120"/>
            <a:ext cx="4017960" cy="5715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28600" y="1522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SzPct val="1235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afd00"/>
                </a:solidFill>
                <a:latin typeface="Tahoma"/>
                <a:ea typeface="ＭＳ Ｐゴシック"/>
              </a:rPr>
              <a:t>Mark II ...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enefits of high sensitivity TC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h2chm2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229600" cy="5715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4267080" y="15238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- 10 ppmv H2 in Arg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1522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SzPct val="1235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afd00"/>
                </a:solidFill>
                <a:latin typeface="Tahoma"/>
                <a:ea typeface="ＭＳ Ｐゴシック"/>
              </a:rPr>
              <a:t>Mark II ...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enefits of high sensitivity TC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h2oclm" descr=""/>
          <p:cNvPicPr/>
          <p:nvPr/>
        </p:nvPicPr>
        <p:blipFill>
          <a:blip r:embed="rId1"/>
          <a:stretch/>
        </p:blipFill>
        <p:spPr>
          <a:xfrm>
            <a:off x="4419720" y="685800"/>
            <a:ext cx="4392360" cy="5791320"/>
          </a:xfrm>
          <a:prstGeom prst="rect">
            <a:avLst/>
          </a:prstGeom>
          <a:ln w="0">
            <a:noFill/>
          </a:ln>
        </p:spPr>
      </p:pic>
      <p:pic>
        <p:nvPicPr>
          <p:cNvPr id="243" name="h2orng" descr=""/>
          <p:cNvPicPr/>
          <p:nvPr/>
        </p:nvPicPr>
        <p:blipFill>
          <a:blip r:embed="rId2"/>
          <a:stretch/>
        </p:blipFill>
        <p:spPr>
          <a:xfrm>
            <a:off x="473040" y="685800"/>
            <a:ext cx="4251240" cy="57913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28600" y="1522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SzPct val="1235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afd00"/>
                </a:solidFill>
                <a:latin typeface="Tahoma"/>
                <a:ea typeface="ＭＳ Ｐゴシック"/>
              </a:rPr>
              <a:t>Mark II ...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enefits of high sensitivity TC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h2ochm" descr=""/>
          <p:cNvPicPr/>
          <p:nvPr/>
        </p:nvPicPr>
        <p:blipFill>
          <a:blip r:embed="rId1"/>
          <a:stretch/>
        </p:blipFill>
        <p:spPr>
          <a:xfrm>
            <a:off x="838080" y="628560"/>
            <a:ext cx="7696440" cy="57722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581280" y="19051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- 30 ppmv H2O in E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1522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SzPct val="1235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afd00"/>
                </a:solidFill>
                <a:latin typeface="Tahoma"/>
                <a:ea typeface="ＭＳ Ｐゴシック"/>
              </a:rPr>
              <a:t>Mark II ...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enefits of high sensitivity TC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h2sclm" descr=""/>
          <p:cNvPicPr/>
          <p:nvPr/>
        </p:nvPicPr>
        <p:blipFill>
          <a:blip r:embed="rId1"/>
          <a:stretch/>
        </p:blipFill>
        <p:spPr>
          <a:xfrm>
            <a:off x="4419720" y="685800"/>
            <a:ext cx="4402080" cy="5791320"/>
          </a:xfrm>
          <a:prstGeom prst="rect">
            <a:avLst/>
          </a:prstGeom>
          <a:ln w="0">
            <a:noFill/>
          </a:ln>
        </p:spPr>
      </p:pic>
      <p:pic>
        <p:nvPicPr>
          <p:cNvPr id="249" name="h2srng" descr=""/>
          <p:cNvPicPr/>
          <p:nvPr/>
        </p:nvPicPr>
        <p:blipFill>
          <a:blip r:embed="rId2"/>
          <a:stretch/>
        </p:blipFill>
        <p:spPr>
          <a:xfrm>
            <a:off x="152280" y="685800"/>
            <a:ext cx="4319640" cy="57913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28600" y="1522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SzPct val="1235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afd00"/>
                </a:solidFill>
                <a:latin typeface="Tahoma"/>
                <a:ea typeface="ＭＳ Ｐゴシック"/>
              </a:rPr>
              <a:t>Mark II ...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enefits of high sensitivity TC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h2schm" descr=""/>
          <p:cNvPicPr/>
          <p:nvPr/>
        </p:nvPicPr>
        <p:blipFill>
          <a:blip r:embed="rId1"/>
          <a:stretch/>
        </p:blipFill>
        <p:spPr>
          <a:xfrm>
            <a:off x="838080" y="628560"/>
            <a:ext cx="7772400" cy="58294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4800600" y="175248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- 50 ppmv H2S on T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1522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SzPct val="1235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afd00"/>
                </a:solidFill>
                <a:latin typeface="Tahoma"/>
                <a:ea typeface="ＭＳ Ｐゴシック"/>
              </a:rPr>
              <a:t>Mark II ...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enefits of high sensitivity TC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SzPct val="1235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afd00"/>
                </a:solidFill>
                <a:latin typeface="Tahoma"/>
              </a:rPr>
              <a:t>Mark II…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he Enhanced GC1000 TCD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7397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 team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, it is important to have detector unaffected by external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selection, able to use various g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dead volu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carrier flows – econom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variance immunity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 team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a 10 Times improvement on TCD performance compared to market with MDLs in the ppm r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SzPct val="1235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afd00"/>
                </a:solidFill>
                <a:latin typeface="Tahoma"/>
              </a:rPr>
              <a:t>Mark II ..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enefits of high sensitivity TCD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39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s 80 % of FID/FPD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utility gas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oids flame lighting difficul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fies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s costs of spare p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GC dow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s GC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1143000" y="5410080"/>
            <a:ext cx="1371600" cy="304920"/>
          </a:xfrm>
          <a:prstGeom prst="rightArrow">
            <a:avLst>
              <a:gd name="adj1" fmla="val 50000"/>
              <a:gd name="adj2" fmla="val 112456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95480" y="53341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Lower Cost of Own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SzPct val="1235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hat is this Cost of Ownershi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l C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C with a TCD = $26,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C with a FID = $30,000 (+$4K to 5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C with a FPD = $34,000 (+$8K to 10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ion Carrier g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C with a TCD = $4,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C with a FID = $8,000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C with a FPD = $10,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ue to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nuance fac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SzPct val="1235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THERMAL CONDUCTIVITY DETECTOR (TCD)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GC%20TCD" descr=""/>
          <p:cNvPicPr/>
          <p:nvPr/>
        </p:nvPicPr>
        <p:blipFill>
          <a:blip r:embed="rId2"/>
          <a:stretch/>
        </p:blipFill>
        <p:spPr>
          <a:xfrm>
            <a:off x="1905120" y="1905120"/>
            <a:ext cx="5562360" cy="4171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SzPct val="1235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he TCD Detecto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tcd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7727760" cy="500832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SzPct val="1235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any companies were trying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1050840" y="743040"/>
            <a:ext cx="71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ut what did they try……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1219320"/>
            <a:ext cx="1523880" cy="1523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2590920"/>
            <a:ext cx="1218960" cy="1143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3581280"/>
            <a:ext cx="1066680" cy="9907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43600" y="4800600"/>
            <a:ext cx="685800" cy="6094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32720" y="1504800"/>
            <a:ext cx="192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maller and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20160" y="2819520"/>
            <a:ext cx="192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maller and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97160" y="4191120"/>
            <a:ext cx="213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maller holes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54100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hey got lower dead volume but also lower respon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1752480"/>
            <a:ext cx="381240" cy="3812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2971800"/>
            <a:ext cx="38088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3886200"/>
            <a:ext cx="38124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4876920"/>
            <a:ext cx="38124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SzPct val="1235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hy was the response falling off??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understand TCDs you have to consider all thermal factors, such 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ty of heat transferred by the gas – Q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ty of radiation heat – Q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ty of heat conducted via the wire itself at ends – Q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ty of heat conveyed by both natural and forced convection – Q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pecific gases were run through detectors to determine characteristic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SzPct val="1235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hermal factors and relationships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295280" y="744480"/>
          <a:ext cx="6629400" cy="559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744480"/>
                    <a:ext cx="6629400" cy="55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SzPct val="1235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hat was found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ts of fun equations li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=2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√xL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(1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)√{T(1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½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)/(1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-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-tan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)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ome side effects were fou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Lower dead volum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Lowering Respo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nd also lowering sensi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bottom line was to leave history behind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6172200" y="3124080"/>
            <a:ext cx="685800" cy="6098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4480" y="3200400"/>
            <a:ext cx="38124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SzPct val="1235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afd00"/>
                </a:solidFill>
                <a:latin typeface="Tahoma"/>
              </a:rPr>
              <a:t>Mark II ..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hermal Conductivity Detecto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905120" y="3048120"/>
            <a:ext cx="2043000" cy="2009520"/>
            <a:chOff x="1905120" y="3048120"/>
            <a:chExt cx="2043000" cy="2009520"/>
          </a:xfrm>
        </p:grpSpPr>
        <p:sp>
          <p:nvSpPr>
            <p:cNvPr id="126" name=""/>
            <p:cNvSpPr/>
            <p:nvPr/>
          </p:nvSpPr>
          <p:spPr>
            <a:xfrm>
              <a:off x="1905120" y="3571920"/>
              <a:ext cx="2043000" cy="923760"/>
            </a:xfrm>
            <a:custGeom>
              <a:avLst/>
              <a:gdLst/>
              <a:ahLst/>
              <a:rect l="l" t="t" r="r" b="b"/>
              <a:pathLst>
                <a:path w="3217" h="1455">
                  <a:moveTo>
                    <a:pt x="0" y="0"/>
                  </a:moveTo>
                  <a:lnTo>
                    <a:pt x="3217" y="15"/>
                  </a:lnTo>
                  <a:lnTo>
                    <a:pt x="3210" y="1455"/>
                  </a:lnTo>
                  <a:lnTo>
                    <a:pt x="0" y="14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906200" y="3567240"/>
              <a:ext cx="615960" cy="928080"/>
            </a:xfrm>
            <a:custGeom>
              <a:avLst/>
              <a:gdLst/>
              <a:ahLst/>
              <a:rect l="l" t="t" r="r" b="b"/>
              <a:pathLst>
                <a:path w="970" h="1462">
                  <a:moveTo>
                    <a:pt x="965" y="0"/>
                  </a:moveTo>
                  <a:lnTo>
                    <a:pt x="283" y="757"/>
                  </a:lnTo>
                  <a:lnTo>
                    <a:pt x="970" y="1462"/>
                  </a:lnTo>
                  <a:lnTo>
                    <a:pt x="0" y="1462"/>
                  </a:lnTo>
                  <a:lnTo>
                    <a:pt x="0" y="2"/>
                  </a:lnTo>
                  <a:lnTo>
                    <a:pt x="965" y="0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05520" y="3705120"/>
              <a:ext cx="352440" cy="647640"/>
            </a:xfrm>
            <a:custGeom>
              <a:avLst/>
              <a:gdLst/>
              <a:ahLst/>
              <a:rect l="l" t="t" r="r" b="b"/>
              <a:pathLst>
                <a:path w="555" h="1020">
                  <a:moveTo>
                    <a:pt x="75" y="0"/>
                  </a:moveTo>
                  <a:lnTo>
                    <a:pt x="82" y="105"/>
                  </a:lnTo>
                  <a:lnTo>
                    <a:pt x="0" y="105"/>
                  </a:lnTo>
                  <a:lnTo>
                    <a:pt x="0" y="923"/>
                  </a:lnTo>
                  <a:lnTo>
                    <a:pt x="75" y="915"/>
                  </a:lnTo>
                  <a:lnTo>
                    <a:pt x="67" y="1020"/>
                  </a:lnTo>
                  <a:lnTo>
                    <a:pt x="555" y="518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71680" y="3581280"/>
              <a:ext cx="676080" cy="919440"/>
            </a:xfrm>
            <a:custGeom>
              <a:avLst/>
              <a:gdLst/>
              <a:ahLst/>
              <a:rect l="l" t="t" r="r" b="b"/>
              <a:pathLst>
                <a:path w="1065" h="1448">
                  <a:moveTo>
                    <a:pt x="80" y="0"/>
                  </a:moveTo>
                  <a:lnTo>
                    <a:pt x="713" y="713"/>
                  </a:lnTo>
                  <a:lnTo>
                    <a:pt x="0" y="1448"/>
                  </a:lnTo>
                  <a:lnTo>
                    <a:pt x="1065" y="1448"/>
                  </a:lnTo>
                  <a:lnTo>
                    <a:pt x="106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667240" y="4233960"/>
              <a:ext cx="223200" cy="257040"/>
            </a:xfrm>
            <a:custGeom>
              <a:avLst/>
              <a:gdLst/>
              <a:ahLst/>
              <a:rect l="l" t="t" r="r" b="b"/>
              <a:pathLst>
                <a:path w="352" h="405">
                  <a:moveTo>
                    <a:pt x="0" y="405"/>
                  </a:moveTo>
                  <a:lnTo>
                    <a:pt x="7" y="352"/>
                  </a:lnTo>
                  <a:lnTo>
                    <a:pt x="352" y="0"/>
                  </a:lnTo>
                  <a:lnTo>
                    <a:pt x="352" y="395"/>
                  </a:lnTo>
                  <a:lnTo>
                    <a:pt x="0" y="405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38320" y="4233960"/>
              <a:ext cx="237960" cy="250560"/>
            </a:xfrm>
            <a:custGeom>
              <a:avLst/>
              <a:gdLst/>
              <a:ahLst/>
              <a:rect l="l" t="t" r="r" b="b"/>
              <a:pathLst>
                <a:path w="375" h="395">
                  <a:moveTo>
                    <a:pt x="375" y="390"/>
                  </a:moveTo>
                  <a:lnTo>
                    <a:pt x="345" y="337"/>
                  </a:lnTo>
                  <a:lnTo>
                    <a:pt x="0" y="0"/>
                  </a:lnTo>
                  <a:lnTo>
                    <a:pt x="4" y="395"/>
                  </a:lnTo>
                  <a:lnTo>
                    <a:pt x="375" y="390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41680" y="3705120"/>
              <a:ext cx="530640" cy="657000"/>
            </a:xfrm>
            <a:custGeom>
              <a:avLst/>
              <a:gdLst/>
              <a:ahLst/>
              <a:rect l="l" t="t" r="r" b="b"/>
              <a:pathLst>
                <a:path w="836" h="1035">
                  <a:moveTo>
                    <a:pt x="752" y="998"/>
                  </a:moveTo>
                  <a:lnTo>
                    <a:pt x="755" y="918"/>
                  </a:lnTo>
                  <a:lnTo>
                    <a:pt x="832" y="918"/>
                  </a:lnTo>
                  <a:lnTo>
                    <a:pt x="836" y="102"/>
                  </a:lnTo>
                  <a:lnTo>
                    <a:pt x="763" y="102"/>
                  </a:lnTo>
                  <a:lnTo>
                    <a:pt x="752" y="8"/>
                  </a:lnTo>
                  <a:lnTo>
                    <a:pt x="430" y="323"/>
                  </a:lnTo>
                  <a:lnTo>
                    <a:pt x="85" y="0"/>
                  </a:lnTo>
                  <a:lnTo>
                    <a:pt x="85" y="102"/>
                  </a:lnTo>
                  <a:lnTo>
                    <a:pt x="4" y="98"/>
                  </a:lnTo>
                  <a:lnTo>
                    <a:pt x="0" y="932"/>
                  </a:lnTo>
                  <a:lnTo>
                    <a:pt x="77" y="932"/>
                  </a:lnTo>
                  <a:lnTo>
                    <a:pt x="77" y="1035"/>
                  </a:lnTo>
                  <a:lnTo>
                    <a:pt x="437" y="675"/>
                  </a:lnTo>
                  <a:lnTo>
                    <a:pt x="752" y="998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71560" y="3578760"/>
              <a:ext cx="218880" cy="235800"/>
            </a:xfrm>
            <a:custGeom>
              <a:avLst/>
              <a:gdLst/>
              <a:ahLst/>
              <a:rect l="l" t="t" r="r" b="b"/>
              <a:pathLst>
                <a:path w="345" h="372">
                  <a:moveTo>
                    <a:pt x="35" y="0"/>
                  </a:moveTo>
                  <a:lnTo>
                    <a:pt x="0" y="42"/>
                  </a:lnTo>
                  <a:lnTo>
                    <a:pt x="338" y="372"/>
                  </a:lnTo>
                  <a:lnTo>
                    <a:pt x="34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40840" y="3578760"/>
              <a:ext cx="216360" cy="235800"/>
            </a:xfrm>
            <a:custGeom>
              <a:avLst/>
              <a:gdLst/>
              <a:ahLst/>
              <a:rect l="l" t="t" r="r" b="b"/>
              <a:pathLst>
                <a:path w="341" h="372">
                  <a:moveTo>
                    <a:pt x="310" y="0"/>
                  </a:moveTo>
                  <a:lnTo>
                    <a:pt x="341" y="27"/>
                  </a:lnTo>
                  <a:lnTo>
                    <a:pt x="4" y="372"/>
                  </a:lnTo>
                  <a:lnTo>
                    <a:pt x="0" y="0"/>
                  </a:lnTo>
                  <a:lnTo>
                    <a:pt x="310" y="0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397960" y="3351960"/>
              <a:ext cx="354240" cy="409320"/>
              <a:chOff x="2397960" y="3351960"/>
              <a:chExt cx="354240" cy="409320"/>
            </a:xfrm>
          </p:grpSpPr>
          <p:sp>
            <p:nvSpPr>
              <p:cNvPr id="136" name=""/>
              <p:cNvSpPr/>
              <p:nvPr/>
            </p:nvSpPr>
            <p:spPr>
              <a:xfrm>
                <a:off x="2471760" y="3488400"/>
                <a:ext cx="221760" cy="204480"/>
              </a:xfrm>
              <a:prstGeom prst="ellipse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16200000">
                <a:off x="2530080" y="3356280"/>
                <a:ext cx="90000" cy="354240"/>
              </a:xfrm>
              <a:prstGeom prst="flowChartDelay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545920" y="3351960"/>
                <a:ext cx="73800" cy="4093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2397960" y="4308120"/>
              <a:ext cx="354240" cy="409320"/>
              <a:chOff x="2397960" y="4308120"/>
              <a:chExt cx="354240" cy="409320"/>
            </a:xfrm>
          </p:grpSpPr>
          <p:sp>
            <p:nvSpPr>
              <p:cNvPr id="140" name=""/>
              <p:cNvSpPr/>
              <p:nvPr/>
            </p:nvSpPr>
            <p:spPr>
              <a:xfrm flipV="1">
                <a:off x="2471760" y="4376520"/>
                <a:ext cx="221760" cy="204480"/>
              </a:xfrm>
              <a:prstGeom prst="ellipse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 rot="5400000">
                <a:off x="2530080" y="4358880"/>
                <a:ext cx="90000" cy="354240"/>
              </a:xfrm>
              <a:prstGeom prst="flowChartDelay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2545920" y="4307760"/>
                <a:ext cx="73800" cy="4093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2545920" y="3052800"/>
              <a:ext cx="73440" cy="2004480"/>
            </a:xfrm>
            <a:custGeom>
              <a:avLst/>
              <a:gdLst/>
              <a:ahLst/>
              <a:rect l="l" t="t" r="r" b="b"/>
              <a:pathLst>
                <a:path w="116" h="3157">
                  <a:moveTo>
                    <a:pt x="56" y="0"/>
                  </a:moveTo>
                  <a:lnTo>
                    <a:pt x="56" y="1342"/>
                  </a:lnTo>
                  <a:lnTo>
                    <a:pt x="0" y="1374"/>
                  </a:lnTo>
                  <a:lnTo>
                    <a:pt x="113" y="1432"/>
                  </a:lnTo>
                  <a:lnTo>
                    <a:pt x="1" y="1478"/>
                  </a:lnTo>
                  <a:lnTo>
                    <a:pt x="113" y="1531"/>
                  </a:lnTo>
                  <a:lnTo>
                    <a:pt x="1" y="1568"/>
                  </a:lnTo>
                  <a:lnTo>
                    <a:pt x="116" y="1625"/>
                  </a:lnTo>
                  <a:lnTo>
                    <a:pt x="1" y="1665"/>
                  </a:lnTo>
                  <a:lnTo>
                    <a:pt x="116" y="1718"/>
                  </a:lnTo>
                  <a:lnTo>
                    <a:pt x="56" y="1740"/>
                  </a:lnTo>
                  <a:lnTo>
                    <a:pt x="56" y="315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3058200" y="3359160"/>
              <a:ext cx="354240" cy="409320"/>
              <a:chOff x="3058200" y="3359160"/>
              <a:chExt cx="354240" cy="409320"/>
            </a:xfrm>
          </p:grpSpPr>
          <p:sp>
            <p:nvSpPr>
              <p:cNvPr id="145" name=""/>
              <p:cNvSpPr/>
              <p:nvPr/>
            </p:nvSpPr>
            <p:spPr>
              <a:xfrm flipH="1">
                <a:off x="3116880" y="3495600"/>
                <a:ext cx="221760" cy="204480"/>
              </a:xfrm>
              <a:prstGeom prst="ellipse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rot="5400000">
                <a:off x="3190320" y="3363480"/>
                <a:ext cx="90000" cy="354240"/>
              </a:xfrm>
              <a:prstGeom prst="flowChartDelay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3190320" y="3359160"/>
                <a:ext cx="73800" cy="4093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3058200" y="4314960"/>
              <a:ext cx="354240" cy="409320"/>
              <a:chOff x="3058200" y="4314960"/>
              <a:chExt cx="354240" cy="409320"/>
            </a:xfrm>
          </p:grpSpPr>
          <p:sp>
            <p:nvSpPr>
              <p:cNvPr id="149" name=""/>
              <p:cNvSpPr/>
              <p:nvPr/>
            </p:nvSpPr>
            <p:spPr>
              <a:xfrm flipH="1" flipV="1">
                <a:off x="3116880" y="4383360"/>
                <a:ext cx="221760" cy="204480"/>
              </a:xfrm>
              <a:prstGeom prst="ellipse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 flipV="1" rot="16200000">
                <a:off x="3190320" y="4365720"/>
                <a:ext cx="90000" cy="354240"/>
              </a:xfrm>
              <a:prstGeom prst="flowChartDelay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 flipV="1">
                <a:off x="3190320" y="4314600"/>
                <a:ext cx="73800" cy="4093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3191040" y="3048120"/>
              <a:ext cx="73440" cy="2009520"/>
            </a:xfrm>
            <a:custGeom>
              <a:avLst/>
              <a:gdLst/>
              <a:ahLst/>
              <a:rect l="l" t="t" r="r" b="b"/>
              <a:pathLst>
                <a:path w="116" h="3165">
                  <a:moveTo>
                    <a:pt x="45" y="0"/>
                  </a:moveTo>
                  <a:lnTo>
                    <a:pt x="52" y="1358"/>
                  </a:lnTo>
                  <a:lnTo>
                    <a:pt x="116" y="1393"/>
                  </a:lnTo>
                  <a:lnTo>
                    <a:pt x="3" y="1451"/>
                  </a:lnTo>
                  <a:lnTo>
                    <a:pt x="115" y="1497"/>
                  </a:lnTo>
                  <a:lnTo>
                    <a:pt x="3" y="1550"/>
                  </a:lnTo>
                  <a:lnTo>
                    <a:pt x="115" y="1587"/>
                  </a:lnTo>
                  <a:lnTo>
                    <a:pt x="0" y="1644"/>
                  </a:lnTo>
                  <a:lnTo>
                    <a:pt x="115" y="1684"/>
                  </a:lnTo>
                  <a:lnTo>
                    <a:pt x="0" y="1737"/>
                  </a:lnTo>
                  <a:lnTo>
                    <a:pt x="60" y="1785"/>
                  </a:lnTo>
                  <a:lnTo>
                    <a:pt x="52" y="316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57120" y="3691080"/>
              <a:ext cx="360000" cy="666360"/>
            </a:xfrm>
            <a:custGeom>
              <a:avLst/>
              <a:gdLst/>
              <a:ahLst/>
              <a:rect l="l" t="t" r="r" b="b"/>
              <a:pathLst>
                <a:path w="567" h="1050">
                  <a:moveTo>
                    <a:pt x="495" y="0"/>
                  </a:moveTo>
                  <a:lnTo>
                    <a:pt x="495" y="112"/>
                  </a:lnTo>
                  <a:lnTo>
                    <a:pt x="567" y="120"/>
                  </a:lnTo>
                  <a:lnTo>
                    <a:pt x="567" y="945"/>
                  </a:lnTo>
                  <a:lnTo>
                    <a:pt x="483" y="945"/>
                  </a:lnTo>
                  <a:lnTo>
                    <a:pt x="477" y="1050"/>
                  </a:lnTo>
                  <a:lnTo>
                    <a:pt x="0" y="555"/>
                  </a:lnTo>
                  <a:lnTo>
                    <a:pt x="495" y="0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04920" y="129528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ORGET ROUND HO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rryl D. Hazlett</cp:lastModifiedBy>
  <cp:lastPrinted>2001-04-20T04:59:59Z</cp:lastPrinted>
  <dcterms:modified xsi:type="dcterms:W3CDTF">2004-10-21T23:39:47Z</dcterms:modified>
  <cp:revision>80</cp:revision>
  <dc:subject/>
  <dc:title>GC1000 Analyzer Bus System</dc:title>
</cp:coreProperties>
</file>