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58.png" ContentType="image/png"/>
  <Override PartName="/ppt/media/image46.jpeg" ContentType="image/jpeg"/>
  <Override PartName="/ppt/media/image53.wmf" ContentType="image/x-wmf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5.jpeg" ContentType="image/jpeg"/>
  <Override PartName="/ppt/media/image44.jpeg" ContentType="image/jpeg"/>
  <Override PartName="/ppt/media/image43.png" ContentType="image/png"/>
  <Override PartName="/ppt/media/image37.jpeg" ContentType="image/jpeg"/>
  <Override PartName="/ppt/media/image35.jpeg" ContentType="image/jpeg"/>
  <Override PartName="/ppt/media/image34.jpeg" ContentType="image/jpeg"/>
  <Override PartName="/ppt/media/image32.jpeg" ContentType="image/jpeg"/>
  <Override PartName="/ppt/media/image30.jpeg" ContentType="image/jpeg"/>
  <Override PartName="/ppt/media/image54.wmf" ContentType="image/x-wmf"/>
  <Override PartName="/ppt/media/image10.jpeg" ContentType="image/jpeg"/>
  <Override PartName="/ppt/media/image86.jpeg" ContentType="image/jpeg"/>
  <Override PartName="/ppt/media/image39.jpeg" ContentType="image/jpeg"/>
  <Override PartName="/ppt/media/image5.png" ContentType="image/png"/>
  <Override PartName="/ppt/media/image82.png" ContentType="image/png"/>
  <Override PartName="/ppt/media/image98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56.jpeg" ContentType="image/jpeg"/>
  <Override PartName="/ppt/media/image3.png" ContentType="image/png"/>
  <Override PartName="/ppt/media/image92.jpeg" ContentType="image/jpeg"/>
  <Override PartName="/ppt/media/image17.jpeg" ContentType="image/jpeg"/>
  <Override PartName="/ppt/media/image57.png" ContentType="image/png"/>
  <Override PartName="/ppt/media/image33.jpeg" ContentType="image/jpeg"/>
  <Override PartName="/ppt/media/image15.jpeg" ContentType="image/jpeg"/>
  <Override PartName="/ppt/media/image78.jpeg" ContentType="image/jpeg"/>
  <Override PartName="/ppt/media/image61.jpeg" ContentType="image/jpeg"/>
  <Override PartName="/ppt/media/image77.png" ContentType="image/png"/>
  <Override PartName="/ppt/media/image63.png" ContentType="image/png"/>
  <Override PartName="/ppt/media/image68.jpeg" ContentType="image/jpeg"/>
  <Override PartName="/ppt/media/image1.png" ContentType="image/png"/>
  <Override PartName="/ppt/media/image69.jpeg" ContentType="image/jpeg"/>
  <Override PartName="/ppt/media/image27.png" ContentType="image/png"/>
  <Override PartName="/ppt/media/image9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93.jpeg" ContentType="image/jpeg"/>
  <Override PartName="/ppt/media/image75.jpeg" ContentType="image/jpeg"/>
  <Override PartName="/ppt/media/image90.jpeg" ContentType="image/jpeg"/>
  <Override PartName="/ppt/media/image74.jpeg" ContentType="image/jpeg"/>
  <Override PartName="/ppt/media/image67.png" ContentType="image/png"/>
  <Override PartName="/ppt/media/image64.png" ContentType="image/png"/>
  <Override PartName="/ppt/media/image60.jpeg" ContentType="image/jpeg"/>
  <Override PartName="/ppt/media/image95.jpeg" ContentType="image/jpeg"/>
  <Override PartName="/ppt/media/image91.jpeg" ContentType="image/jpeg"/>
  <Override PartName="/ppt/media/image89.jpeg" ContentType="image/jpeg"/>
  <Override PartName="/ppt/media/image14.jpeg" ContentType="image/jpeg"/>
  <Override PartName="/ppt/media/image83.png" ContentType="image/png"/>
  <Override PartName="/ppt/media/image84.png" ContentType="image/png"/>
  <Override PartName="/ppt/media/image79.jpeg" ContentType="image/jpeg"/>
  <Override PartName="/ppt/media/image62.png" ContentType="image/png"/>
  <Override PartName="/ppt/media/image96.jpeg" ContentType="image/jpeg"/>
  <Override PartName="/ppt/media/image76.jpeg" ContentType="image/jpeg"/>
  <Override PartName="/ppt/media/image73.jpeg" ContentType="image/jpeg"/>
  <Override PartName="/ppt/media/image85.jpeg" ContentType="image/jpeg"/>
  <Override PartName="/ppt/media/image26.jpeg" ContentType="image/jpeg"/>
  <Override PartName="/ppt/media/image42.png" ContentType="image/png"/>
  <Override PartName="/ppt/media/image94.jpeg" ContentType="image/jpeg"/>
  <Override PartName="/ppt/media/image20.jpeg" ContentType="image/jpeg"/>
  <Override PartName="/ppt/media/image59.png" ContentType="image/png"/>
  <Override PartName="/ppt/media/image22.jpeg" ContentType="image/jpeg"/>
  <Override PartName="/ppt/media/image101.jpeg" ContentType="image/jpeg"/>
  <Override PartName="/ppt/media/image81.jpeg" ContentType="image/jpeg"/>
  <Override PartName="/ppt/media/image21.jpeg" ContentType="image/jpeg"/>
  <Override PartName="/ppt/media/image100.jpeg" ContentType="image/jpeg"/>
  <Override PartName="/ppt/media/image65.png" ContentType="image/png"/>
  <Override PartName="/ppt/media/image80.jpeg" ContentType="image/jpeg"/>
  <Override PartName="/ppt/media/image19.jpeg" ContentType="image/jpeg"/>
  <Override PartName="/ppt/media/image18.jpeg" ContentType="image/jpeg"/>
  <Override PartName="/ppt/media/image55.wmf" ContentType="image/x-wmf"/>
  <Override PartName="/ppt/media/image16.jpeg" ContentType="image/jpeg"/>
  <Override PartName="/ppt/media/image41.jpeg" ContentType="image/jpeg"/>
  <Override PartName="/ppt/media/image66.png" ContentType="image/png"/>
  <Override PartName="/ppt/media/image102.jpeg" ContentType="image/jpeg"/>
  <Override PartName="/ppt/media/image23.jpeg" ContentType="image/jpeg"/>
  <Override PartName="/ppt/media/image24.jpeg" ContentType="image/jpeg"/>
  <Override PartName="/ppt/media/image52.wmf" ContentType="image/x-wmf"/>
  <Override PartName="/ppt/media/image103.jpeg" ContentType="image/jpeg"/>
  <Override PartName="/ppt/media/image31.png" ContentType="image/pn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3F3-E1AE-45D3-B1F7-04E9EA46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95B-859B-4FE2-8843-BD50C3E3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507-6FC2-4810-BDAD-828C94A6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558-8CF0-426D-992A-C24E210C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4AD-0A33-4DC2-B9E7-C9D30F0B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BE6-DA5D-4A11-909F-F848016C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BEF-62B7-4D82-B6BA-EA426DCF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B58-5CD5-4EC4-B4DD-B4BE6EAE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13D-B99D-4BD7-9C50-CEFD5079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CAE-EFA1-47E1-B0FB-ADF40719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A17-3E9D-41B8-A9B5-F6421CDE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D849-1A68-4BB2-8815-9882EA82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5227-49ED-4F52-AF43-F22E87818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243000"/>
            <a:ext cx="5448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F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ITUTO DE QUÍ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PARTAMENTO DE QUÍMICA ORGÂ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82520" y="457200"/>
          <a:ext cx="6145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457200"/>
                    <a:ext cx="614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353360" y="457200"/>
            <a:ext cx="798480" cy="696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19280" y="5300640"/>
            <a:ext cx="6019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laborado p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. Wilson Lopes, Prof. Miguel Fas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3933720"/>
            <a:ext cx="813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Arial"/>
              </a:rPr>
              <a:t>CROMATOGRAFIA GASOSA (C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908000" y="1700280"/>
            <a:ext cx="5581800" cy="22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1D8-BB08-424F-B2B5-22A1EFE2B6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ÍPI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306864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422100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35280" y="3429000"/>
            <a:ext cx="546120" cy="406440"/>
            <a:chOff x="1835280" y="3429000"/>
            <a:chExt cx="546120" cy="406440"/>
          </a:xfrm>
        </p:grpSpPr>
        <p:sp>
          <p:nvSpPr>
            <p:cNvPr id="235" name=""/>
            <p:cNvSpPr/>
            <p:nvPr/>
          </p:nvSpPr>
          <p:spPr>
            <a:xfrm>
              <a:off x="1914840" y="3429000"/>
              <a:ext cx="233280" cy="17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48120" y="3486240"/>
              <a:ext cx="233280" cy="172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8920" y="3659040"/>
              <a:ext cx="233280" cy="1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35280" y="3602160"/>
              <a:ext cx="233640" cy="17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627280" y="3429000"/>
            <a:ext cx="466560" cy="406440"/>
            <a:chOff x="2627280" y="3429000"/>
            <a:chExt cx="466560" cy="406440"/>
          </a:xfrm>
        </p:grpSpPr>
        <p:sp>
          <p:nvSpPr>
            <p:cNvPr id="240" name=""/>
            <p:cNvSpPr/>
            <p:nvPr/>
          </p:nvSpPr>
          <p:spPr>
            <a:xfrm>
              <a:off x="2703600" y="3429000"/>
              <a:ext cx="233280" cy="17316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27280" y="3544920"/>
              <a:ext cx="233280" cy="1728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03600" y="3659040"/>
              <a:ext cx="233280" cy="1764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60560" y="3602160"/>
              <a:ext cx="233280" cy="1746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203640" y="3429000"/>
            <a:ext cx="466200" cy="463680"/>
            <a:chOff x="3203640" y="3429000"/>
            <a:chExt cx="466200" cy="463680"/>
          </a:xfrm>
        </p:grpSpPr>
        <p:sp>
          <p:nvSpPr>
            <p:cNvPr id="245" name=""/>
            <p:cNvSpPr/>
            <p:nvPr/>
          </p:nvSpPr>
          <p:spPr>
            <a:xfrm>
              <a:off x="3281040" y="3717720"/>
              <a:ext cx="233280" cy="174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81040" y="3429000"/>
              <a:ext cx="311040" cy="173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03640" y="3544920"/>
              <a:ext cx="233280" cy="172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6920" y="3602160"/>
              <a:ext cx="232920" cy="174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822492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00280" y="990720"/>
            <a:ext cx="7734240" cy="4818240"/>
            <a:chOff x="800280" y="990720"/>
            <a:chExt cx="7734240" cy="4818240"/>
          </a:xfrm>
        </p:grpSpPr>
        <p:sp>
          <p:nvSpPr>
            <p:cNvPr id="251" name=""/>
            <p:cNvSpPr/>
            <p:nvPr/>
          </p:nvSpPr>
          <p:spPr>
            <a:xfrm>
              <a:off x="2057400" y="1371600"/>
              <a:ext cx="4656240" cy="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58000" y="114300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0280" y="5410080"/>
              <a:ext cx="75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MAIOR     </a:t>
              </a: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INTERAÇÃO COM A FASE ESTACIONÁRIA</a:t>
              </a: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     MEN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05400" y="990720"/>
              <a:ext cx="308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Tahoma"/>
                </a:rPr>
                <a:t>FLUXO DA FASE MÓ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685800" y="1598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1430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J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436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BAB-4F26-4280-9612-7EEFE40C24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QUANTI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990720" y="1143000"/>
            <a:ext cx="7086600" cy="46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NTES DE E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MOSTR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ADSOR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COMPOS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DEFICIÊNCIA DO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ÁL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B3E-7E84-4B4F-944D-AAA7F96465E8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611280" y="260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AT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4360" y="90792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116000" y="1557360"/>
            <a:ext cx="741672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FERIR ESTABILIDADE TÉR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UMENTAR A VOLAT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MELHORAR A RE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EVITAR A ADSOR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DIMINUIR A REA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AUMENTAR A DETECT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D81-C32F-4532-9870-C5099384F70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611280" y="260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AT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042920" y="1916280"/>
            <a:ext cx="770580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DIAZOMET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C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   +  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RC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   +   N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TRIFLUORETO DE B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C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   +   MeOH/BF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RC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   +   H2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4360" y="105264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STERIF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4A9-C87F-4355-A85F-EBC7B7253A0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611280" y="260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AT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971640" y="1844640"/>
            <a:ext cx="770580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HMDS + TM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-O-H   +   (Me)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NHSi(Me)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  (Me)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Cl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HF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-O-Si(Me)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+   N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Éter silí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4360" y="90792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ILI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4C3-4627-4FFD-8742-23F08A8A964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260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AT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042920" y="1628640"/>
            <a:ext cx="7705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ÁLCOOIS, FENÓIS, AÇUC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-O-H  +  (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CO)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-O-COC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É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4360" y="90792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CETI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971640" y="3860640"/>
            <a:ext cx="77058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AMINAS, 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NH  + (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CO)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N-COC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Am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CD2-0831-4B61-9375-4C67EC64256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611280" y="260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AT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84360" y="907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PL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116000" y="1557360"/>
            <a:ext cx="741672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TEÇÃO DE GRUP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HIDROXILA, AMINA, CARBOX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ASSES DE COMP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ÁCIDOS GRA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ESTERÓ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CARBOID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ÁCIDOS NUCLÊ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347-9790-4FC1-B520-43220AF3F8B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539640" y="1773360"/>
            <a:ext cx="814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581800" cy="22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E15-2006-4027-9CEC-5DCC54855AD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0" y="5683320"/>
            <a:ext cx="8381520" cy="304560"/>
            <a:chOff x="0" y="5683320"/>
            <a:chExt cx="8381520" cy="304560"/>
          </a:xfrm>
        </p:grpSpPr>
        <p:sp>
          <p:nvSpPr>
            <p:cNvPr id="924" name=""/>
            <p:cNvSpPr/>
            <p:nvPr/>
          </p:nvSpPr>
          <p:spPr>
            <a:xfrm>
              <a:off x="0" y="5683320"/>
              <a:ext cx="5838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81680" y="5683320"/>
              <a:ext cx="249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848360" cy="440244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755640" y="5589720"/>
            <a:ext cx="7696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Coluna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HP-5 (30 m x 0.25 mm x 0.25 µm)</a:t>
            </a:r>
            <a:br>
              <a:rPr sz="1600"/>
            </a:b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T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COL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5 min a 50°C / 20°C min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/ 2 min A 320°C</a:t>
            </a:r>
            <a:br>
              <a:rPr sz="1600"/>
            </a:b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Gás de Arraste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He 2 mL. min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-1         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Detector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F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11280" y="765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Separação de H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11280" y="3333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E233-2D03-4FB9-9082-B6579D77426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"/>
          <p:cNvGrpSpPr/>
          <p:nvPr/>
        </p:nvGrpSpPr>
        <p:grpSpPr>
          <a:xfrm>
            <a:off x="0" y="5683320"/>
            <a:ext cx="8381520" cy="304560"/>
            <a:chOff x="0" y="5683320"/>
            <a:chExt cx="8381520" cy="304560"/>
          </a:xfrm>
        </p:grpSpPr>
        <p:sp>
          <p:nvSpPr>
            <p:cNvPr id="931" name=""/>
            <p:cNvSpPr/>
            <p:nvPr/>
          </p:nvSpPr>
          <p:spPr>
            <a:xfrm>
              <a:off x="0" y="5683320"/>
              <a:ext cx="5838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881680" y="5683320"/>
              <a:ext cx="249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09480" y="9144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63de8"/>
                </a:solidFill>
                <a:latin typeface="Arial"/>
              </a:rPr>
              <a:t>COLUNA EMPACOTADA (Ésteres metíl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971640" y="1371600"/>
            <a:ext cx="7056360" cy="398952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723960" y="5410080"/>
            <a:ext cx="76960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Coluna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SP-2100 (3 m x 2 mm ID x 0.25 µm)</a:t>
            </a:r>
            <a:br>
              <a:rPr sz="1600"/>
            </a:b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T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COL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150 a 230 °C com 4 °C/min</a:t>
            </a:r>
            <a:br>
              <a:rPr sz="1600"/>
            </a:b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Gás de Arraste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20 mL. min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-1         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Detector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F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2B9-E0E8-434D-8D74-0196E662D6A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"/>
          <p:cNvGrpSpPr/>
          <p:nvPr/>
        </p:nvGrpSpPr>
        <p:grpSpPr>
          <a:xfrm>
            <a:off x="0" y="5683320"/>
            <a:ext cx="8381520" cy="304560"/>
            <a:chOff x="0" y="5683320"/>
            <a:chExt cx="8381520" cy="304560"/>
          </a:xfrm>
        </p:grpSpPr>
        <p:sp>
          <p:nvSpPr>
            <p:cNvPr id="938" name=""/>
            <p:cNvSpPr/>
            <p:nvPr/>
          </p:nvSpPr>
          <p:spPr>
            <a:xfrm>
              <a:off x="0" y="5683320"/>
              <a:ext cx="5838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81680" y="5683320"/>
              <a:ext cx="249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609480" y="9144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63de8"/>
                </a:solidFill>
                <a:latin typeface="Arial"/>
              </a:rPr>
              <a:t>COLUNA CAPILAR (Ésteres metíl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23960" y="5410080"/>
            <a:ext cx="7696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Coluna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SBP-5 Silica fundida (30 m x 0,53 mm ID x filme de 1.5 µm)</a:t>
            </a:r>
            <a:br>
              <a:rPr sz="1600"/>
            </a:b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T</a:t>
            </a:r>
            <a:r>
              <a:rPr b="1" lang="pt-BR" sz="1600" spc="-1" strike="noStrike" baseline="-25000">
                <a:solidFill>
                  <a:srgbClr val="008000"/>
                </a:solidFill>
                <a:latin typeface="Arial"/>
              </a:rPr>
              <a:t>COL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35 a 290 °C com 8 °C/min</a:t>
            </a:r>
            <a:br>
              <a:rPr sz="1600"/>
            </a:b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Gás de Arraste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He 5 mL. min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-1         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Detector: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F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1042920" y="1417680"/>
            <a:ext cx="7201080" cy="402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D8D-A26E-4841-8B82-31C630CBB13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ÍPI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00000" y="306864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422100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08000" y="3429000"/>
            <a:ext cx="546120" cy="406440"/>
            <a:chOff x="1908000" y="3429000"/>
            <a:chExt cx="546120" cy="406440"/>
          </a:xfrm>
        </p:grpSpPr>
        <p:sp>
          <p:nvSpPr>
            <p:cNvPr id="262" name=""/>
            <p:cNvSpPr/>
            <p:nvPr/>
          </p:nvSpPr>
          <p:spPr>
            <a:xfrm>
              <a:off x="1987560" y="3429000"/>
              <a:ext cx="233280" cy="17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20840" y="3486240"/>
              <a:ext cx="233280" cy="172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41640" y="3659040"/>
              <a:ext cx="233280" cy="1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08000" y="3602160"/>
              <a:ext cx="233640" cy="17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348000" y="3429000"/>
            <a:ext cx="466560" cy="406440"/>
            <a:chOff x="3348000" y="3429000"/>
            <a:chExt cx="466560" cy="406440"/>
          </a:xfrm>
        </p:grpSpPr>
        <p:sp>
          <p:nvSpPr>
            <p:cNvPr id="267" name=""/>
            <p:cNvSpPr/>
            <p:nvPr/>
          </p:nvSpPr>
          <p:spPr>
            <a:xfrm>
              <a:off x="3424320" y="3429000"/>
              <a:ext cx="233280" cy="17316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48000" y="3544920"/>
              <a:ext cx="233280" cy="1728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24320" y="3659040"/>
              <a:ext cx="233280" cy="1764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81280" y="3602160"/>
              <a:ext cx="233280" cy="1746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211640" y="3429000"/>
            <a:ext cx="466200" cy="463680"/>
            <a:chOff x="4211640" y="3429000"/>
            <a:chExt cx="466200" cy="463680"/>
          </a:xfrm>
        </p:grpSpPr>
        <p:sp>
          <p:nvSpPr>
            <p:cNvPr id="272" name=""/>
            <p:cNvSpPr/>
            <p:nvPr/>
          </p:nvSpPr>
          <p:spPr>
            <a:xfrm>
              <a:off x="4289040" y="3717720"/>
              <a:ext cx="233280" cy="174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89040" y="3429000"/>
              <a:ext cx="311040" cy="173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11640" y="3544920"/>
              <a:ext cx="233280" cy="172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44920" y="3602160"/>
              <a:ext cx="232920" cy="174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822492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00280" y="990720"/>
            <a:ext cx="7734240" cy="4818240"/>
            <a:chOff x="800280" y="990720"/>
            <a:chExt cx="7734240" cy="4818240"/>
          </a:xfrm>
        </p:grpSpPr>
        <p:sp>
          <p:nvSpPr>
            <p:cNvPr id="278" name=""/>
            <p:cNvSpPr/>
            <p:nvPr/>
          </p:nvSpPr>
          <p:spPr>
            <a:xfrm>
              <a:off x="2057400" y="1371600"/>
              <a:ext cx="4656240" cy="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8000" y="114300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0280" y="5410080"/>
              <a:ext cx="75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MAIOR     </a:t>
              </a: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INTERAÇÃO COM A FASE ESTACIONÁRIA</a:t>
              </a: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     MEN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05400" y="990720"/>
              <a:ext cx="308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Tahoma"/>
                </a:rPr>
                <a:t>FLUXO DA FASE MÓ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85800" y="1598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1430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J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A63-1936-40C3-BC0F-F9342B1BD2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"/>
          <p:cNvGrpSpPr/>
          <p:nvPr/>
        </p:nvGrpSpPr>
        <p:grpSpPr>
          <a:xfrm>
            <a:off x="0" y="5683320"/>
            <a:ext cx="8381520" cy="304560"/>
            <a:chOff x="0" y="5683320"/>
            <a:chExt cx="8381520" cy="304560"/>
          </a:xfrm>
        </p:grpSpPr>
        <p:sp>
          <p:nvSpPr>
            <p:cNvPr id="945" name=""/>
            <p:cNvSpPr/>
            <p:nvPr/>
          </p:nvSpPr>
          <p:spPr>
            <a:xfrm>
              <a:off x="0" y="5683320"/>
              <a:ext cx="5838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881680" y="5683320"/>
              <a:ext cx="249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611280" y="765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NÁLISE AMBIENTAL (Águ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1"/>
          <a:stretch/>
        </p:blipFill>
        <p:spPr>
          <a:xfrm>
            <a:off x="539640" y="1523880"/>
            <a:ext cx="8209080" cy="437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4CB-339F-4E57-BD40-977186B7649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"/>
          <p:cNvGrpSpPr/>
          <p:nvPr/>
        </p:nvGrpSpPr>
        <p:grpSpPr>
          <a:xfrm>
            <a:off x="0" y="5683320"/>
            <a:ext cx="8381520" cy="304560"/>
            <a:chOff x="0" y="5683320"/>
            <a:chExt cx="8381520" cy="304560"/>
          </a:xfrm>
        </p:grpSpPr>
        <p:sp>
          <p:nvSpPr>
            <p:cNvPr id="951" name=""/>
            <p:cNvSpPr/>
            <p:nvPr/>
          </p:nvSpPr>
          <p:spPr>
            <a:xfrm>
              <a:off x="0" y="5683320"/>
              <a:ext cx="5838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881680" y="5683320"/>
              <a:ext cx="249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611280" y="765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MPONENTES DE FRAGÂ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11280" y="260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395280" y="1728720"/>
            <a:ext cx="8353440" cy="386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DB9-422F-4786-8AF1-79746F7D8D3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539640" y="1773360"/>
            <a:ext cx="814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ÊNCIAS BIBLIOGRÁ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581800" cy="22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264-F304-4672-8C3A-A622F5E49BB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"/>
          <p:cNvGrpSpPr/>
          <p:nvPr/>
        </p:nvGrpSpPr>
        <p:grpSpPr>
          <a:xfrm>
            <a:off x="0" y="5683320"/>
            <a:ext cx="8381520" cy="304560"/>
            <a:chOff x="0" y="5683320"/>
            <a:chExt cx="8381520" cy="304560"/>
          </a:xfrm>
        </p:grpSpPr>
        <p:sp>
          <p:nvSpPr>
            <p:cNvPr id="959" name=""/>
            <p:cNvSpPr/>
            <p:nvPr/>
          </p:nvSpPr>
          <p:spPr>
            <a:xfrm>
              <a:off x="0" y="5683320"/>
              <a:ext cx="5838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881680" y="5683320"/>
              <a:ext cx="249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611280" y="3333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ÊNCIAS BIBLIOGRÁ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39640" y="896760"/>
            <a:ext cx="82090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ollins,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C. H.; Braga, G.L.; Bonato, P.S.; </a:t>
            </a:r>
            <a:r>
              <a:rPr b="1" i="1" lang="pt-BR" sz="1800" spc="-1" strike="noStrike">
                <a:solidFill>
                  <a:srgbClr val="ff0000"/>
                </a:solidFill>
                <a:latin typeface="Arial"/>
              </a:rPr>
              <a:t>Introdução a Métodos Cromatográficos</a:t>
            </a:r>
            <a:r>
              <a:rPr b="0" i="1" lang="pt-BR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7a. ed., Editora da Unicamp, Campinas, 199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quino Neto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, F.R. de, Souza Nunes, D.S., </a:t>
            </a:r>
            <a:r>
              <a:rPr b="1" i="1" lang="pt-BR" sz="1800" spc="-1" strike="noStrike">
                <a:solidFill>
                  <a:srgbClr val="ff0000"/>
                </a:solidFill>
                <a:latin typeface="Arial"/>
              </a:rPr>
              <a:t>Cromatografia: Princípios Básicos e Técnicas Afins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, Editora Interciência, Rio de Janeiro, 200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iola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, R;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Fundamentos da Cromatografia a Gás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, Edgard Blücher, São Paulo, 198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anças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, F.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Cromatografia Gasosa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, Editora Acta, São Carlos, 199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cNair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, H.M.; Bonelli, E.J.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Basic Gas Chromatography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, Varian, Berkeley, 196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E0F-22B7-4B5F-A301-E14148281BE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611280" y="41497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MUITO OBRIGAD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3924360" y="1628640"/>
          <a:ext cx="1415880" cy="21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628640"/>
                    <a:ext cx="141588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C85-A2A3-4ED7-A97A-8ED03D81B68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611280" y="41497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MUITO OBRIGA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3924360" y="1628640"/>
          <a:ext cx="1415880" cy="21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628640"/>
                    <a:ext cx="141588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564-F1A7-4E1B-BC8A-5A94DA257B59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609480" y="228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ÇÃO DA FASE ESTACION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990720"/>
            <a:ext cx="773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OLARIDADE RELA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1" name=""/>
          <p:cNvGraphicFramePr/>
          <p:nvPr/>
        </p:nvGraphicFramePr>
        <p:xfrm>
          <a:off x="800280" y="2895480"/>
          <a:ext cx="7543800" cy="2657520"/>
        </p:xfrm>
        <a:graphic>
          <a:graphicData uri="http://schemas.openxmlformats.org/drawingml/2006/table">
            <a:tbl>
              <a:tblPr/>
              <a:tblGrid>
                <a:gridCol w="220968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 </a:t>
                      </a:r>
                      <a:r>
                        <a:rPr b="1" lang="pt-BR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SQUAL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WAX 2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-2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3289320" y="1523880"/>
            <a:ext cx="256536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507-06EA-4D76-A7C5-64AFAFB20BD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609480" y="3808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E QUANTIT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335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ATOR DE RESPOSTA (D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3571920" cy="4343400"/>
          </a:xfrm>
          <a:prstGeom prst="rect">
            <a:avLst/>
          </a:prstGeom>
          <a:ln w="0">
            <a:noFill/>
          </a:ln>
        </p:spPr>
      </p:pic>
      <p:sp>
        <p:nvSpPr>
          <p:cNvPr id="976" name=""/>
          <p:cNvSpPr/>
          <p:nvPr/>
        </p:nvSpPr>
        <p:spPr>
          <a:xfrm>
            <a:off x="4572000" y="12952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4952880" y="1905120"/>
          <a:ext cx="3657600" cy="3809880"/>
        </p:xfrm>
        <a:graphic>
          <a:graphicData uri="http://schemas.openxmlformats.org/drawingml/2006/table">
            <a:tbl>
              <a:tblPr/>
              <a:tblGrid>
                <a:gridCol w="621360"/>
                <a:gridCol w="1816560"/>
                <a:gridCol w="1219680"/>
              </a:tblGrid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154-23BC-4AD5-84C1-581DB58E38A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609480" y="228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ÊNCIA DA CO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47640" y="6094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ÍNDICE DE RETENÇÃO DE KOVATS (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397400" cy="8478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1258920" y="2344680"/>
            <a:ext cx="6337440" cy="382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76D-8B78-47E6-8974-2767320E97F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ÍPI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306864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422100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95640" y="3429000"/>
            <a:ext cx="546120" cy="406440"/>
            <a:chOff x="2195640" y="3429000"/>
            <a:chExt cx="546120" cy="406440"/>
          </a:xfrm>
        </p:grpSpPr>
        <p:sp>
          <p:nvSpPr>
            <p:cNvPr id="289" name=""/>
            <p:cNvSpPr/>
            <p:nvPr/>
          </p:nvSpPr>
          <p:spPr>
            <a:xfrm>
              <a:off x="2275200" y="3429000"/>
              <a:ext cx="233280" cy="17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08480" y="3486240"/>
              <a:ext cx="233280" cy="172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29280" y="3659040"/>
              <a:ext cx="233280" cy="1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95640" y="3602160"/>
              <a:ext cx="233640" cy="17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780000" y="3429000"/>
            <a:ext cx="466560" cy="406440"/>
            <a:chOff x="3780000" y="3429000"/>
            <a:chExt cx="466560" cy="406440"/>
          </a:xfrm>
        </p:grpSpPr>
        <p:sp>
          <p:nvSpPr>
            <p:cNvPr id="294" name=""/>
            <p:cNvSpPr/>
            <p:nvPr/>
          </p:nvSpPr>
          <p:spPr>
            <a:xfrm>
              <a:off x="3856320" y="3429000"/>
              <a:ext cx="233280" cy="17316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80000" y="3544920"/>
              <a:ext cx="233280" cy="1728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56320" y="3659040"/>
              <a:ext cx="233280" cy="1764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13280" y="3602160"/>
              <a:ext cx="233280" cy="1746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859280" y="3429000"/>
            <a:ext cx="466920" cy="463680"/>
            <a:chOff x="4859280" y="3429000"/>
            <a:chExt cx="466920" cy="463680"/>
          </a:xfrm>
        </p:grpSpPr>
        <p:sp>
          <p:nvSpPr>
            <p:cNvPr id="299" name=""/>
            <p:cNvSpPr/>
            <p:nvPr/>
          </p:nvSpPr>
          <p:spPr>
            <a:xfrm>
              <a:off x="4937040" y="3717720"/>
              <a:ext cx="233640" cy="174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37040" y="3429000"/>
              <a:ext cx="311400" cy="173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9280" y="3544920"/>
              <a:ext cx="233640" cy="172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92920" y="3602160"/>
              <a:ext cx="233280" cy="174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822492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00280" y="990720"/>
            <a:ext cx="7734240" cy="4818240"/>
            <a:chOff x="800280" y="990720"/>
            <a:chExt cx="7734240" cy="4818240"/>
          </a:xfrm>
        </p:grpSpPr>
        <p:sp>
          <p:nvSpPr>
            <p:cNvPr id="305" name=""/>
            <p:cNvSpPr/>
            <p:nvPr/>
          </p:nvSpPr>
          <p:spPr>
            <a:xfrm>
              <a:off x="2057400" y="1371600"/>
              <a:ext cx="4656240" cy="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58000" y="114300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0280" y="5410080"/>
              <a:ext cx="75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MAIOR     </a:t>
              </a: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INTERAÇÃO COM A FASE ESTACIONÁRIA</a:t>
              </a: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     MEN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05400" y="990720"/>
              <a:ext cx="308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Tahoma"/>
                </a:rPr>
                <a:t>FLUXO DA FASE MÓ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85800" y="1598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1430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J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436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209-8E2A-40B4-8A9A-4F6AB6EEFF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ÍPI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306864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6920" y="422100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484360" y="3429000"/>
            <a:ext cx="546120" cy="406440"/>
            <a:chOff x="2484360" y="3429000"/>
            <a:chExt cx="546120" cy="406440"/>
          </a:xfrm>
        </p:grpSpPr>
        <p:sp>
          <p:nvSpPr>
            <p:cNvPr id="316" name=""/>
            <p:cNvSpPr/>
            <p:nvPr/>
          </p:nvSpPr>
          <p:spPr>
            <a:xfrm>
              <a:off x="2563920" y="3429000"/>
              <a:ext cx="233280" cy="17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97200" y="3486240"/>
              <a:ext cx="233280" cy="172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18000" y="3659040"/>
              <a:ext cx="233280" cy="1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84360" y="3602160"/>
              <a:ext cx="233640" cy="17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356000" y="3429000"/>
            <a:ext cx="466560" cy="406440"/>
            <a:chOff x="4356000" y="3429000"/>
            <a:chExt cx="466560" cy="406440"/>
          </a:xfrm>
        </p:grpSpPr>
        <p:sp>
          <p:nvSpPr>
            <p:cNvPr id="321" name=""/>
            <p:cNvSpPr/>
            <p:nvPr/>
          </p:nvSpPr>
          <p:spPr>
            <a:xfrm>
              <a:off x="4432320" y="3429000"/>
              <a:ext cx="233280" cy="17316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56000" y="3544920"/>
              <a:ext cx="233280" cy="1728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32320" y="3659040"/>
              <a:ext cx="233280" cy="1764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89280" y="3602160"/>
              <a:ext cx="233280" cy="1746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651640" y="3429000"/>
            <a:ext cx="466200" cy="463680"/>
            <a:chOff x="5651640" y="3429000"/>
            <a:chExt cx="466200" cy="463680"/>
          </a:xfrm>
        </p:grpSpPr>
        <p:sp>
          <p:nvSpPr>
            <p:cNvPr id="326" name=""/>
            <p:cNvSpPr/>
            <p:nvPr/>
          </p:nvSpPr>
          <p:spPr>
            <a:xfrm>
              <a:off x="5729040" y="3717720"/>
              <a:ext cx="233280" cy="174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29040" y="3429000"/>
              <a:ext cx="311040" cy="173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51640" y="3544920"/>
              <a:ext cx="233280" cy="172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84920" y="3602160"/>
              <a:ext cx="232920" cy="174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822492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800280" y="990720"/>
            <a:ext cx="7734240" cy="4818240"/>
            <a:chOff x="800280" y="990720"/>
            <a:chExt cx="7734240" cy="4818240"/>
          </a:xfrm>
        </p:grpSpPr>
        <p:sp>
          <p:nvSpPr>
            <p:cNvPr id="332" name=""/>
            <p:cNvSpPr/>
            <p:nvPr/>
          </p:nvSpPr>
          <p:spPr>
            <a:xfrm>
              <a:off x="2057400" y="1371600"/>
              <a:ext cx="4656240" cy="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0" y="114300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0280" y="5410080"/>
              <a:ext cx="75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MAIOR     </a:t>
              </a: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INTERAÇÃO COM A FASE ESTACIONÁRIA</a:t>
              </a: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     MEN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05400" y="990720"/>
              <a:ext cx="308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Tahoma"/>
                </a:rPr>
                <a:t>FLUXO DA FASE MÓ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85800" y="1598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1430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J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436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48C-83CB-40A7-A5C1-C745EB8AA5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ÍPI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00000" y="306864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422100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627280" y="3429000"/>
            <a:ext cx="546120" cy="406440"/>
            <a:chOff x="2627280" y="3429000"/>
            <a:chExt cx="546120" cy="406440"/>
          </a:xfrm>
        </p:grpSpPr>
        <p:sp>
          <p:nvSpPr>
            <p:cNvPr id="343" name=""/>
            <p:cNvSpPr/>
            <p:nvPr/>
          </p:nvSpPr>
          <p:spPr>
            <a:xfrm>
              <a:off x="2706840" y="3429000"/>
              <a:ext cx="233280" cy="17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40120" y="3486240"/>
              <a:ext cx="233280" cy="172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60920" y="3659040"/>
              <a:ext cx="233280" cy="1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27280" y="3602160"/>
              <a:ext cx="233640" cy="17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076720" y="3500280"/>
            <a:ext cx="466560" cy="406440"/>
            <a:chOff x="5076720" y="3500280"/>
            <a:chExt cx="466560" cy="406440"/>
          </a:xfrm>
        </p:grpSpPr>
        <p:sp>
          <p:nvSpPr>
            <p:cNvPr id="348" name=""/>
            <p:cNvSpPr/>
            <p:nvPr/>
          </p:nvSpPr>
          <p:spPr>
            <a:xfrm>
              <a:off x="5153040" y="3500280"/>
              <a:ext cx="233280" cy="17316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76720" y="3616200"/>
              <a:ext cx="233280" cy="1728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53040" y="3730320"/>
              <a:ext cx="233280" cy="1764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10000" y="3673440"/>
              <a:ext cx="233280" cy="1746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443640" y="3429000"/>
            <a:ext cx="466920" cy="463680"/>
            <a:chOff x="6443640" y="3429000"/>
            <a:chExt cx="466920" cy="463680"/>
          </a:xfrm>
        </p:grpSpPr>
        <p:sp>
          <p:nvSpPr>
            <p:cNvPr id="353" name=""/>
            <p:cNvSpPr/>
            <p:nvPr/>
          </p:nvSpPr>
          <p:spPr>
            <a:xfrm>
              <a:off x="6521400" y="3717720"/>
              <a:ext cx="233640" cy="174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21400" y="3429000"/>
              <a:ext cx="311400" cy="173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43640" y="3544920"/>
              <a:ext cx="233640" cy="172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77280" y="3602160"/>
              <a:ext cx="233280" cy="174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822492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800280" y="990720"/>
            <a:ext cx="7734240" cy="4818240"/>
            <a:chOff x="800280" y="990720"/>
            <a:chExt cx="7734240" cy="4818240"/>
          </a:xfrm>
        </p:grpSpPr>
        <p:sp>
          <p:nvSpPr>
            <p:cNvPr id="359" name=""/>
            <p:cNvSpPr/>
            <p:nvPr/>
          </p:nvSpPr>
          <p:spPr>
            <a:xfrm>
              <a:off x="2057400" y="1371600"/>
              <a:ext cx="4656240" cy="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0" y="114300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00280" y="5410080"/>
              <a:ext cx="75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MAIOR     </a:t>
              </a: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INTERAÇÃO COM A FASE ESTACIONÁRIA</a:t>
              </a: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     MEN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05400" y="990720"/>
              <a:ext cx="308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Tahoma"/>
                </a:rPr>
                <a:t>FLUXO DA FASE MÓ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685800" y="1598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11430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J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436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AD3-2D1F-4A22-865F-A208B30693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ÍPI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00000" y="306864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6920" y="422100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700360" y="3429000"/>
            <a:ext cx="546120" cy="406440"/>
            <a:chOff x="2700360" y="3429000"/>
            <a:chExt cx="546120" cy="406440"/>
          </a:xfrm>
        </p:grpSpPr>
        <p:sp>
          <p:nvSpPr>
            <p:cNvPr id="370" name=""/>
            <p:cNvSpPr/>
            <p:nvPr/>
          </p:nvSpPr>
          <p:spPr>
            <a:xfrm>
              <a:off x="2779920" y="3429000"/>
              <a:ext cx="233280" cy="17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13200" y="3486240"/>
              <a:ext cx="233280" cy="172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34000" y="3659040"/>
              <a:ext cx="233280" cy="1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00360" y="3602160"/>
              <a:ext cx="233640" cy="17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651640" y="3429000"/>
            <a:ext cx="466560" cy="406440"/>
            <a:chOff x="5651640" y="3429000"/>
            <a:chExt cx="466560" cy="406440"/>
          </a:xfrm>
        </p:grpSpPr>
        <p:sp>
          <p:nvSpPr>
            <p:cNvPr id="375" name=""/>
            <p:cNvSpPr/>
            <p:nvPr/>
          </p:nvSpPr>
          <p:spPr>
            <a:xfrm>
              <a:off x="5727960" y="3429000"/>
              <a:ext cx="233280" cy="17316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51640" y="3544920"/>
              <a:ext cx="233280" cy="1728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27960" y="3659040"/>
              <a:ext cx="233280" cy="1764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84920" y="3602160"/>
              <a:ext cx="233280" cy="1746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164360" y="3429000"/>
            <a:ext cx="466920" cy="463680"/>
            <a:chOff x="7164360" y="3429000"/>
            <a:chExt cx="466920" cy="463680"/>
          </a:xfrm>
        </p:grpSpPr>
        <p:sp>
          <p:nvSpPr>
            <p:cNvPr id="380" name=""/>
            <p:cNvSpPr/>
            <p:nvPr/>
          </p:nvSpPr>
          <p:spPr>
            <a:xfrm>
              <a:off x="7242120" y="3717720"/>
              <a:ext cx="233640" cy="174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42120" y="3429000"/>
              <a:ext cx="311400" cy="173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64360" y="3544920"/>
              <a:ext cx="233640" cy="172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98000" y="3602160"/>
              <a:ext cx="233280" cy="174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822492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800280" y="990720"/>
            <a:ext cx="7734240" cy="4818240"/>
            <a:chOff x="800280" y="990720"/>
            <a:chExt cx="7734240" cy="4818240"/>
          </a:xfrm>
        </p:grpSpPr>
        <p:sp>
          <p:nvSpPr>
            <p:cNvPr id="386" name=""/>
            <p:cNvSpPr/>
            <p:nvPr/>
          </p:nvSpPr>
          <p:spPr>
            <a:xfrm>
              <a:off x="2057400" y="1371600"/>
              <a:ext cx="4656240" cy="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58000" y="114300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0280" y="5410080"/>
              <a:ext cx="75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MAIOR     </a:t>
              </a: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INTERAÇÃO COM A FASE ESTACIONÁRIA</a:t>
              </a: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     MEN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05400" y="990720"/>
              <a:ext cx="308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Tahoma"/>
                </a:rPr>
                <a:t>FLUXO DA FASE MÓ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685800" y="1598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1430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J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436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65C-CD7B-4DBE-852D-FD11A06244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ÇÃO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7640" y="1066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PRIEDADES DAS SUBSTÂ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162560" cy="1982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647640" y="1752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ÁVE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B71-EB70-44FE-B38C-436D52D9B2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33520" y="836640"/>
            <a:ext cx="1447200" cy="5098680"/>
            <a:chOff x="533520" y="836640"/>
            <a:chExt cx="1447200" cy="509868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1355400" y="850320"/>
              <a:ext cx="625320" cy="50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49720" y="836640"/>
              <a:ext cx="93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19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3520" y="3180240"/>
              <a:ext cx="93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19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7640" y="5521320"/>
              <a:ext cx="93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19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666880" y="3657600"/>
            <a:ext cx="60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EIRO CROMATÓGRAFO (Martin e Ja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518148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OLUNAS CAPILARES (Go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00360" y="1052640"/>
            <a:ext cx="43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CLL (Martin e Sy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429912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PRIMEIRO EQUIPAMENTO COMERCIAL</a:t>
            </a:r>
            <a:br>
              <a:rPr sz="2000"/>
            </a:b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(Griffin &amp; Geor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979280" y="1268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057040" y="38862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057040" y="46483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057040" y="5334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5791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00360" y="57340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ERÍODO DE EXPAN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362320" y="57913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952200" cy="13431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4500720" y="1844640"/>
            <a:ext cx="952200" cy="13431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 "/>
          <p:cNvPicPr/>
          <p:nvPr/>
        </p:nvPicPr>
        <p:blipFill>
          <a:blip r:embed="rId4"/>
          <a:stretch/>
        </p:blipFill>
        <p:spPr>
          <a:xfrm>
            <a:off x="2050920" y="1844640"/>
            <a:ext cx="1297080" cy="12794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580000" y="2205000"/>
            <a:ext cx="18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ZapfHumnst BT"/>
              </a:rPr>
              <a:t>Prêmio Nobel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ZapfHumnst BT"/>
              </a:rPr>
              <a:t>19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D8A-EF0E-4890-8B1A-403145DE66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42920" y="1219320"/>
            <a:ext cx="73389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RE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EXATID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MPLIC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PEQUENAS QUANT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ERSAT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ANÁLISE CONTÍ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AP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505-EC5D-4641-B650-D4EAB0C6C8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14400" y="1371600"/>
            <a:ext cx="76201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SUBSTÂNCIAS DEVEM SER VOLÁT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STABILIDADE TÉR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PURIFICAÇÃO PRÉ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QUENAS QUANT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IDENTIFICAÇÃO INSU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30D-F70D-4DEC-9CB6-E6A534BAAF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260280"/>
            <a:ext cx="814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058760"/>
            <a:ext cx="799308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nceito, Histórico, Vantagens, Aplicações, Limit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.TEORIA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canismo da sepa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assif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empo de Retenção, Prato Teó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ficiência, Resolução e Selet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.INSTRUME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ase Móvel e Fase Estacionári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jetor, Forno, Coluna e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.ANÁLISE QUALITATIVA E QUANT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.PREPARO DE DERIV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6.REFERÊNCIAS BIBLI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45F-1244-4AFD-B770-262BCB7BD9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609480" y="3808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S DE AMOS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14400" y="1671480"/>
            <a:ext cx="7620120" cy="31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GASES – LÍQUIDOS - SÓL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SO MOLECULAR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 – 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ORGÂNICAS OU INORGÂ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MOSTRA DEVE SER VOLÁ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9324-D61C-48CB-ADEF-9B719AE147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09480" y="3808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STRAS NÃO VOLÁT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23880" y="1752480"/>
            <a:ext cx="7010640" cy="46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RIVAT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AMINO-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CARBOID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ÁCIDOS CARBÓXI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751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IRÓL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MACROMOLÉ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10666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ÉCNICAS ESPE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445-A8CF-4FEE-8E14-45A74DC61C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86440" y="2948040"/>
            <a:ext cx="21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29200" y="3754440"/>
            <a:ext cx="220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134200" y="375768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77000" y="40622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552600" y="1066680"/>
            <a:ext cx="7089480" cy="4712760"/>
            <a:chOff x="552600" y="1066680"/>
            <a:chExt cx="7089480" cy="4712760"/>
          </a:xfrm>
        </p:grpSpPr>
        <p:sp>
          <p:nvSpPr>
            <p:cNvPr id="433" name=""/>
            <p:cNvSpPr/>
            <p:nvPr/>
          </p:nvSpPr>
          <p:spPr>
            <a:xfrm>
              <a:off x="552600" y="2948040"/>
              <a:ext cx="84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57320" y="2714760"/>
              <a:ext cx="219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67200" y="2714760"/>
              <a:ext cx="2192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57320" y="2714760"/>
              <a:ext cx="0" cy="3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49720" y="2714760"/>
              <a:ext cx="0" cy="3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35360" y="2948040"/>
              <a:ext cx="84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G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57560" y="29480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LU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67200" y="2716200"/>
              <a:ext cx="0" cy="33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59600" y="2716200"/>
              <a:ext cx="0" cy="31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58920" y="1792440"/>
              <a:ext cx="378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58920" y="17924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46840" y="18018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467000" y="2043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GASO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00560" y="20430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ÍQUI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55680" y="2409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6840" y="241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69000" y="3405240"/>
              <a:ext cx="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72200" y="3405240"/>
              <a:ext cx="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29200" y="37576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57560" y="1496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81120" y="1066680"/>
              <a:ext cx="495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en-US" sz="2800" spc="-1" strike="noStrike">
                  <a:solidFill>
                    <a:srgbClr val="cc6600"/>
                  </a:solidFill>
                  <a:latin typeface="Arial"/>
                </a:rPr>
                <a:t>R</a:t>
              </a:r>
              <a:r>
                <a:rPr b="1" lang="en-US" sz="2800" spc="-1" strike="noStrike">
                  <a:solidFill>
                    <a:srgbClr val="99cc00"/>
                  </a:solidFill>
                  <a:latin typeface="Arial"/>
                </a:rPr>
                <a:t>O</a:t>
              </a:r>
              <a:r>
                <a:rPr b="1" lang="en-US" sz="2800" spc="-1" strike="noStrike">
                  <a:solidFill>
                    <a:srgbClr val="33cc33"/>
                  </a:solidFill>
                  <a:latin typeface="Arial"/>
                </a:rPr>
                <a:t>M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G</a:t>
              </a: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R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2800" spc="-1" strike="noStrike">
                  <a:solidFill>
                    <a:srgbClr val="cc6600"/>
                  </a:solidFill>
                  <a:latin typeface="Arial"/>
                </a:rPr>
                <a:t>F</a:t>
              </a:r>
              <a:r>
                <a:rPr b="1" lang="en-US" sz="2800" spc="-1" strike="noStrike">
                  <a:solidFill>
                    <a:srgbClr val="33cc33"/>
                  </a:solidFill>
                  <a:latin typeface="Arial"/>
                </a:rPr>
                <a:t>I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29160" y="40622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2155680" y="5319720"/>
              <a:ext cx="5486400" cy="459720"/>
              <a:chOff x="2155680" y="5319720"/>
              <a:chExt cx="5486400" cy="459720"/>
            </a:xfrm>
          </p:grpSpPr>
          <p:sp>
            <p:nvSpPr>
              <p:cNvPr id="456" name=""/>
              <p:cNvSpPr/>
              <p:nvPr/>
            </p:nvSpPr>
            <p:spPr>
              <a:xfrm>
                <a:off x="2155680" y="53197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C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98680" y="53197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C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365720" y="53197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CFQ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32400" y="53197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CT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575400" y="53197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4869000" y="5081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72200" y="5072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29200" y="5081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65440" y="5081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95840" y="5081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65440" y="5081760"/>
              <a:ext cx="440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CC9F-C53D-4BD3-A4F2-C5AACF20EC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39640" y="1773360"/>
            <a:ext cx="814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ORIA BÁ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581800" cy="22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775-9D09-459F-A53D-ADEA5AEB32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09480" y="304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ANISMO DE SEPA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47640" y="6858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ADSORÇÃO (CG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747880" y="5257800"/>
            <a:ext cx="3646440" cy="6332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1523880" y="1258920"/>
            <a:ext cx="6400800" cy="388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2A3-5D7B-4185-9A79-43446C6583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09480" y="228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ANISMO DE SEPA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640" y="6094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PARTIÇÃO (CG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3046320" y="5410080"/>
            <a:ext cx="3051360" cy="65736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1200240" y="1274760"/>
            <a:ext cx="6743520" cy="38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B15-F297-40C6-BA4D-132CACA9F5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MAT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95640" y="35812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4343400"/>
            <a:ext cx="777240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63de8"/>
                </a:solidFill>
                <a:latin typeface="Arial"/>
              </a:rPr>
              <a:t>t</a:t>
            </a:r>
            <a:r>
              <a:rPr b="1" lang="pt-BR" sz="2400" spc="-1" strike="noStrike" baseline="-25000">
                <a:solidFill>
                  <a:srgbClr val="063de8"/>
                </a:solidFill>
                <a:latin typeface="Arial"/>
              </a:rPr>
              <a:t>R</a:t>
            </a:r>
            <a:r>
              <a:rPr b="1" lang="pt-BR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63de8"/>
                </a:solidFill>
                <a:latin typeface="Arial"/>
              </a:rPr>
              <a:t>= TEMPO DE RETEN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= t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 DE COMPOSTOS NÃO RE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´</a:t>
            </a:r>
            <a:r>
              <a:rPr b="1" lang="pt-BR" sz="2400" spc="-1" strike="noStrike" baseline="-25000">
                <a:solidFill>
                  <a:srgbClr val="008000"/>
                </a:solidFill>
                <a:latin typeface="Arial"/>
              </a:rPr>
              <a:t>R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 = TEMPO DE RETENÇÃO AJU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800280" y="990720"/>
            <a:ext cx="7543800" cy="30654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3716280" y="1905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</a:t>
            </a:r>
            <a:r>
              <a:rPr b="1" lang="pt-BR" sz="2400" spc="-1" strike="noStrike" baseline="-25000">
                <a:solidFill>
                  <a:srgbClr val="008000"/>
                </a:solidFill>
                <a:latin typeface="Arial"/>
              </a:rPr>
              <a:t>R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’</a:t>
            </a:r>
            <a:r>
              <a:rPr b="1" lang="pt-BR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pt-BR" sz="2400" spc="-1" strike="noStrike">
                <a:solidFill>
                  <a:srgbClr val="063de8"/>
                </a:solidFill>
                <a:latin typeface="Arial"/>
              </a:rPr>
              <a:t> t</a:t>
            </a:r>
            <a:r>
              <a:rPr b="1" lang="pt-BR" sz="2400" spc="-1" strike="noStrike" baseline="-25000">
                <a:solidFill>
                  <a:srgbClr val="063de8"/>
                </a:solidFill>
                <a:latin typeface="Arial"/>
              </a:rPr>
              <a:t>R</a:t>
            </a:r>
            <a:r>
              <a:rPr b="1" lang="pt-BR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pt-BR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E08-3134-4600-88AA-9CDCF3E553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 DE RETE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38160" y="2514600"/>
            <a:ext cx="54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ESTRUTURA QUÍMICA DO ANAL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28800" y="3200400"/>
            <a:ext cx="6095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EMPERATURA DA COL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54280" y="4267080"/>
            <a:ext cx="7238520" cy="1193400"/>
            <a:chOff x="854280" y="4267080"/>
            <a:chExt cx="7238520" cy="1193400"/>
          </a:xfrm>
        </p:grpSpPr>
        <p:sp>
          <p:nvSpPr>
            <p:cNvPr id="486" name=""/>
            <p:cNvSpPr/>
            <p:nvPr/>
          </p:nvSpPr>
          <p:spPr>
            <a:xfrm>
              <a:off x="854280" y="4836240"/>
              <a:ext cx="2133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MPERATU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 COLU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45280" y="4267080"/>
              <a:ext cx="338760" cy="567000"/>
            </a:xfrm>
            <a:prstGeom prst="upArrow">
              <a:avLst>
                <a:gd name="adj1" fmla="val 50000"/>
                <a:gd name="adj2" fmla="val 41844"/>
              </a:avLst>
            </a:prstGeom>
            <a:solidFill>
              <a:srgbClr val="b50069"/>
            </a:solidFill>
            <a:ln w="1260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92240" y="4834080"/>
              <a:ext cx="15094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ESS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 VAP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79400" y="4267080"/>
              <a:ext cx="338760" cy="567000"/>
            </a:xfrm>
            <a:prstGeom prst="upArrow">
              <a:avLst>
                <a:gd name="adj1" fmla="val 50000"/>
                <a:gd name="adj2" fmla="val 41844"/>
              </a:avLst>
            </a:prstGeom>
            <a:solidFill>
              <a:srgbClr val="b50069"/>
            </a:solidFill>
            <a:ln w="1260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72480" y="4834080"/>
              <a:ext cx="2020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LOC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 MIGR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12360" y="4267080"/>
              <a:ext cx="338760" cy="567000"/>
            </a:xfrm>
            <a:prstGeom prst="upArrow">
              <a:avLst>
                <a:gd name="adj1" fmla="val 50000"/>
                <a:gd name="adj2" fmla="val 41844"/>
              </a:avLst>
            </a:prstGeom>
            <a:solidFill>
              <a:srgbClr val="b50069"/>
            </a:solidFill>
            <a:ln w="1260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097440" y="4445640"/>
              <a:ext cx="558360" cy="1014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9966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43560" y="4444200"/>
              <a:ext cx="558720" cy="1014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9966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762120" y="12193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TERAÇÃO COM A FASE ESTACIONÁ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1905120"/>
            <a:ext cx="57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ESSÃO DE VAPOR DO ANAL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F4C-ECB5-457C-8376-5F6843FC28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09480" y="228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ÊNCIA DA CO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47640" y="6858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NÚMERO DE PRATOS TEÓRICOS (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2209680" cy="11908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809880" cy="31449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6324480" y="3886200"/>
            <a:ext cx="2362320" cy="71748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6156360" y="278136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LTURA EQUIVALENTE A UM PRATO TEÓRICO (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>
            <a:off x="609480" y="1219320"/>
            <a:ext cx="2127240" cy="503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669-3739-4767-9529-E4AD7835F2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ÚMERO DE PRATOS TEÓ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7640" y="914400"/>
            <a:ext cx="78487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TORES QUE EXERCEM INFLU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OMPRIMENTO DA COLU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DIÂMETRO DA COLU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GRANULAÇÃO DO SUPORTE (EMPACOTAD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QUANTIDADE DA FASE ESTACIONÁ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QUANTIDADE DA AMO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VELOCIDADE DE FLUX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TEMPERATURA DA COLU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EE4-F62B-4A77-925C-DDA048744C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1773360"/>
            <a:ext cx="814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581800" cy="22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5B3-2E95-4917-A896-BC91D78242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ÊNCIA DA FASE ESTACION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7640" y="8380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SELETIVID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1104840" y="1447920"/>
            <a:ext cx="6934320" cy="42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505-3F20-460A-864D-2C82565A84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ÊNCIA DA FASE ESTACION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640" y="8380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SELETIVID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619760" cy="27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64C-3F88-4697-8054-DBD27F29E1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ÇÃO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466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0A4-4849-47A0-BF3F-4AF52071E8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MENTAR RE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47640" y="1509840"/>
            <a:ext cx="78487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UMENTAR </a:t>
            </a:r>
            <a:r>
              <a:rPr b="1" lang="pt-BR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99"/>
                </a:solidFill>
                <a:latin typeface="Arial"/>
              </a:rPr>
              <a:t>FASE LÍQUIDA MAIS SELETIV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DIMINUIR 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99"/>
                </a:solidFill>
                <a:latin typeface="Arial"/>
              </a:rPr>
              <a:t>MAIOR NÚMERO DE PRATOS TEÓR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C92-B064-459F-BDCB-EEA3C38478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77120" cy="373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17C2-DFA2-4BA4-BC53-2012C963CD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ÊNCIA x SELE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2324160" y="1066680"/>
            <a:ext cx="4495680" cy="44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2B4-044F-4527-9933-11890B7722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ÊNCIA x RE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143000" y="947880"/>
            <a:ext cx="6858000" cy="49622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905120" y="2666880"/>
            <a:ext cx="1904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666633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666633"/>
                </a:solidFill>
                <a:latin typeface="Arial"/>
              </a:rPr>
              <a:t>PEQU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666633"/>
                </a:solidFill>
                <a:latin typeface="Arial"/>
              </a:rPr>
              <a:t>  PEQU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666880"/>
            <a:ext cx="1905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666633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666633"/>
                </a:solidFill>
                <a:latin typeface="Arial"/>
              </a:rPr>
              <a:t>GRA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666633"/>
                </a:solidFill>
                <a:latin typeface="Arial"/>
              </a:rPr>
              <a:t>  PEQU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828800" y="5257800"/>
            <a:ext cx="1905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666633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666633"/>
                </a:solidFill>
                <a:latin typeface="Arial"/>
              </a:rPr>
              <a:t>PEQU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666633"/>
                </a:solidFill>
                <a:latin typeface="Arial"/>
              </a:rPr>
              <a:t>  GRA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15000" y="5257800"/>
            <a:ext cx="1905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666633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666633"/>
                </a:solidFill>
                <a:latin typeface="Arial"/>
              </a:rPr>
              <a:t>GRA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666633"/>
                </a:solidFill>
                <a:latin typeface="Arial"/>
              </a:rPr>
              <a:t>  GRA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B91-2BFE-45E7-9C22-1191A887F1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09480" y="228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ÊNCIA DA CO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7640" y="6094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EQUAÇÃO DE VAN DEEM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24840" cy="19656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684360" y="4076640"/>
            <a:ext cx="78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= EFEITO DO MÚLTIPLO CAMI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B = DIFUSÃO MOL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 = RESISTÊNCIA À TRANSFERÊNCIA DE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= VELOCIDADE LINEAR MÉDIA DO GÁS DE ARRAS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4360" y="3429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= ALTURA EQUIVALENTE A UM PRATO TEÓRICO (AE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7D2-71E7-4103-80F3-F6DB51C498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762120" y="380880"/>
            <a:ext cx="7924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 = EFEITO DO MÚLTIPLO CAMIN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4360" y="2276640"/>
            <a:ext cx="784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Arial"/>
              </a:rPr>
              <a:t>B = DIFUSÃO MOLE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4360" y="4437000"/>
            <a:ext cx="784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 = RESISTÊNCIA À TRANSFERÊNCIA DE MAS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2700360" y="4802040"/>
            <a:ext cx="3527280" cy="17082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979640" y="2637000"/>
            <a:ext cx="5181480" cy="14540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1835280" y="765000"/>
            <a:ext cx="5903640" cy="130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717-86BA-437E-9AE2-9113DF0A437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609480" y="228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ÊNCIA DA CO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640" y="609480"/>
            <a:ext cx="784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VELOCIDADE DO GÁS (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 E A AEPT</a:t>
            </a:r>
            <a:br>
              <a:rPr sz="24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EQUAÇÃO DE VAN DEEM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3257640" y="5257800"/>
            <a:ext cx="2628720" cy="7462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2209680" y="1487520"/>
            <a:ext cx="5029200" cy="36450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3200400" y="4419720"/>
            <a:ext cx="9921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63de8"/>
                </a:solidFill>
                <a:latin typeface="Symbol"/>
                <a:ea typeface="Symbol"/>
              </a:rPr>
              <a:t></a:t>
            </a:r>
            <a:r>
              <a:rPr b="1" lang="pt-BR" sz="2000" spc="-1" strike="noStrike" baseline="-25000">
                <a:solidFill>
                  <a:srgbClr val="063de8"/>
                </a:solidFill>
                <a:latin typeface="Arial"/>
              </a:rPr>
              <a:t>Ó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05120" y="3581280"/>
            <a:ext cx="915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63de8"/>
                </a:solidFill>
                <a:latin typeface="Arial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C28-6B0F-4780-98A4-B67E16DA3F3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ÍPI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09480" y="1219320"/>
            <a:ext cx="7925040" cy="4614840"/>
            <a:chOff x="609480" y="1219320"/>
            <a:chExt cx="7925040" cy="4614840"/>
          </a:xfrm>
        </p:grpSpPr>
        <p:sp>
          <p:nvSpPr>
            <p:cNvPr id="54" name=""/>
            <p:cNvSpPr/>
            <p:nvPr/>
          </p:nvSpPr>
          <p:spPr>
            <a:xfrm>
              <a:off x="609480" y="1219320"/>
              <a:ext cx="7925040" cy="46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PROCESSO FÍSICO DE SEPARAÇÃ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cf0e30"/>
                  </a:solidFill>
                  <a:latin typeface="Arial"/>
                </a:rPr>
                <a:t>DISTRIBUIÇÃO ENTRE DUAS F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02888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ASE MÓ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02888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02888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02888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ASE ESTACIONÁ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91320" y="2819520"/>
              <a:ext cx="1676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ÍQU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GÁ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3080" y="4419720"/>
              <a:ext cx="1600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ÓL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LÍQU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962520" y="3048120"/>
              <a:ext cx="175248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3962520" y="3352320"/>
              <a:ext cx="17524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5105520" y="4648320"/>
              <a:ext cx="140976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5105520" y="4952520"/>
              <a:ext cx="14097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B79-29CF-4ABF-A2D8-44280C3B15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539640" y="1773360"/>
            <a:ext cx="814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581800" cy="22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89C-D832-4CEF-9C32-C681E7C1D3B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MATÓGRAFO A G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7640" y="9144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DIAGRAMA DE BLO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495360" y="1600200"/>
            <a:ext cx="8153280" cy="381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81D-C446-4D8C-9F32-39EFE87C523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609480" y="304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MATÓGRAFO A G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7640" y="6094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ESQUEMA BÁ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946080" y="990720"/>
            <a:ext cx="7251840" cy="520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753-7132-49F7-AEC0-328646E9C86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S DE FLUXO DE PU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952560" y="1447920"/>
            <a:ext cx="7581960" cy="37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1A7-D4CB-49FF-9D0E-F3B0BCC26EC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09480" y="304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MATÓGRAFO A G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55760" y="2120760"/>
            <a:ext cx="8231040" cy="32133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609480" y="8380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QUIPAMENTO VARIAN MODELO 3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C7D-57DC-4D05-9DD3-E5FAE16E864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609480" y="304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CG-EM 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(GC-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8380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QUIPAMENTO SHIMAD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468360" y="1752480"/>
            <a:ext cx="8136000" cy="364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DEB-3338-4248-9802-F1DE5DB36FF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 MÓ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295280"/>
            <a:ext cx="453420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ÁS DE ARRAS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NITROGÊ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HIDROGÊ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HÉL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ARGÔ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6143760" y="1143000"/>
            <a:ext cx="2322360" cy="48769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4343400" y="1295280"/>
            <a:ext cx="172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FLU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F1A-193F-4124-B807-4090861F11C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 MÓ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47640" y="129528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BAIXO CU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EQUADO PARA O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2D7-32EA-4DDD-ACE2-73EC7AD6612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JE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7640" y="8380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ICROSERING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7640" y="29862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ARÂME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7640" y="365760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TEMPERATURA DO INJE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50</a:t>
            </a:r>
            <a:r>
              <a:rPr b="1" lang="pt-BR" sz="2000" spc="-1" strike="noStrike" baseline="30000">
                <a:solidFill>
                  <a:srgbClr val="666633"/>
                </a:solidFill>
                <a:latin typeface="Arial"/>
              </a:rPr>
              <a:t>o</a:t>
            </a: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C MAIOR QUE O ANALITO MENOS VOLÁ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VOLUME INJE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ANALÍTICA</a:t>
            </a: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0,2 – 20 </a:t>
            </a:r>
            <a:r>
              <a:rPr b="1" lang="pt-BR" sz="2000" spc="-1" strike="noStrike">
                <a:solidFill>
                  <a:srgbClr val="666633"/>
                </a:solidFill>
                <a:latin typeface="Symbol"/>
                <a:ea typeface="Symbol"/>
              </a:rPr>
              <a:t></a:t>
            </a: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CAPILAR</a:t>
            </a: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0,001 – 0,5  </a:t>
            </a:r>
            <a:r>
              <a:rPr b="1" lang="pt-BR" sz="2000" spc="-1" strike="noStrike">
                <a:solidFill>
                  <a:srgbClr val="666633"/>
                </a:solidFill>
                <a:latin typeface="Symbol"/>
                <a:ea typeface="Symbol"/>
              </a:rPr>
              <a:t></a:t>
            </a: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676520" y="1376280"/>
            <a:ext cx="5410080" cy="173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3C0-9E54-4668-B2E2-D98D2000F08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JE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47640" y="8380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JETOR CONVENCIONAL “ON-COLUMN”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1276200" y="1523880"/>
            <a:ext cx="6591600" cy="408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3DB6-6BA7-4175-BA20-0EC15B096D4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ÍPI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00280" y="990720"/>
            <a:ext cx="7734240" cy="4818240"/>
            <a:chOff x="800280" y="990720"/>
            <a:chExt cx="7734240" cy="4818240"/>
          </a:xfrm>
        </p:grpSpPr>
        <p:sp>
          <p:nvSpPr>
            <p:cNvPr id="63" name=""/>
            <p:cNvSpPr/>
            <p:nvPr/>
          </p:nvSpPr>
          <p:spPr>
            <a:xfrm>
              <a:off x="2057400" y="1371600"/>
              <a:ext cx="4656240" cy="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114300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0280" y="5410080"/>
              <a:ext cx="75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MAIOR     </a:t>
              </a: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INTERAÇÃO COM A FASE ESTACIONÁRIA</a:t>
              </a: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     MEN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05400" y="990720"/>
              <a:ext cx="308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Tahoma"/>
                </a:rPr>
                <a:t>FLUXO DA FASE MÓ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85800" y="1598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1430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J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5800" y="1981080"/>
            <a:ext cx="7772400" cy="3208320"/>
            <a:chOff x="685800" y="1981080"/>
            <a:chExt cx="7772400" cy="3208320"/>
          </a:xfrm>
        </p:grpSpPr>
        <p:sp>
          <p:nvSpPr>
            <p:cNvPr id="70" name=""/>
            <p:cNvSpPr/>
            <p:nvPr/>
          </p:nvSpPr>
          <p:spPr>
            <a:xfrm>
              <a:off x="1230480" y="2098800"/>
              <a:ext cx="231480" cy="17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74600" y="2330280"/>
              <a:ext cx="231840" cy="174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61960" y="2039760"/>
              <a:ext cx="233640" cy="17496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1320" y="1981080"/>
              <a:ext cx="7504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41320" y="2562120"/>
              <a:ext cx="7504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1320" y="3319560"/>
              <a:ext cx="7504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1320" y="3900600"/>
              <a:ext cx="7504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1320" y="4597560"/>
              <a:ext cx="7504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86000" y="2214720"/>
              <a:ext cx="233280" cy="17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96840" y="2214720"/>
              <a:ext cx="233640" cy="17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61960" y="2330280"/>
              <a:ext cx="233640" cy="174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539720" y="3378240"/>
              <a:ext cx="546120" cy="406440"/>
              <a:chOff x="1539720" y="3378240"/>
              <a:chExt cx="546120" cy="406440"/>
            </a:xfrm>
          </p:grpSpPr>
          <p:sp>
            <p:nvSpPr>
              <p:cNvPr id="82" name=""/>
              <p:cNvSpPr/>
              <p:nvPr/>
            </p:nvSpPr>
            <p:spPr>
              <a:xfrm>
                <a:off x="1619280" y="3378240"/>
                <a:ext cx="233280" cy="17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52560" y="3435480"/>
                <a:ext cx="233280" cy="172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73360" y="3608280"/>
                <a:ext cx="233280" cy="176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539720" y="3551400"/>
                <a:ext cx="233640" cy="174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2006640" y="4772160"/>
              <a:ext cx="233280" cy="17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17680" y="4889520"/>
              <a:ext cx="233280" cy="17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39920" y="4714920"/>
              <a:ext cx="233280" cy="17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39720" y="2273400"/>
              <a:ext cx="233640" cy="1746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30480" y="2330280"/>
              <a:ext cx="231480" cy="17496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74600" y="2039760"/>
              <a:ext cx="231840" cy="17496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173400" y="3378240"/>
              <a:ext cx="466560" cy="406440"/>
              <a:chOff x="3173400" y="3378240"/>
              <a:chExt cx="466560" cy="406440"/>
            </a:xfrm>
          </p:grpSpPr>
          <p:sp>
            <p:nvSpPr>
              <p:cNvPr id="93" name=""/>
              <p:cNvSpPr/>
              <p:nvPr/>
            </p:nvSpPr>
            <p:spPr>
              <a:xfrm>
                <a:off x="3249720" y="3378240"/>
                <a:ext cx="233280" cy="173160"/>
              </a:xfrm>
              <a:prstGeom prst="triangle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173400" y="3494160"/>
                <a:ext cx="233280" cy="172800"/>
              </a:xfrm>
              <a:prstGeom prst="triangle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249720" y="3608280"/>
                <a:ext cx="233280" cy="176400"/>
              </a:xfrm>
              <a:prstGeom prst="triangle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406680" y="3551400"/>
                <a:ext cx="233280" cy="174600"/>
              </a:xfrm>
              <a:prstGeom prst="triangle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395440" y="3378240"/>
              <a:ext cx="466920" cy="463680"/>
              <a:chOff x="2395440" y="3378240"/>
              <a:chExt cx="466920" cy="463680"/>
            </a:xfrm>
          </p:grpSpPr>
          <p:sp>
            <p:nvSpPr>
              <p:cNvPr id="98" name=""/>
              <p:cNvSpPr/>
              <p:nvPr/>
            </p:nvSpPr>
            <p:spPr>
              <a:xfrm>
                <a:off x="2473200" y="3378240"/>
                <a:ext cx="311400" cy="1731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395440" y="3494160"/>
                <a:ext cx="233640" cy="1728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73200" y="3666960"/>
                <a:ext cx="233640" cy="174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29080" y="3551400"/>
                <a:ext cx="233280" cy="174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1306440" y="2039760"/>
              <a:ext cx="233280" cy="174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39720" y="2214720"/>
              <a:ext cx="233640" cy="174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19080" y="2098800"/>
              <a:ext cx="233280" cy="174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27520" y="4772160"/>
              <a:ext cx="309600" cy="174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60800" y="4889520"/>
              <a:ext cx="309600" cy="174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3840" y="4656240"/>
              <a:ext cx="311040" cy="174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91440" y="4656240"/>
              <a:ext cx="233280" cy="1746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69200" y="4830840"/>
              <a:ext cx="233280" cy="1746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15120" y="4830840"/>
              <a:ext cx="233280" cy="1746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4920" y="3319560"/>
              <a:ext cx="233280" cy="58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5800" y="1981080"/>
              <a:ext cx="233280" cy="58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24920" y="1981080"/>
              <a:ext cx="233280" cy="58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" y="3319560"/>
              <a:ext cx="233280" cy="58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41320" y="5189400"/>
              <a:ext cx="7504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85840" y="4937040"/>
              <a:ext cx="231840" cy="189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7520" y="4937040"/>
              <a:ext cx="309600" cy="189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91440" y="4937040"/>
              <a:ext cx="233280" cy="1890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224920" y="4559400"/>
              <a:ext cx="233280" cy="630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4559400"/>
              <a:ext cx="233280" cy="630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5800" y="29448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=10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41911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=20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19D-E72B-4BC5-BE0B-86F8A0FCE9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JE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7640" y="8380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JETOR COM DIVISOR DE FLUXO (SPLI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628560" y="1676520"/>
            <a:ext cx="7886880" cy="34542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181160" y="55627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PORÇÃO DE PURGA: 1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45C-B952-4747-B035-9A67BE9CAB3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JEÇÃO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7640" y="838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SERINGA DE 10 </a:t>
            </a:r>
            <a:r>
              <a:rPr b="1" lang="pt-BR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735280" y="1371600"/>
            <a:ext cx="3672000" cy="441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9D2-AE63-4D58-A7A2-8EAE0AEF5FE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JETOR AUTO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4122720" cy="48960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5138640" y="1125360"/>
            <a:ext cx="3384720" cy="489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764-476F-453E-96C1-DAFDF564F9F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DADE DE INJE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7640" y="99072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STANTÂ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7640" y="36576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N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1752480" y="1523880"/>
            <a:ext cx="4173480" cy="4365720"/>
            <a:chOff x="1752480" y="1523880"/>
            <a:chExt cx="4173480" cy="4365720"/>
          </a:xfrm>
        </p:grpSpPr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2706480" y="1711080"/>
              <a:ext cx="32194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947760" y="2344320"/>
              <a:ext cx="1252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52480" y="1523880"/>
              <a:ext cx="80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dc0081"/>
                  </a:solidFill>
                  <a:latin typeface="Arial"/>
                </a:rPr>
                <a:t>t 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52480" y="2801520"/>
              <a:ext cx="80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dc0081"/>
                  </a:solidFill>
                  <a:latin typeface="Arial"/>
                </a:rPr>
                <a:t>t =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0" name="" descr=""/>
            <p:cNvPicPr/>
            <p:nvPr/>
          </p:nvPicPr>
          <p:blipFill>
            <a:blip r:embed="rId2"/>
            <a:stretch/>
          </p:blipFill>
          <p:spPr>
            <a:xfrm>
              <a:off x="2706480" y="4444560"/>
              <a:ext cx="32194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3947760" y="5047920"/>
              <a:ext cx="1252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52480" y="4268520"/>
              <a:ext cx="80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dc0081"/>
                  </a:solidFill>
                  <a:latin typeface="Arial"/>
                </a:rPr>
                <a:t>t 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52480" y="5490720"/>
              <a:ext cx="80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dc0081"/>
                  </a:solidFill>
                  <a:latin typeface="Arial"/>
                </a:rPr>
                <a:t>t =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6934320" y="4114800"/>
            <a:ext cx="1044360" cy="17334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6934320" y="1523880"/>
            <a:ext cx="92052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7A8-F734-47DB-A1C4-BB2F623EC29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UN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2413080" cy="24256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2374920" cy="232416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3"/>
          <a:stretch/>
        </p:blipFill>
        <p:spPr>
          <a:xfrm>
            <a:off x="1219320" y="914400"/>
            <a:ext cx="2138400" cy="243828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5029200" y="990720"/>
            <a:ext cx="3048120" cy="220968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539640" y="6021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SCOT  =  Support Coated Open Tubular</a:t>
            </a:r>
            <a:br>
              <a:rPr sz="1800"/>
            </a:b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WCOT =  Wall Coated Open Tub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2F6-E354-4B97-B0EE-B636B010E9D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UNA EMPACO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95360" y="1082520"/>
            <a:ext cx="8153280" cy="423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370-FEB6-42CF-9DE7-7BB6AD6716D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UNA CAP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47640" y="10666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LUNA TUBULAR ABERTA DE SÍLICA FUND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WC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50920" y="2209680"/>
            <a:ext cx="8569080" cy="332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D3D-668D-4F98-A158-7FC4BFD94B3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COL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538200" y="1752480"/>
            <a:ext cx="8072280" cy="398880"/>
            <a:chOff x="538200" y="1752480"/>
            <a:chExt cx="8072280" cy="398880"/>
          </a:xfrm>
        </p:grpSpPr>
        <p:sp>
          <p:nvSpPr>
            <p:cNvPr id="609" name=""/>
            <p:cNvSpPr/>
            <p:nvPr/>
          </p:nvSpPr>
          <p:spPr>
            <a:xfrm>
              <a:off x="538200" y="1752480"/>
              <a:ext cx="32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DIÂMETRO IN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19920" y="1752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0,1 – 0,5 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09880" y="175248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2-6 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38200" y="2362320"/>
            <a:ext cx="8072280" cy="398880"/>
            <a:chOff x="538200" y="2362320"/>
            <a:chExt cx="8072280" cy="398880"/>
          </a:xfrm>
        </p:grpSpPr>
        <p:sp>
          <p:nvSpPr>
            <p:cNvPr id="613" name=""/>
            <p:cNvSpPr/>
            <p:nvPr/>
          </p:nvSpPr>
          <p:spPr>
            <a:xfrm>
              <a:off x="538200" y="2362320"/>
              <a:ext cx="327168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Arial"/>
                </a:rPr>
                <a:t>COMPRI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19920" y="2362320"/>
              <a:ext cx="259056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Arial"/>
                </a:rPr>
                <a:t>5 – 1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880" y="2362320"/>
              <a:ext cx="221004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Arial"/>
                </a:rPr>
                <a:t>0,5 – 5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538200" y="1143000"/>
            <a:ext cx="32716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ACTER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19920" y="1143000"/>
            <a:ext cx="25905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P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143000"/>
            <a:ext cx="22100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MPACO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34960" y="2971800"/>
            <a:ext cx="8075520" cy="1465560"/>
            <a:chOff x="534960" y="2971800"/>
            <a:chExt cx="8075520" cy="1465560"/>
          </a:xfrm>
        </p:grpSpPr>
        <p:grpSp>
          <p:nvGrpSpPr>
            <p:cNvPr id="620" name=""/>
            <p:cNvGrpSpPr/>
            <p:nvPr/>
          </p:nvGrpSpPr>
          <p:grpSpPr>
            <a:xfrm>
              <a:off x="538200" y="2971800"/>
              <a:ext cx="8072280" cy="398880"/>
              <a:chOff x="538200" y="2971800"/>
              <a:chExt cx="8072280" cy="398880"/>
            </a:xfrm>
          </p:grpSpPr>
          <p:sp>
            <p:nvSpPr>
              <p:cNvPr id="621" name=""/>
              <p:cNvSpPr/>
              <p:nvPr/>
            </p:nvSpPr>
            <p:spPr>
              <a:xfrm>
                <a:off x="538200" y="2971800"/>
                <a:ext cx="327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MATERIAL DO TUB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019920" y="2971800"/>
                <a:ext cx="259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VIDR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809880" y="2971800"/>
                <a:ext cx="2210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AÇ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34960" y="3505320"/>
              <a:ext cx="8072280" cy="398880"/>
              <a:chOff x="534960" y="3505320"/>
              <a:chExt cx="8072280" cy="398880"/>
            </a:xfrm>
          </p:grpSpPr>
          <p:sp>
            <p:nvSpPr>
              <p:cNvPr id="625" name=""/>
              <p:cNvSpPr/>
              <p:nvPr/>
            </p:nvSpPr>
            <p:spPr>
              <a:xfrm>
                <a:off x="534960" y="3505320"/>
                <a:ext cx="327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6680" y="3505320"/>
                <a:ext cx="259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SILICA FUND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806640" y="3505320"/>
                <a:ext cx="2210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OB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534960" y="4038480"/>
              <a:ext cx="8072280" cy="398880"/>
              <a:chOff x="534960" y="4038480"/>
              <a:chExt cx="8072280" cy="398880"/>
            </a:xfrm>
          </p:grpSpPr>
          <p:sp>
            <p:nvSpPr>
              <p:cNvPr id="629" name=""/>
              <p:cNvSpPr/>
              <p:nvPr/>
            </p:nvSpPr>
            <p:spPr>
              <a:xfrm>
                <a:off x="534960" y="4038480"/>
                <a:ext cx="327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016680" y="4038480"/>
                <a:ext cx="259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806640" y="4038480"/>
                <a:ext cx="2210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VIDR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2" name=""/>
          <p:cNvGrpSpPr/>
          <p:nvPr/>
        </p:nvGrpSpPr>
        <p:grpSpPr>
          <a:xfrm>
            <a:off x="534960" y="4648320"/>
            <a:ext cx="8072280" cy="932040"/>
            <a:chOff x="534960" y="4648320"/>
            <a:chExt cx="8072280" cy="932040"/>
          </a:xfrm>
        </p:grpSpPr>
        <p:grpSp>
          <p:nvGrpSpPr>
            <p:cNvPr id="633" name=""/>
            <p:cNvGrpSpPr/>
            <p:nvPr/>
          </p:nvGrpSpPr>
          <p:grpSpPr>
            <a:xfrm>
              <a:off x="534960" y="4648320"/>
              <a:ext cx="8072280" cy="398880"/>
              <a:chOff x="534960" y="4648320"/>
              <a:chExt cx="8072280" cy="398880"/>
            </a:xfrm>
          </p:grpSpPr>
          <p:sp>
            <p:nvSpPr>
              <p:cNvPr id="634" name=""/>
              <p:cNvSpPr/>
              <p:nvPr/>
            </p:nvSpPr>
            <p:spPr>
              <a:xfrm>
                <a:off x="534960" y="4648320"/>
                <a:ext cx="3271680" cy="398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33"/>
                    </a:solidFill>
                    <a:latin typeface="Arial"/>
                  </a:rPr>
                  <a:t>FORM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016680" y="4648320"/>
                <a:ext cx="2590560" cy="398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33"/>
                    </a:solidFill>
                    <a:latin typeface="Arial"/>
                  </a:rPr>
                  <a:t>ESPIR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806640" y="4648320"/>
                <a:ext cx="2210040" cy="398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33"/>
                    </a:solidFill>
                    <a:latin typeface="Arial"/>
                  </a:rPr>
                  <a:t>ESPIR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534960" y="5181480"/>
              <a:ext cx="8072280" cy="398880"/>
              <a:chOff x="534960" y="5181480"/>
              <a:chExt cx="8072280" cy="398880"/>
            </a:xfrm>
          </p:grpSpPr>
          <p:sp>
            <p:nvSpPr>
              <p:cNvPr id="638" name=""/>
              <p:cNvSpPr/>
              <p:nvPr/>
            </p:nvSpPr>
            <p:spPr>
              <a:xfrm>
                <a:off x="534960" y="5181480"/>
                <a:ext cx="3271680" cy="398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33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016680" y="5181480"/>
                <a:ext cx="2590560" cy="398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33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806640" y="5181480"/>
                <a:ext cx="2210040" cy="398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33"/>
                    </a:solidFill>
                    <a:latin typeface="Arial"/>
                  </a:rPr>
                  <a:t>CURVA “U”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1" name=""/>
          <p:cNvGrpSpPr/>
          <p:nvPr/>
        </p:nvGrpSpPr>
        <p:grpSpPr>
          <a:xfrm>
            <a:off x="534960" y="5715000"/>
            <a:ext cx="8072280" cy="398880"/>
            <a:chOff x="534960" y="5715000"/>
            <a:chExt cx="8072280" cy="398880"/>
          </a:xfrm>
        </p:grpSpPr>
        <p:sp>
          <p:nvSpPr>
            <p:cNvPr id="642" name=""/>
            <p:cNvSpPr/>
            <p:nvPr/>
          </p:nvSpPr>
          <p:spPr>
            <a:xfrm>
              <a:off x="534960" y="5715000"/>
              <a:ext cx="32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FASE ESTACIONÁ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016680" y="571500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0,5 – 2,0 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06640" y="571500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~5 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m (~10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984-BD89-4C61-A7AD-4A1EFBE7CF2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COL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534960" y="2971800"/>
            <a:ext cx="8072280" cy="398880"/>
            <a:chOff x="534960" y="2971800"/>
            <a:chExt cx="8072280" cy="398880"/>
          </a:xfrm>
        </p:grpSpPr>
        <p:sp>
          <p:nvSpPr>
            <p:cNvPr id="647" name=""/>
            <p:cNvSpPr/>
            <p:nvPr/>
          </p:nvSpPr>
          <p:spPr>
            <a:xfrm>
              <a:off x="534960" y="2971800"/>
              <a:ext cx="32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99"/>
                  </a:solidFill>
                  <a:latin typeface="Arial"/>
                </a:rPr>
                <a:t>VAZÃO ( mL/min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016680" y="297180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1 -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06640" y="297180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20 - 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534960" y="2362320"/>
            <a:ext cx="8072280" cy="398880"/>
            <a:chOff x="534960" y="2362320"/>
            <a:chExt cx="8072280" cy="398880"/>
          </a:xfrm>
        </p:grpSpPr>
        <p:sp>
          <p:nvSpPr>
            <p:cNvPr id="651" name=""/>
            <p:cNvSpPr/>
            <p:nvPr/>
          </p:nvSpPr>
          <p:spPr>
            <a:xfrm>
              <a:off x="534960" y="2362320"/>
              <a:ext cx="327168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Arial"/>
                </a:rPr>
                <a:t>SU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16680" y="2362320"/>
              <a:ext cx="259056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6640" y="2362320"/>
              <a:ext cx="221004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Arial"/>
                </a:rPr>
                <a:t>CHROMOSO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538200" y="1143000"/>
            <a:ext cx="32716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ACTER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1143000"/>
            <a:ext cx="25905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P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9880" y="1143000"/>
            <a:ext cx="22100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MPACO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534960" y="3581280"/>
            <a:ext cx="8072280" cy="398880"/>
            <a:chOff x="534960" y="3581280"/>
            <a:chExt cx="8072280" cy="398880"/>
          </a:xfrm>
        </p:grpSpPr>
        <p:sp>
          <p:nvSpPr>
            <p:cNvPr id="658" name=""/>
            <p:cNvSpPr/>
            <p:nvPr/>
          </p:nvSpPr>
          <p:spPr>
            <a:xfrm>
              <a:off x="534960" y="3581280"/>
              <a:ext cx="327168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666633"/>
                  </a:solidFill>
                  <a:latin typeface="Arial"/>
                </a:rPr>
                <a:t>AMOSTRA (</a:t>
              </a:r>
              <a:r>
                <a:rPr b="1" lang="pt-BR" sz="20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</a:t>
              </a:r>
              <a:r>
                <a:rPr b="1" lang="pt-BR" sz="2000" spc="-1" strike="noStrike">
                  <a:solidFill>
                    <a:srgbClr val="666633"/>
                  </a:solidFill>
                  <a:latin typeface="Arial"/>
                </a:rPr>
                <a:t>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16680" y="3581280"/>
              <a:ext cx="259056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Arial"/>
                </a:rPr>
                <a:t>0,001 – 0,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06640" y="3581280"/>
              <a:ext cx="221004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Arial"/>
                </a:rPr>
                <a:t>0,20 - 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34960" y="4191120"/>
            <a:ext cx="8072280" cy="398880"/>
            <a:chOff x="534960" y="4191120"/>
            <a:chExt cx="8072280" cy="398880"/>
          </a:xfrm>
        </p:grpSpPr>
        <p:sp>
          <p:nvSpPr>
            <p:cNvPr id="662" name=""/>
            <p:cNvSpPr/>
            <p:nvPr/>
          </p:nvSpPr>
          <p:spPr>
            <a:xfrm>
              <a:off x="534960" y="4191120"/>
              <a:ext cx="32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99"/>
                  </a:solidFill>
                  <a:latin typeface="Arial"/>
                </a:rPr>
                <a:t>TEMPERATURA ( </a:t>
              </a:r>
              <a:r>
                <a:rPr b="1" lang="pt-BR" sz="2000" spc="-1" strike="noStrike" baseline="30000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1" lang="pt-BR" sz="2000" spc="-1" strike="noStrike">
                  <a:solidFill>
                    <a:srgbClr val="000099"/>
                  </a:solidFill>
                  <a:latin typeface="Arial"/>
                </a:rPr>
                <a:t>C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016680" y="419112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25 - 3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06640" y="419112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25 - 3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34960" y="4800600"/>
            <a:ext cx="8072280" cy="398880"/>
            <a:chOff x="534960" y="4800600"/>
            <a:chExt cx="8072280" cy="398880"/>
          </a:xfrm>
        </p:grpSpPr>
        <p:sp>
          <p:nvSpPr>
            <p:cNvPr id="666" name=""/>
            <p:cNvSpPr/>
            <p:nvPr/>
          </p:nvSpPr>
          <p:spPr>
            <a:xfrm>
              <a:off x="534960" y="4800600"/>
              <a:ext cx="327168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Arial"/>
                </a:rPr>
                <a:t>PRATOS TEÓRI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16680" y="4800600"/>
              <a:ext cx="259056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Arial"/>
                </a:rPr>
                <a:t>ATÉ 20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06640" y="4800600"/>
              <a:ext cx="221004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Arial"/>
                </a:rPr>
                <a:t>1.000 – 1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34960" y="5410080"/>
            <a:ext cx="8072280" cy="398880"/>
            <a:chOff x="534960" y="5410080"/>
            <a:chExt cx="8072280" cy="398880"/>
          </a:xfrm>
        </p:grpSpPr>
        <p:sp>
          <p:nvSpPr>
            <p:cNvPr id="670" name=""/>
            <p:cNvSpPr/>
            <p:nvPr/>
          </p:nvSpPr>
          <p:spPr>
            <a:xfrm>
              <a:off x="534960" y="5410080"/>
              <a:ext cx="32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RESOLU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16680" y="54100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AL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06640" y="541008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BAIX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534960" y="1752480"/>
            <a:ext cx="8072280" cy="398880"/>
            <a:chOff x="534960" y="1752480"/>
            <a:chExt cx="8072280" cy="398880"/>
          </a:xfrm>
        </p:grpSpPr>
        <p:sp>
          <p:nvSpPr>
            <p:cNvPr id="674" name=""/>
            <p:cNvSpPr/>
            <p:nvPr/>
          </p:nvSpPr>
          <p:spPr>
            <a:xfrm>
              <a:off x="534960" y="1752480"/>
              <a:ext cx="32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GRANULOMETRIA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(malha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016680" y="1752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06640" y="175248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80 -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9B7-8FE1-4DCE-835C-83F7F44B4FC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 ESTACIONÁRIA SÓ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47640" y="990720"/>
            <a:ext cx="784872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RACTERÍST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INER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GRANDE ÁREA SUPERFI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PARTICULAS REGULARES E UNIFOR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RESISTÊNCIA MECÂNICA E TÉRM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609480" y="3200400"/>
          <a:ext cx="8001000" cy="2664000"/>
        </p:xfrm>
        <a:graphic>
          <a:graphicData uri="http://schemas.openxmlformats.org/drawingml/2006/table">
            <a:tbl>
              <a:tblPr/>
              <a:tblGrid>
                <a:gridCol w="2819520"/>
                <a:gridCol w="518148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GEL DE SÍ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GASES PERMANENTES, HIDROCARBONE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LUM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IDROCARBONE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POLÍMEROS PORO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GASES PERMANENTES,COMPOSTOS APOLA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RVÃO GRAFITINIZ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SÔMEROS ESTRUTURAIS E GEOMÉT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4AE-CFD4-4680-84D3-41B2A634D1D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ÍPI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306864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22100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547640" y="3429000"/>
            <a:ext cx="546120" cy="406440"/>
            <a:chOff x="1547640" y="3429000"/>
            <a:chExt cx="546120" cy="406440"/>
          </a:xfrm>
        </p:grpSpPr>
        <p:sp>
          <p:nvSpPr>
            <p:cNvPr id="127" name=""/>
            <p:cNvSpPr/>
            <p:nvPr/>
          </p:nvSpPr>
          <p:spPr>
            <a:xfrm>
              <a:off x="1627200" y="3429000"/>
              <a:ext cx="233280" cy="17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60480" y="3486240"/>
              <a:ext cx="233280" cy="172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81280" y="3659040"/>
              <a:ext cx="233280" cy="1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7640" y="3602160"/>
              <a:ext cx="233640" cy="17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619280" y="3500280"/>
            <a:ext cx="466560" cy="406440"/>
            <a:chOff x="1619280" y="3500280"/>
            <a:chExt cx="466560" cy="406440"/>
          </a:xfrm>
        </p:grpSpPr>
        <p:sp>
          <p:nvSpPr>
            <p:cNvPr id="132" name=""/>
            <p:cNvSpPr/>
            <p:nvPr/>
          </p:nvSpPr>
          <p:spPr>
            <a:xfrm>
              <a:off x="1695600" y="3500280"/>
              <a:ext cx="233280" cy="17316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19280" y="3616200"/>
              <a:ext cx="233280" cy="1728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95600" y="3730320"/>
              <a:ext cx="233280" cy="1764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52560" y="3673440"/>
              <a:ext cx="233280" cy="1746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619280" y="3357720"/>
            <a:ext cx="466200" cy="462960"/>
            <a:chOff x="1619280" y="3357720"/>
            <a:chExt cx="466200" cy="462960"/>
          </a:xfrm>
        </p:grpSpPr>
        <p:sp>
          <p:nvSpPr>
            <p:cNvPr id="137" name=""/>
            <p:cNvSpPr/>
            <p:nvPr/>
          </p:nvSpPr>
          <p:spPr>
            <a:xfrm>
              <a:off x="1696680" y="3646080"/>
              <a:ext cx="233280" cy="174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96680" y="3357720"/>
              <a:ext cx="311040" cy="172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19280" y="3473280"/>
              <a:ext cx="233280" cy="172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52560" y="3530520"/>
              <a:ext cx="232920" cy="174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822492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00280" y="990720"/>
            <a:ext cx="7734240" cy="4818240"/>
            <a:chOff x="800280" y="990720"/>
            <a:chExt cx="7734240" cy="4818240"/>
          </a:xfrm>
        </p:grpSpPr>
        <p:sp>
          <p:nvSpPr>
            <p:cNvPr id="143" name=""/>
            <p:cNvSpPr/>
            <p:nvPr/>
          </p:nvSpPr>
          <p:spPr>
            <a:xfrm>
              <a:off x="2057400" y="1371600"/>
              <a:ext cx="4656240" cy="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0" y="114300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280" y="5410080"/>
              <a:ext cx="75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MAIOR     </a:t>
              </a: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INTERAÇÃO COM A FASE ESTACIONÁRIA</a:t>
              </a: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     MEN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05400" y="990720"/>
              <a:ext cx="308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Tahoma"/>
                </a:rPr>
                <a:t>FLUXO DA FASE MÓ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85800" y="1598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1430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J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9DD-B0DA-4E4B-B9FD-39FC7FAD06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47640" y="838080"/>
            <a:ext cx="784872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RACTERÍST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INER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GRANDE ÁREA SUPERFI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PARTICULAS REGULARES E UNIFOR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RESISTÊNCIA MECÂNICA E TÉRM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47640" y="3048120"/>
            <a:ext cx="7848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TIP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TERRAS DIATOMÁCEAS* (Chromosorb, Anachro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666633"/>
                </a:solidFill>
                <a:latin typeface="Arial"/>
              </a:rPr>
              <a:t>GEL DE SÍL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ALUM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666633"/>
                </a:solidFill>
                <a:latin typeface="Arial"/>
              </a:rPr>
              <a:t>POLÍMEROS PORO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PÉROLAS DE VIDRO POROS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47640" y="54864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* TRATADAS COM AGENTES SILANIZ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6F5-83BD-4BA7-9A26-0828DF97B13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 ESTACIONÁRIA LÍQ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47640" y="1371600"/>
            <a:ext cx="784872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RACTERÍST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STABILIDADE TÉRM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BOM SOLV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BAIXA PRESSÃO DE VAP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QUIMICAMENTE INER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BAIXA VISCOSID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DE79-85B6-4C5D-8445-EA7B913D9B0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 ESTACIONÁRIA LÍQ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838080" y="1371600"/>
            <a:ext cx="7772040" cy="3998880"/>
            <a:chOff x="838080" y="1371600"/>
            <a:chExt cx="7772040" cy="3998880"/>
          </a:xfrm>
        </p:grpSpPr>
        <p:grpSp>
          <p:nvGrpSpPr>
            <p:cNvPr id="688" name=""/>
            <p:cNvGrpSpPr/>
            <p:nvPr/>
          </p:nvGrpSpPr>
          <p:grpSpPr>
            <a:xfrm>
              <a:off x="838080" y="2304360"/>
              <a:ext cx="7772040" cy="398880"/>
              <a:chOff x="838080" y="2304360"/>
              <a:chExt cx="7772040" cy="398880"/>
            </a:xfrm>
          </p:grpSpPr>
          <p:sp>
            <p:nvSpPr>
              <p:cNvPr id="689" name=""/>
              <p:cNvSpPr/>
              <p:nvPr/>
            </p:nvSpPr>
            <p:spPr>
              <a:xfrm>
                <a:off x="838080" y="2304360"/>
                <a:ext cx="205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"/>
                  </a:rPr>
                  <a:t>ESQUALA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891160" y="2304360"/>
                <a:ext cx="318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"/>
                  </a:rPr>
                  <a:t>HIDROCARBONE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077520" y="2304360"/>
                <a:ext cx="253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"/>
                  </a:rPr>
                  <a:t>NÃO POL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838080" y="1371600"/>
              <a:ext cx="7772040" cy="398880"/>
              <a:chOff x="838080" y="1371600"/>
              <a:chExt cx="7772040" cy="398880"/>
            </a:xfrm>
          </p:grpSpPr>
          <p:sp>
            <p:nvSpPr>
              <p:cNvPr id="693" name=""/>
              <p:cNvSpPr/>
              <p:nvPr/>
            </p:nvSpPr>
            <p:spPr>
              <a:xfrm>
                <a:off x="838080" y="1371600"/>
                <a:ext cx="2053080" cy="398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TIP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91160" y="1371600"/>
                <a:ext cx="3186000" cy="398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NATUREZ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077520" y="1371600"/>
                <a:ext cx="2532600" cy="398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POLARIDA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838080" y="2971440"/>
              <a:ext cx="7772040" cy="398880"/>
              <a:chOff x="838080" y="2971440"/>
              <a:chExt cx="7772040" cy="398880"/>
            </a:xfrm>
          </p:grpSpPr>
          <p:sp>
            <p:nvSpPr>
              <p:cNvPr id="697" name=""/>
              <p:cNvSpPr/>
              <p:nvPr/>
            </p:nvSpPr>
            <p:spPr>
              <a:xfrm>
                <a:off x="838080" y="2971440"/>
                <a:ext cx="205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33"/>
                    </a:solidFill>
                    <a:latin typeface="Arial"/>
                  </a:rPr>
                  <a:t>OV-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891160" y="2971440"/>
                <a:ext cx="318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33"/>
                    </a:solidFill>
                    <a:latin typeface="Arial"/>
                  </a:rPr>
                  <a:t>METIL-SILICO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077520" y="2971440"/>
                <a:ext cx="253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33"/>
                    </a:solidFill>
                    <a:latin typeface="Arial"/>
                  </a:rPr>
                  <a:t>BAIX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838080" y="3638160"/>
              <a:ext cx="7772040" cy="398880"/>
              <a:chOff x="838080" y="3638160"/>
              <a:chExt cx="7772040" cy="398880"/>
            </a:xfrm>
          </p:grpSpPr>
          <p:sp>
            <p:nvSpPr>
              <p:cNvPr id="701" name=""/>
              <p:cNvSpPr/>
              <p:nvPr/>
            </p:nvSpPr>
            <p:spPr>
              <a:xfrm>
                <a:off x="838080" y="3638160"/>
                <a:ext cx="205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"/>
                  </a:rPr>
                  <a:t>OV-1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891160" y="3638160"/>
                <a:ext cx="318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"/>
                  </a:rPr>
                  <a:t>FENIL-METIL-SILICO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077520" y="3638160"/>
                <a:ext cx="253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"/>
                  </a:rPr>
                  <a:t>MÉD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838080" y="4304520"/>
              <a:ext cx="7772040" cy="398880"/>
              <a:chOff x="838080" y="4304520"/>
              <a:chExt cx="7772040" cy="398880"/>
            </a:xfrm>
          </p:grpSpPr>
          <p:sp>
            <p:nvSpPr>
              <p:cNvPr id="705" name=""/>
              <p:cNvSpPr/>
              <p:nvPr/>
            </p:nvSpPr>
            <p:spPr>
              <a:xfrm>
                <a:off x="838080" y="4304520"/>
                <a:ext cx="205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33"/>
                    </a:solidFill>
                    <a:latin typeface="Arial"/>
                  </a:rPr>
                  <a:t>OS-13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891160" y="4304520"/>
                <a:ext cx="318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33"/>
                    </a:solidFill>
                    <a:latin typeface="Arial"/>
                  </a:rPr>
                  <a:t>POLIFENIL-É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077520" y="4304520"/>
                <a:ext cx="253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33"/>
                    </a:solidFill>
                    <a:latin typeface="Arial"/>
                  </a:rPr>
                  <a:t>MÉDIA-AL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838080" y="4971600"/>
              <a:ext cx="7772040" cy="398880"/>
              <a:chOff x="838080" y="4971600"/>
              <a:chExt cx="7772040" cy="398880"/>
            </a:xfrm>
          </p:grpSpPr>
          <p:sp>
            <p:nvSpPr>
              <p:cNvPr id="709" name=""/>
              <p:cNvSpPr/>
              <p:nvPr/>
            </p:nvSpPr>
            <p:spPr>
              <a:xfrm>
                <a:off x="838080" y="4971600"/>
                <a:ext cx="205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"/>
                  </a:rPr>
                  <a:t>CARBOWA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891160" y="4971600"/>
                <a:ext cx="318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"/>
                  </a:rPr>
                  <a:t>POLIETILENOGLIC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77520" y="4971600"/>
                <a:ext cx="253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"/>
                  </a:rPr>
                  <a:t>AL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3A3-F073-4079-BAAE-CEB735665E1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 ESTACION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9480" y="32004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METIL-SILI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685800" y="1523880"/>
          <a:ext cx="3657600" cy="9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365760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4876920" y="236232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ENIL-METIL-SILIC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948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RBOW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895480" y="5562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TL: 350</a:t>
            </a:r>
            <a:r>
              <a:rPr b="1" lang="en-US" sz="2400" spc="-1" strike="noStrike" baseline="30000">
                <a:solidFill>
                  <a:srgbClr val="666633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89548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TL: 225</a:t>
            </a:r>
            <a:r>
              <a:rPr b="1" lang="en-US" sz="2400" spc="-1" strike="noStrike" baseline="30000">
                <a:solidFill>
                  <a:srgbClr val="666633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23888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TL: 350</a:t>
            </a:r>
            <a:r>
              <a:rPr b="1" lang="en-US" sz="2400" spc="-1" strike="noStrike" baseline="30000">
                <a:solidFill>
                  <a:srgbClr val="666633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533520" y="3962520"/>
          <a:ext cx="2361960" cy="18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962520"/>
                    <a:ext cx="236196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5105520" y="3200400"/>
          <a:ext cx="2781360" cy="26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200400"/>
                    <a:ext cx="278136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222-D6E8-4990-A21E-D2E9CC3E234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 ESTACION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1666800" y="1066680"/>
          <a:ext cx="5810400" cy="48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1066680"/>
                    <a:ext cx="581040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647640" y="76212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PORAPAK</a:t>
            </a:r>
            <a:r>
              <a:rPr b="1" lang="en-US" sz="2200" spc="-1" strike="noStrike" baseline="30000">
                <a:solidFill>
                  <a:srgbClr val="000099"/>
                </a:solidFill>
                <a:latin typeface="Arial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705720" y="5562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TL: 225</a:t>
            </a:r>
            <a:r>
              <a:rPr b="1" lang="en-US" sz="2400" spc="-1" strike="noStrike" baseline="30000">
                <a:solidFill>
                  <a:srgbClr val="666633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358-B865-437B-BE79-29560156A24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ÇÃO DA FASE ESTACION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7640" y="1219320"/>
            <a:ext cx="7848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ÉTODO CLÁS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ANÁLISE DE ESTRU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INTERAÇÃO SOLUTO SOLV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TENTATIVA E ERR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47640" y="3581280"/>
            <a:ext cx="784872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 PARTIR DE 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99"/>
                </a:solidFill>
                <a:latin typeface="Arial"/>
              </a:rPr>
              <a:t>ÍNDICE DE RETENÇÃO DE KOVA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666633"/>
                </a:solidFill>
                <a:latin typeface="Arial"/>
              </a:rPr>
              <a:t>CONSTANTE DE McREYNO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CONSTANTE DE ROHRSCHNE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D5E-2B6D-4D47-A1B3-EF3098AE2FE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609480" y="304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ÇÃO DE FASES ESTACIONÁ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47640" y="8380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0000"/>
                </a:solidFill>
                <a:latin typeface="Arial"/>
              </a:rPr>
              <a:t>CONSTANTES DE McREYNO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914400" y="1981080"/>
          <a:ext cx="7391520" cy="3700440"/>
        </p:xfrm>
        <a:graphic>
          <a:graphicData uri="http://schemas.openxmlformats.org/drawingml/2006/table">
            <a:tbl>
              <a:tblPr/>
              <a:tblGrid>
                <a:gridCol w="3827520"/>
                <a:gridCol w="1847880"/>
                <a:gridCol w="17161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I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SQUAL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    BENZ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x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  n-BUTAN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    2-PENTAN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z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  NITRO-PROP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.    PIRID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  2-METIL-2-PENT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.    1-IODOBUT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   2-OCTI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.    1,4-DIOX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 CIS-HIDRIND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736" name=""/>
          <p:cNvSpPr/>
          <p:nvPr/>
        </p:nvSpPr>
        <p:spPr>
          <a:xfrm>
            <a:off x="647640" y="1295280"/>
            <a:ext cx="784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3399"/>
                </a:solidFill>
                <a:latin typeface="Verdana"/>
              </a:rPr>
              <a:t>I = I</a:t>
            </a:r>
            <a:r>
              <a:rPr b="1" lang="en-US" sz="2200" spc="-1" strike="noStrike" baseline="-25000">
                <a:solidFill>
                  <a:srgbClr val="003399"/>
                </a:solidFill>
                <a:latin typeface="Verdana"/>
              </a:rPr>
              <a:t>POLAR</a:t>
            </a:r>
            <a:r>
              <a:rPr b="1" lang="en-US" sz="2200" spc="-1" strike="noStrike">
                <a:solidFill>
                  <a:srgbClr val="003399"/>
                </a:solidFill>
                <a:latin typeface="Verdana"/>
              </a:rPr>
              <a:t> – I</a:t>
            </a:r>
            <a:r>
              <a:rPr b="1" lang="en-US" sz="2200" spc="-1" strike="noStrike" baseline="-25000">
                <a:solidFill>
                  <a:srgbClr val="003399"/>
                </a:solidFill>
                <a:latin typeface="Verdana"/>
              </a:rPr>
              <a:t>APOLAR (ESQUALAN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3520" y="586728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.E: 20% em Chromossorb W-AW; COLUNA 2 m, ¼ ID; MALHAS 80-120; 12 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D99-5E07-4696-92F6-1238FB37AA8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704880" y="838080"/>
            <a:ext cx="773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0000"/>
                </a:solidFill>
                <a:latin typeface="Arial"/>
              </a:rPr>
              <a:t>CONSTANTES DE McREYNO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800280" y="1447920"/>
          <a:ext cx="7543800" cy="4449600"/>
        </p:xfrm>
        <a:graphic>
          <a:graphicData uri="http://schemas.openxmlformats.org/drawingml/2006/table">
            <a:tbl>
              <a:tblPr/>
              <a:tblGrid>
                <a:gridCol w="220968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 </a:t>
                      </a:r>
                      <a:r>
                        <a:rPr b="1" lang="pt-BR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SQUAL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-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WAX 2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c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F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-2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0" name=""/>
          <p:cNvSpPr/>
          <p:nvPr/>
        </p:nvSpPr>
        <p:spPr>
          <a:xfrm>
            <a:off x="609480" y="304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ÇÃO DE FASES ESTACIONÁ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0D9-187C-4115-AA0A-023F2D1B445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NO DA CO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47640" y="277344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SEPARAÇÃO ISOTÉRM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7640" y="1066680"/>
            <a:ext cx="78487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RACTERÍST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TABILIDADE TÉRMICA (± 0,1°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QUECIMENTO E RESFRIAMENTO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7162920" cy="257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1FD-5F6A-4A13-96AB-F333F7E80D5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NO DA CO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2286000" y="990720"/>
            <a:ext cx="6019200" cy="4723920"/>
            <a:chOff x="2286000" y="990720"/>
            <a:chExt cx="6019200" cy="4723920"/>
          </a:xfrm>
        </p:grpSpPr>
        <p:pic>
          <p:nvPicPr>
            <p:cNvPr id="747" name="" descr=""/>
            <p:cNvPicPr/>
            <p:nvPr/>
          </p:nvPicPr>
          <p:blipFill>
            <a:blip r:embed="rId1"/>
            <a:stretch/>
          </p:blipFill>
          <p:spPr>
            <a:xfrm>
              <a:off x="2286000" y="4148640"/>
              <a:ext cx="6015960" cy="156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" descr=""/>
            <p:cNvPicPr/>
            <p:nvPr/>
          </p:nvPicPr>
          <p:blipFill>
            <a:blip r:embed="rId2"/>
            <a:stretch/>
          </p:blipFill>
          <p:spPr>
            <a:xfrm>
              <a:off x="2288520" y="2570400"/>
              <a:ext cx="6016680" cy="156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" descr=""/>
            <p:cNvPicPr/>
            <p:nvPr/>
          </p:nvPicPr>
          <p:blipFill>
            <a:blip r:embed="rId3"/>
            <a:stretch/>
          </p:blipFill>
          <p:spPr>
            <a:xfrm>
              <a:off x="2286000" y="990720"/>
              <a:ext cx="6015960" cy="156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0" name=""/>
          <p:cNvSpPr/>
          <p:nvPr/>
        </p:nvSpPr>
        <p:spPr>
          <a:xfrm flipH="1">
            <a:off x="1447920" y="1333440"/>
            <a:ext cx="380880" cy="3733920"/>
          </a:xfrm>
          <a:prstGeom prst="downArrow">
            <a:avLst>
              <a:gd name="adj1" fmla="val 50000"/>
              <a:gd name="adj2" fmla="val 245085"/>
            </a:avLst>
          </a:prstGeom>
          <a:solidFill>
            <a:srgbClr val="339966"/>
          </a:solidFill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5400000">
            <a:off x="-993240" y="3353400"/>
            <a:ext cx="43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EMPERATURA DA COL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DE2-ED95-4A51-9CBA-CF676A49D40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ÍPI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306864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422100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547640" y="3429000"/>
            <a:ext cx="546120" cy="406440"/>
            <a:chOff x="1547640" y="3429000"/>
            <a:chExt cx="546120" cy="406440"/>
          </a:xfrm>
        </p:grpSpPr>
        <p:sp>
          <p:nvSpPr>
            <p:cNvPr id="154" name=""/>
            <p:cNvSpPr/>
            <p:nvPr/>
          </p:nvSpPr>
          <p:spPr>
            <a:xfrm>
              <a:off x="1627200" y="3429000"/>
              <a:ext cx="233280" cy="17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60480" y="3486240"/>
              <a:ext cx="233280" cy="172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81280" y="3659040"/>
              <a:ext cx="233280" cy="1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47640" y="3602160"/>
              <a:ext cx="233640" cy="17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763640" y="3429000"/>
            <a:ext cx="466560" cy="406440"/>
            <a:chOff x="1763640" y="3429000"/>
            <a:chExt cx="466560" cy="406440"/>
          </a:xfrm>
        </p:grpSpPr>
        <p:sp>
          <p:nvSpPr>
            <p:cNvPr id="159" name=""/>
            <p:cNvSpPr/>
            <p:nvPr/>
          </p:nvSpPr>
          <p:spPr>
            <a:xfrm>
              <a:off x="1839960" y="3429000"/>
              <a:ext cx="233280" cy="17316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3640" y="3544920"/>
              <a:ext cx="233280" cy="1728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39960" y="3659040"/>
              <a:ext cx="233280" cy="1764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3602160"/>
              <a:ext cx="233280" cy="1746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050920" y="3429000"/>
            <a:ext cx="466920" cy="463680"/>
            <a:chOff x="2050920" y="3429000"/>
            <a:chExt cx="466920" cy="463680"/>
          </a:xfrm>
        </p:grpSpPr>
        <p:sp>
          <p:nvSpPr>
            <p:cNvPr id="164" name=""/>
            <p:cNvSpPr/>
            <p:nvPr/>
          </p:nvSpPr>
          <p:spPr>
            <a:xfrm>
              <a:off x="2128680" y="3717720"/>
              <a:ext cx="233640" cy="174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28680" y="3429000"/>
              <a:ext cx="311400" cy="173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50920" y="3544920"/>
              <a:ext cx="233640" cy="172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84560" y="3602160"/>
              <a:ext cx="233280" cy="174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822492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800280" y="990720"/>
            <a:ext cx="7734240" cy="4818240"/>
            <a:chOff x="800280" y="990720"/>
            <a:chExt cx="7734240" cy="4818240"/>
          </a:xfrm>
        </p:grpSpPr>
        <p:sp>
          <p:nvSpPr>
            <p:cNvPr id="170" name=""/>
            <p:cNvSpPr/>
            <p:nvPr/>
          </p:nvSpPr>
          <p:spPr>
            <a:xfrm>
              <a:off x="2057400" y="1371600"/>
              <a:ext cx="4656240" cy="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58000" y="114300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0280" y="5410080"/>
              <a:ext cx="75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MAIOR     </a:t>
              </a: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INTERAÇÃO COM A FASE ESTACIONÁRIA</a:t>
              </a: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     MEN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05400" y="990720"/>
              <a:ext cx="308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Tahoma"/>
                </a:rPr>
                <a:t>FLUXO DA FASE MÓ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85800" y="1598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1430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J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28A-3197-406A-83E9-85974C4113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NO DA CO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47640" y="9144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TEMPERATURA PROGRAM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657600" cy="350064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809880" cy="279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D9A-986D-4DA6-8CBA-AC71AC9CA99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DETEC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47640" y="1066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GRÁFICO DE RESPOSTA OU SINAL x T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1619280" y="1523880"/>
            <a:ext cx="5761080" cy="4137120"/>
            <a:chOff x="1619280" y="1523880"/>
            <a:chExt cx="5761080" cy="4137120"/>
          </a:xfrm>
        </p:grpSpPr>
        <p:pic>
          <p:nvPicPr>
            <p:cNvPr id="759" name="" descr=""/>
            <p:cNvPicPr/>
            <p:nvPr/>
          </p:nvPicPr>
          <p:blipFill>
            <a:blip r:embed="rId1"/>
            <a:stretch/>
          </p:blipFill>
          <p:spPr>
            <a:xfrm>
              <a:off x="1619280" y="1523880"/>
              <a:ext cx="5761080" cy="13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2"/>
            <a:stretch/>
          </p:blipFill>
          <p:spPr>
            <a:xfrm>
              <a:off x="1624320" y="2899440"/>
              <a:ext cx="5747760" cy="13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3"/>
            <a:stretch/>
          </p:blipFill>
          <p:spPr>
            <a:xfrm>
              <a:off x="1624320" y="4281120"/>
              <a:ext cx="5747760" cy="137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2" name=""/>
          <p:cNvSpPr/>
          <p:nvPr/>
        </p:nvSpPr>
        <p:spPr>
          <a:xfrm>
            <a:off x="5076720" y="566100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CROMATOGRA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27F-C062-48D9-86EF-FD85B8F4C8F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47640" y="1143000"/>
            <a:ext cx="7848720" cy="46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RACTERÍST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ELETIVID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LINEARID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ENSIBILID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NÍVEL DE RU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Arial"/>
              </a:rPr>
              <a:t>QUANTO À DESTRUIÇÃO DA AMO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DESTRU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NÃO DESTRU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16D-1285-441F-9DD5-7C4D113D826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609480" y="3808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47640" y="914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LE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2133720" cy="99072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066680" y="2666880"/>
            <a:ext cx="2133720" cy="129564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4302000" y="1600200"/>
            <a:ext cx="4232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ODAS SUBSTÂ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191120" y="3200400"/>
            <a:ext cx="4354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EL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TERMINADOS COMP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, D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876920"/>
            <a:ext cx="4495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TERMINADOS 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213372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044-3588-4DA7-9BA9-A1888CB59FF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4764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INEAR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534200" cy="363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284-ADE7-4249-97B8-8AE19BC01E9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4764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1981080" y="1474920"/>
            <a:ext cx="5181840" cy="34509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181160" y="53341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S = FATOR DE RES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5B86-6225-4B76-88ED-F4EF54E4C38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47640" y="838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81160" y="4648320"/>
            <a:ext cx="6781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DAS DE R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TAMINANTES NOS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MPUREZAS NO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ERRAMENTO ELÉTRICO D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544840" y="5313240"/>
            <a:ext cx="575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44840" y="5981760"/>
            <a:ext cx="520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296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BDA-F121-4E3C-9CBA-7E61EA283B7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8380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IS UTILIZ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70040" y="1523520"/>
            <a:ext cx="7602480" cy="3809520"/>
            <a:chOff x="770040" y="1523520"/>
            <a:chExt cx="7602480" cy="3809520"/>
          </a:xfrm>
        </p:grpSpPr>
        <p:sp>
          <p:nvSpPr>
            <p:cNvPr id="789" name=""/>
            <p:cNvSpPr/>
            <p:nvPr/>
          </p:nvSpPr>
          <p:spPr>
            <a:xfrm>
              <a:off x="770040" y="1981800"/>
              <a:ext cx="2666880" cy="12175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DCT </a:t>
              </a:r>
              <a:r>
                <a:rPr b="1" lang="en-US" sz="2800" spc="-1" strike="noStrike">
                  <a:solidFill>
                    <a:srgbClr val="808080"/>
                  </a:solidFill>
                  <a:latin typeface="Arial"/>
                </a:rPr>
                <a:t>TC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TECTOR P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DUTIVIDADE TÉRM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722920" y="1981800"/>
              <a:ext cx="2647800" cy="12175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DIC </a:t>
              </a:r>
              <a:r>
                <a:rPr b="1" lang="en-US" sz="2800" spc="-1" strike="noStrike">
                  <a:solidFill>
                    <a:srgbClr val="808080"/>
                  </a:solidFill>
                  <a:latin typeface="Arial"/>
                </a:rPr>
                <a:t>F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TECTOR POR INONIZAÇÃO DE CHA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0040" y="4115520"/>
              <a:ext cx="2666880" cy="12175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DCE </a:t>
              </a:r>
              <a:r>
                <a:rPr b="1" lang="en-US" sz="2800" spc="-1" strike="noStrike">
                  <a:solidFill>
                    <a:srgbClr val="808080"/>
                  </a:solidFill>
                  <a:latin typeface="Arial"/>
                </a:rPr>
                <a:t>EC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TECTOR POR CAPTURA DE ELÉTR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722920" y="4115520"/>
              <a:ext cx="2649600" cy="12175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EM </a:t>
              </a:r>
              <a:r>
                <a:rPr b="1" lang="en-US" sz="2800" spc="-1" strike="noStrike">
                  <a:solidFill>
                    <a:srgbClr val="808080"/>
                  </a:solidFill>
                  <a:latin typeface="Arial"/>
                </a:rPr>
                <a:t>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TECTOR POR ESPECTROMETRIA DE MAS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4579920" y="1523160"/>
              <a:ext cx="941400" cy="139716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-360 h 1397160"/>
                <a:gd name="textAreaBottom" fmla="*/ 1397160 h 139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 flipV="1">
              <a:off x="3637800" y="1523160"/>
              <a:ext cx="941400" cy="1397160"/>
            </a:xfrm>
            <a:custGeom>
              <a:avLst/>
              <a:gdLst>
                <a:gd name="textAreaLeft" fmla="*/ -360 w 941400"/>
                <a:gd name="textAreaRight" fmla="*/ 941400 w 941400"/>
                <a:gd name="textAreaTop" fmla="*/ -360 h 1397160"/>
                <a:gd name="textAreaBottom" fmla="*/ 1397160 h 139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 flipV="1">
              <a:off x="3637800" y="3886200"/>
              <a:ext cx="941400" cy="1396800"/>
            </a:xfrm>
            <a:custGeom>
              <a:avLst/>
              <a:gdLst>
                <a:gd name="textAreaLeft" fmla="*/ -360 w 941400"/>
                <a:gd name="textAreaRight" fmla="*/ 941400 w 941400"/>
                <a:gd name="textAreaTop" fmla="*/ 360 h 1396800"/>
                <a:gd name="textAreaBottom" fmla="*/ 1397520 h 139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4579920" y="3886200"/>
              <a:ext cx="941400" cy="139680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360 h 1396800"/>
                <a:gd name="textAreaBottom" fmla="*/ 1397520 h 139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304520" y="3124080"/>
              <a:ext cx="547560" cy="9907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4304520" y="2133360"/>
              <a:ext cx="547560" cy="9907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5A3-2986-4B5E-94E3-A24A47E9071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OR DE CONDUTIVIDADE TÉRMICA - 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96080" cy="304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1" name=""/>
          <p:cNvGraphicFramePr/>
          <p:nvPr/>
        </p:nvGraphicFramePr>
        <p:xfrm>
          <a:off x="1104840" y="4648320"/>
          <a:ext cx="6934320" cy="1460520"/>
        </p:xfrm>
        <a:graphic>
          <a:graphicData uri="http://schemas.openxmlformats.org/drawingml/2006/table">
            <a:tbl>
              <a:tblPr/>
              <a:tblGrid>
                <a:gridCol w="1866960"/>
                <a:gridCol w="5067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. TÉRMICA (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l/cm seg, 10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IDROGÊ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9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HÉ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9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fed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ITROGÊ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EDC-101D-4FF1-9C8A-02C9EFCC5C5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47640" y="914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NTE DE WHEAT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62560" cy="319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A027-9058-4569-94DA-95FD070F9A5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ÍPI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306864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422100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692360" y="3429000"/>
            <a:ext cx="546120" cy="406440"/>
            <a:chOff x="1692360" y="3429000"/>
            <a:chExt cx="546120" cy="406440"/>
          </a:xfrm>
        </p:grpSpPr>
        <p:sp>
          <p:nvSpPr>
            <p:cNvPr id="181" name=""/>
            <p:cNvSpPr/>
            <p:nvPr/>
          </p:nvSpPr>
          <p:spPr>
            <a:xfrm>
              <a:off x="1771920" y="3429000"/>
              <a:ext cx="233280" cy="17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05200" y="3486240"/>
              <a:ext cx="233280" cy="172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26000" y="3659040"/>
              <a:ext cx="233280" cy="1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92360" y="3602160"/>
              <a:ext cx="233640" cy="17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050920" y="3429000"/>
            <a:ext cx="466560" cy="406440"/>
            <a:chOff x="2050920" y="3429000"/>
            <a:chExt cx="466560" cy="406440"/>
          </a:xfrm>
        </p:grpSpPr>
        <p:sp>
          <p:nvSpPr>
            <p:cNvPr id="186" name=""/>
            <p:cNvSpPr/>
            <p:nvPr/>
          </p:nvSpPr>
          <p:spPr>
            <a:xfrm>
              <a:off x="2127240" y="3429000"/>
              <a:ext cx="233280" cy="17316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50920" y="3544920"/>
              <a:ext cx="233280" cy="1728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27240" y="3659040"/>
              <a:ext cx="233280" cy="1764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4200" y="3602160"/>
              <a:ext cx="233280" cy="1746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340000" y="3429000"/>
            <a:ext cx="466200" cy="463680"/>
            <a:chOff x="2340000" y="3429000"/>
            <a:chExt cx="466200" cy="463680"/>
          </a:xfrm>
        </p:grpSpPr>
        <p:sp>
          <p:nvSpPr>
            <p:cNvPr id="191" name=""/>
            <p:cNvSpPr/>
            <p:nvPr/>
          </p:nvSpPr>
          <p:spPr>
            <a:xfrm>
              <a:off x="2417400" y="3717720"/>
              <a:ext cx="233280" cy="174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17400" y="3429000"/>
              <a:ext cx="311040" cy="173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40000" y="3544920"/>
              <a:ext cx="233280" cy="172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73280" y="3602160"/>
              <a:ext cx="232920" cy="174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822492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800280" y="990720"/>
            <a:ext cx="7734240" cy="4818240"/>
            <a:chOff x="800280" y="990720"/>
            <a:chExt cx="7734240" cy="4818240"/>
          </a:xfrm>
        </p:grpSpPr>
        <p:sp>
          <p:nvSpPr>
            <p:cNvPr id="197" name=""/>
            <p:cNvSpPr/>
            <p:nvPr/>
          </p:nvSpPr>
          <p:spPr>
            <a:xfrm>
              <a:off x="2057400" y="1371600"/>
              <a:ext cx="4656240" cy="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0" y="114300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0280" y="5410080"/>
              <a:ext cx="75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MAIOR     </a:t>
              </a: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INTERAÇÃO COM A FASE ESTACIONÁRIA</a:t>
              </a: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     MEN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05400" y="990720"/>
              <a:ext cx="308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Tahoma"/>
                </a:rPr>
                <a:t>FLUXO DA FASE MÓ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" y="1598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1430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J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846-77D5-4B8A-A22D-8539525D61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47640" y="914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OR DE RES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1638360" y="2133720"/>
            <a:ext cx="5867280" cy="313344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647640" y="1523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DUTIVIDADE TÉRMICA DO ANAL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47640" y="5410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QUANTIDADES EQUIMO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888-4023-4785-BE26-F703FF84C93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4764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INEARIDADE /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8243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9C5-E52F-432B-AE15-B516836EBB2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OR POR IONIZAÇÃO DE CHAMA (D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1828800" y="996840"/>
            <a:ext cx="5334120" cy="391968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4800600" y="5029200"/>
            <a:ext cx="3809880" cy="1143000"/>
          </a:xfrm>
          <a:prstGeom prst="rect">
            <a:avLst/>
          </a:prstGeom>
          <a:solidFill>
            <a:srgbClr val="dc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9480" y="5029200"/>
            <a:ext cx="3810240" cy="1143000"/>
          </a:xfrm>
          <a:prstGeom prst="rect">
            <a:avLst/>
          </a:prstGeom>
          <a:solidFill>
            <a:srgbClr val="dc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9480" y="5105520"/>
            <a:ext cx="3627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GÁS DE ARR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ITROGÊ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DROGÊNI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5410080" y="5257800"/>
            <a:ext cx="266724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2CE-C9BB-4F65-BD38-1BF319A3AB0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OR POR IONIZAÇÃO DE CHAMA (D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5029200" y="2133720"/>
            <a:ext cx="3657240" cy="3200040"/>
            <a:chOff x="5029200" y="2133720"/>
            <a:chExt cx="3657240" cy="3200040"/>
          </a:xfrm>
        </p:grpSpPr>
        <p:pic>
          <p:nvPicPr>
            <p:cNvPr id="821" name="" descr=""/>
            <p:cNvPicPr/>
            <p:nvPr/>
          </p:nvPicPr>
          <p:blipFill>
            <a:blip r:embed="rId1"/>
            <a:stretch/>
          </p:blipFill>
          <p:spPr>
            <a:xfrm>
              <a:off x="5029200" y="2133720"/>
              <a:ext cx="1176120" cy="32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 flipH="1">
              <a:off x="5723640" y="2561400"/>
              <a:ext cx="785520" cy="24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 flipV="1">
              <a:off x="5702760" y="3387600"/>
              <a:ext cx="766440" cy="20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5723640" y="3922920"/>
              <a:ext cx="785520" cy="57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30040" y="2379240"/>
              <a:ext cx="215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Incandescê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530040" y="3462480"/>
              <a:ext cx="111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Re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30040" y="4401000"/>
              <a:ext cx="1148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Queb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655560" y="1371600"/>
            <a:ext cx="3619440" cy="39625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4800600" y="1295280"/>
            <a:ext cx="3627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ÕES DA CH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3C9-AC89-4B7C-89FE-2251D34476B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4764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INEARIDADE /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2195640" y="1676520"/>
            <a:ext cx="4968720" cy="437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E5F-A308-47F8-8776-CE2E4E755BC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OR POR CAPTURA DE ELÉTRONS (D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647640" y="1066680"/>
            <a:ext cx="7848720" cy="265932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4800600" y="4952880"/>
            <a:ext cx="3627360" cy="10796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GÁS DE ARR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ITROGÊ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ÔN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62120" y="4952880"/>
            <a:ext cx="3601800" cy="10796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FONTE DE EMIS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30000">
                <a:solidFill>
                  <a:srgbClr val="000099"/>
                </a:solidFill>
                <a:latin typeface="Arial"/>
              </a:rPr>
              <a:t>63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N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3A0-B59D-422E-9060-5734015E4A2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OR POR CAPTURA DE ELÉTRONS (D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685800" y="1182600"/>
            <a:ext cx="7918560" cy="455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F65-8A00-4E5C-B6BD-44887175ADD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OR DE MAS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72000" y="12952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52388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705800" cy="469296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468360" y="907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IPO QUADRUP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EF8-E3A7-4E69-A691-CBC1A637FC2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G-EM (GC-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572000" y="12952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52388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68360" y="90792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ROMATOGRAMA E ESPECTRO DE MAS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rcRect l="0" t="0" r="0" b="52342"/>
          <a:stretch/>
        </p:blipFill>
        <p:spPr>
          <a:xfrm>
            <a:off x="2268360" y="1484280"/>
            <a:ext cx="4680000" cy="15051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1692360" y="3511440"/>
            <a:ext cx="6119640" cy="282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9C76-F7DD-4A07-A76C-071694020E4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539640" y="1773360"/>
            <a:ext cx="814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QUALITATIVA E QUANTI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581800" cy="22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6CE-A80D-4552-9F15-E569BB8FC64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ÍPI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306864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4221000"/>
            <a:ext cx="750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92360" y="3429000"/>
            <a:ext cx="546120" cy="406440"/>
            <a:chOff x="1692360" y="3429000"/>
            <a:chExt cx="546120" cy="406440"/>
          </a:xfrm>
        </p:grpSpPr>
        <p:sp>
          <p:nvSpPr>
            <p:cNvPr id="208" name=""/>
            <p:cNvSpPr/>
            <p:nvPr/>
          </p:nvSpPr>
          <p:spPr>
            <a:xfrm>
              <a:off x="1771920" y="3429000"/>
              <a:ext cx="233280" cy="17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05200" y="3486240"/>
              <a:ext cx="233280" cy="172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26000" y="3659040"/>
              <a:ext cx="233280" cy="1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92360" y="3602160"/>
              <a:ext cx="233640" cy="17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268360" y="3429000"/>
            <a:ext cx="466560" cy="406440"/>
            <a:chOff x="2268360" y="3429000"/>
            <a:chExt cx="466560" cy="406440"/>
          </a:xfrm>
        </p:grpSpPr>
        <p:sp>
          <p:nvSpPr>
            <p:cNvPr id="213" name=""/>
            <p:cNvSpPr/>
            <p:nvPr/>
          </p:nvSpPr>
          <p:spPr>
            <a:xfrm>
              <a:off x="2344680" y="3429000"/>
              <a:ext cx="233280" cy="17316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68360" y="3544920"/>
              <a:ext cx="233280" cy="1728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44680" y="3659040"/>
              <a:ext cx="233280" cy="1764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01640" y="3602160"/>
              <a:ext cx="233280" cy="1746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627280" y="3429000"/>
            <a:ext cx="466920" cy="463680"/>
            <a:chOff x="2627280" y="3429000"/>
            <a:chExt cx="466920" cy="463680"/>
          </a:xfrm>
        </p:grpSpPr>
        <p:sp>
          <p:nvSpPr>
            <p:cNvPr id="218" name=""/>
            <p:cNvSpPr/>
            <p:nvPr/>
          </p:nvSpPr>
          <p:spPr>
            <a:xfrm>
              <a:off x="2705040" y="3717720"/>
              <a:ext cx="233640" cy="174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05040" y="3429000"/>
              <a:ext cx="311400" cy="173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27280" y="3544920"/>
              <a:ext cx="233640" cy="172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60920" y="3602160"/>
              <a:ext cx="233280" cy="174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822492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00280" y="990720"/>
            <a:ext cx="7734240" cy="4818240"/>
            <a:chOff x="800280" y="990720"/>
            <a:chExt cx="7734240" cy="4818240"/>
          </a:xfrm>
        </p:grpSpPr>
        <p:sp>
          <p:nvSpPr>
            <p:cNvPr id="224" name=""/>
            <p:cNvSpPr/>
            <p:nvPr/>
          </p:nvSpPr>
          <p:spPr>
            <a:xfrm>
              <a:off x="2057400" y="1371600"/>
              <a:ext cx="4656240" cy="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58000" y="114300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0280" y="5410080"/>
              <a:ext cx="75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MAIOR     </a:t>
              </a: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INTERAÇÃO COM A FASE ESTACIONÁRIA</a:t>
              </a: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     MEN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05400" y="990720"/>
              <a:ext cx="308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33"/>
                  </a:solidFill>
                  <a:latin typeface="Tahoma"/>
                </a:rPr>
                <a:t>FLUXO DA FASE MÓ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800" y="1598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1430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J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4360" y="3068640"/>
            <a:ext cx="30780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F53-5661-4E75-AE8E-B504D44E56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QUALI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982800" y="1523880"/>
            <a:ext cx="3257280" cy="449604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4343400" y="2649960"/>
            <a:ext cx="44956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TERAÇÃO ANALITO / F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ESSÃO DE VAPOR  ANAL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DIÇÕES OPER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47640" y="838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MPO DE RETE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19920" y="1612080"/>
            <a:ext cx="104904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t’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572000" y="5257800"/>
            <a:ext cx="426708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DENTIFICAÇÃO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E3D-4439-4BE8-840D-BEB050876F6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QUALI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47640" y="838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LAÇÃO ENTRE LOG t`R x N</a:t>
            </a:r>
            <a:r>
              <a:rPr b="1" lang="en-US" sz="2400" spc="-1" strike="noStrike" baseline="30000">
                <a:solidFill>
                  <a:srgbClr val="0000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099040" cy="501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B40-B45C-4B53-A04A-D14E1E472F8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QUALI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47640" y="838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ÉTODOS DE DETECÇÃO / IDENTIF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17760" y="1905120"/>
            <a:ext cx="673740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CROMATOGRAFIA GAS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COM DETECÇÃO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"/>
              </a:rPr>
              <a:t>ESPECTROMETRIA DE MASSAS (CG-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066680" y="1981080"/>
            <a:ext cx="457200" cy="449280"/>
          </a:xfrm>
          <a:prstGeom prst="donut">
            <a:avLst>
              <a:gd name="adj" fmla="val 25000"/>
            </a:avLst>
          </a:prstGeom>
          <a:solidFill>
            <a:srgbClr val="008000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828800" y="4114800"/>
            <a:ext cx="6324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ROMATOGRAFIA GAS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OM DETECÇÃO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NFRAVERMELHO (CG-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66680" y="4114800"/>
            <a:ext cx="457200" cy="449280"/>
          </a:xfrm>
          <a:prstGeom prst="donut">
            <a:avLst>
              <a:gd name="adj" fmla="val 25000"/>
            </a:avLst>
          </a:prstGeom>
          <a:solidFill>
            <a:srgbClr val="008000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32C-9A5E-4E96-83C6-23DD5C40AF9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QUANTI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47640" y="838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GRAÇÃO DE SI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914400" y="1406520"/>
            <a:ext cx="2260440" cy="179388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5105520" y="1411200"/>
            <a:ext cx="2454120" cy="178920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609480" y="32004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RTE E PES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876920" y="3200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LANÍ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71640" y="61657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IANGUL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52680" y="2620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,7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43800" y="2620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308720" y="5157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,5 – 4,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3"/>
          <a:stretch/>
        </p:blipFill>
        <p:spPr>
          <a:xfrm>
            <a:off x="684360" y="4149720"/>
            <a:ext cx="6408720" cy="207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5BD-43DB-4B26-8855-D2A927D0A29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QUANTI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9640" y="4581360"/>
            <a:ext cx="8207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DAS AS SUBSTÂNCIAS PRESENTES DEVEM SER EL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RESPOSTA  DO DETECTOR SIMILAR PARA TODOS COMP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09480" y="11430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ORMAL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2895480" cy="105264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468360" y="350028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A = Á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D14-0A3C-4000-A935-DBB2F2830DC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QUANTI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11280" y="9810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ATOR DE RES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3200400" cy="228276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468360" y="53737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RRIGE A RESPOSTA  DO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39640" y="4365720"/>
            <a:ext cx="820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A = Á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W = MAS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0B7-E4CD-407E-8ED0-A7DCD9B9637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609480" y="228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QUANTI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33520" y="8380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ATOR DE RES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572000" y="12952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553440" cy="24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2" name=""/>
          <p:cNvGraphicFramePr/>
          <p:nvPr/>
        </p:nvGraphicFramePr>
        <p:xfrm>
          <a:off x="914400" y="3962520"/>
          <a:ext cx="7543800" cy="2260440"/>
        </p:xfrm>
        <a:graphic>
          <a:graphicData uri="http://schemas.openxmlformats.org/drawingml/2006/table">
            <a:tbl>
              <a:tblPr/>
              <a:tblGrid>
                <a:gridCol w="990720"/>
                <a:gridCol w="1600200"/>
                <a:gridCol w="1676160"/>
                <a:gridCol w="1676520"/>
                <a:gridCol w="1600200"/>
              </a:tblGrid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c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ed2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B37-17B1-4A6A-B244-C765EAF5F6AB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QUANTI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2120" y="9907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ADRÃO 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62120" y="5867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JEITO A ERROS: INJEÇÃO, PREPARAÇÃO DO PADR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4952880" cy="428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A65-7BCF-4A53-AE8E-F9ACB3B233D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QUANTI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62120" y="9907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ADRÃO 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333760" cy="457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F46-92F4-4FD1-BA04-9E1CF01B2FB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QUANTI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62120" y="1143000"/>
            <a:ext cx="464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ADRÃO INTE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403280" y="1844640"/>
            <a:ext cx="68580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NDIÇÕES IDE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SIMILARIDADE ENTRE PADRÃO E ANAL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NCENTRAÇÃO PRÓ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TEMPO DE RETENÇÃO PRÓ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ICO SEPARADO DA AMO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IN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ÃO FAZER PARTE DA AMO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770-CD14-454D-9D15-277AD28D7F2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7T12:14:20Z</dcterms:created>
  <dc:creator>Wilson Lopes</dc:creator>
  <dc:description/>
  <dc:language>en-US</dc:language>
  <cp:lastModifiedBy>willopes</cp:lastModifiedBy>
  <dcterms:modified xsi:type="dcterms:W3CDTF">2003-09-16T12:24:54Z</dcterms:modified>
  <cp:revision>177</cp:revision>
  <dc:subject/>
  <dc:title>Apresentação do PowerPoint</dc:title>
</cp:coreProperties>
</file>