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8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96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39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46.png" ContentType="image/png"/>
  <Override PartName="/ppt/media/image6.wmf" ContentType="image/x-wmf"/>
  <Override PartName="/ppt/media/image34.wmf" ContentType="image/x-wmf"/>
  <Override PartName="/ppt/media/image41.png" ContentType="image/png"/>
  <Override PartName="/ppt/media/image9.wmf" ContentType="image/x-wmf"/>
  <Override PartName="/ppt/media/image47.png" ContentType="image/png"/>
  <Override PartName="/ppt/media/image7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12.wmf" ContentType="image/x-wmf"/>
  <Override PartName="/ppt/media/image11.wmf" ContentType="image/x-wmf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90720" y="738000"/>
            <a:ext cx="48765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92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3538-347D-46C5-908B-CFEDB1B5639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109B-5884-467A-B4D0-498FA06EBD0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580-A7C7-4763-A7C3-8BE0A723D64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019F-8E0F-4CFE-8590-5E8AAEDBAC5C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9B3-19EF-4F69-A670-FC02C422945A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CF9-A1E0-43EA-8FC2-F4D8B5FD877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5357-D316-404A-926A-E1FAC3BEEBC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2E8F-16A1-4828-A72A-DEE1B265674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8FB8-44EB-4FD8-B82B-4E448CB5D69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0C07-3962-4271-89C5-9DB8A2E3574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484-DCC3-4EF3-BBF5-755A33C770E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D37-1FFB-439C-BEAF-83DEDF07A27D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9568-F665-47E2-8CDE-4200093E1EB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921-EDAF-49FF-9ED3-8EFF7BDC455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DCA-719F-4257-B78C-D7F40946D15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B84-795E-4B61-980D-3B7FFF86A0CF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459-7166-424D-B0D6-7DC9E1A0611E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1AF-8FCA-4776-8173-5F29A9D4D521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9B0-2070-4657-A17D-1F382BF10BA1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EBE-1B39-4AE7-ADB2-8C9030E07E71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E8B-9C68-4AFD-B4A6-1154D4CAF80A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5B0-F55E-47B3-BDDC-F2652D2D633B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AC5-4A37-4E67-93F8-566114DCD798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A7AA-1F51-4501-9CA2-246A4DB350C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F80-D7D6-4FF6-8880-2F03ECEDA79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C29-33DF-44B3-9BF8-CD922B9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177-0DBF-4ABA-A00D-8C81A9CF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BAC-8830-4F28-AF57-D3D56478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26E-3E70-46CC-ABBA-9E16B5C3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1DE7-A1DA-4AC0-9B00-D0229E45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DBD-C98A-40E1-AECA-4174A62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B305-594D-425B-B8B8-4552AA8D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D17-17DC-4114-B31C-7246B98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AD29-7582-4522-94A8-67AC3CB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291-8290-4019-B760-3018626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B41D-55B4-41CF-A85E-8A23B3B8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3C1-308E-419F-848D-7C267C0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4F22-03B3-4AF7-A782-A9EEB3B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52E2-A336-4ABA-905C-DA514C4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07C-90CE-4B23-84A6-31BD9581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629-E2F5-4159-88D9-9E680162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A7A-143D-45E6-9A0B-11893D42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0E6-6A5E-423A-B2B9-DF4158F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4E4-7FD8-48F7-9AC1-4299705F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429-CB35-4E4A-A15F-550C7817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76B-520F-4E08-B846-016F829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F79-5CFF-48C1-AFB0-938E99F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CCE-7F00-4F3E-95A8-C16099A8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274-8A3F-40FD-9BE4-B03FAFD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ffffff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ffffff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CF7-3EB6-4355-A0CC-321CA917770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6F0-106E-4757-B328-AB83C1C6EAF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4.xml"/><Relationship Id="rId2" Type="http://schemas.openxmlformats.org/officeDocument/2006/relationships/slide" Target="slide94.xml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616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33"/>
                </a:solidFill>
                <a:latin typeface="Times New Roman"/>
              </a:rPr>
              <a:t>Analisadores Virtuais para Controle e Otimização de Processos</a:t>
            </a:r>
            <a:endParaRPr b="1" lang="en-US" sz="37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171936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istiano Fontes, Marcelo Embiruç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ROTEC - Processos e Tecnolog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ola Politéc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dade Federal da Ba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04000" y="1628640"/>
            <a:ext cx="1548000" cy="2148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98560" y="3951360"/>
            <a:ext cx="6337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Geilson Lima Sant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cc99"/>
                </a:solidFill>
                <a:latin typeface="Times New Roman"/>
              </a:rPr>
              <a:t>RLAM – Refinaria Landulpho A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trobrás S.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6360" y="1773360"/>
            <a:ext cx="1547640" cy="200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8000" y="546264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Lúcio Estr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cc99"/>
                </a:solidFill>
                <a:latin typeface="Times New Roman"/>
              </a:rPr>
              <a:t>Millen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2360" y="5504040"/>
            <a:ext cx="2428920" cy="733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44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NAP -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WORKSHOP NACIONAL SOBRE ANALISADORES DE PROCESSOS EM LINH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121520" y="4005360"/>
            <a:ext cx="2022480" cy="120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8000" y="6416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de Outubro de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33"/>
                </a:solidFill>
                <a:latin typeface="Times New Roman"/>
              </a:rPr>
              <a:t>Conceito e Definição de Modelagem Matemática (Identificação)</a:t>
            </a:r>
            <a:endParaRPr b="1" lang="en-US" sz="3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256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ção sistematizada, quantificada e condensada em forma de equações mate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objetivo é a construção d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quaçõ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áveis de entrada (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áveis de estado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áveis de saída (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âmetros (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 são um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resent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quemática (diagramática) 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tos fís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 Matemática = Construção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57800" y="3081240"/>
            <a:ext cx="3656160" cy="1920600"/>
            <a:chOff x="5257800" y="3081240"/>
            <a:chExt cx="3656160" cy="1920600"/>
          </a:xfrm>
        </p:grpSpPr>
        <p:sp>
          <p:nvSpPr>
            <p:cNvPr id="184" name=""/>
            <p:cNvSpPr/>
            <p:nvPr/>
          </p:nvSpPr>
          <p:spPr>
            <a:xfrm>
              <a:off x="6073920" y="3081240"/>
              <a:ext cx="1996920" cy="1920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istem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, 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5520" y="378936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7800" y="386532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1640" y="3865320"/>
              <a:ext cx="48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01160" y="3865320"/>
              <a:ext cx="48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765000"/>
            <a:ext cx="861084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 DO ESTU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Unidade de desparafinação de óleo lubrificante (RLAM – Bahia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22125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3000"/>
          </a:bodyPr>
          <a:p>
            <a:pPr marL="31896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O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120000"/>
              </a:lnSpc>
              <a:spcBef>
                <a:spcPts val="975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paração óleo-parafina em duas seções de filtros rotativos (operação em paralelo) e geração de uma corrente de parafina com 2 a 5 % de teor de óle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120000"/>
              </a:lnSpc>
              <a:spcBef>
                <a:spcPts val="975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ês tipos de carga (DNL - Destilado Neutro Leve, DNM - Destilado Neutro Médio, DAO – Destilado de Óleo rico em Aromático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1523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LUXOGRAMA DO PROCES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763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ISTEMA DE DESPARAFINAÇÃO DE ÓLEO LUBRIFICA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5800" y="2133720"/>
            <a:ext cx="7543800" cy="4572000"/>
            <a:chOff x="685800" y="2133720"/>
            <a:chExt cx="7543800" cy="4572000"/>
          </a:xfrm>
        </p:grpSpPr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75438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 flipV="1">
              <a:off x="4043880" y="5525640"/>
              <a:ext cx="1080" cy="46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228240" y="283860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OTI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120000"/>
              </a:lnSpc>
              <a:spcBef>
                <a:spcPts val="975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cessidade de estimativa e de controle em linha do teor de óleo na parafina e ponto de fluidez do óleo a jusante da seção dos filtros primár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120000"/>
              </a:lnSpc>
              <a:spcBef>
                <a:spcPts val="975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viabilidade de medição em linha desta variáveis de processo. Tempo morto elevado (análise laboratorial e ponto de amostragem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476280"/>
            <a:ext cx="845820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senvolvimento de modelos utilizando redes neurais artificiais para inferir o teor de óleo  na parafina e  ponto  de  fluidez  do  óleo  na  descarga  dos  filtros  primá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04560" y="10220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lvl="1" marL="676800" indent="-300600" algn="just"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álise preliminar a partir de dados históricos de operação (coleta de amostras na descarga da Unidade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800" indent="-300600" algn="just">
              <a:spcBef>
                <a:spcPts val="975"/>
              </a:spcBef>
              <a:buClr>
                <a:srgbClr val="cc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leta de amostras na descarga de um dos filtros primários (eliminação de tempo mort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800" indent="-300600" algn="just">
              <a:spcBef>
                <a:spcPts val="975"/>
              </a:spcBef>
              <a:buClr>
                <a:srgbClr val="cc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finição das variáveis de entrada para teor de óleo na parafina e ponto de fluidez do óle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Vazão de carg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Temperatura de carg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Temperatura de alimentação do solvente (MIBK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Vazão de alimentação do solven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Pressão  no  filtr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9080" indent="-150120" algn="just">
              <a:spcBef>
                <a:spcPts val="337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Nível  da  carga  no  filtr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9680" y="260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5" dur="1" fill="hold"/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5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5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19" dur="1" fill="hold"/>
                                  <p:tgtEl>
                                    <p:spTgt spid="5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120" dur="1" fill="hold"/>
                                  <p:tgtEl>
                                    <p:spTgt spid="52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701640" y="2760480"/>
            <a:ext cx="7610400" cy="12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lvl="1" marL="749520" indent="-374760" algn="just">
              <a:lnSpc>
                <a:spcPct val="120000"/>
              </a:lnSpc>
              <a:buClr>
                <a:srgbClr val="cc0000"/>
              </a:buClr>
              <a:buFont typeface="Times New Roman"/>
              <a:buAutoNum type="arabi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leta de dados de operação normal do processo. Variabilidade intrínseca que dispensa a necessidade de um experimento de  identificaçã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9680" y="620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611360"/>
            <a:ext cx="84582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buClr>
                <a:srgbClr val="cc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dentificação de um modelo para cada tipo de carga (DNL, DNM, DAO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38080" y="1670040"/>
            <a:ext cx="7405920" cy="27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lvl="1" marL="702720" indent="-234000" algn="just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Rede Neural com </a:t>
            </a:r>
            <a:r>
              <a:rPr b="0" lang="pt-BR" sz="3000" spc="-1" strike="noStrike" u="sng">
                <a:solidFill>
                  <a:srgbClr val="ff33cc"/>
                </a:solidFill>
                <a:uFillTx/>
                <a:latin typeface="Times New Roman"/>
                <a:hlinkClick r:id="rId1" action="ppaction://hlinksldjump"/>
              </a:rPr>
              <a:t>topologia “</a:t>
            </a:r>
            <a:r>
              <a:rPr b="0" lang="pt-BR" sz="30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feedforward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” com uma e  duas  camadas  intermediária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2720" indent="-234000" algn="just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Normalização dos dados de entrada e de saíd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27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2720" indent="-234000" algn="just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Amostras de treinamento e  teste geradas de forma randômica (229 pont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836640"/>
            <a:ext cx="8305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DELAGEM EMPÍRICA -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5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57200" y="765000"/>
            <a:ext cx="822960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480" rIns="411480" tIns="205920" bIns="20592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i="1" lang="en-US" sz="2200" spc="-1" strike="noStrike" u="sng">
                <a:solidFill>
                  <a:srgbClr val="cc0000"/>
                </a:solidFill>
                <a:uFillTx/>
                <a:latin typeface="Times New Roman"/>
              </a:rPr>
              <a:t>Resultados  para  o  Destilado  Neutro  Leve  (DN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amadas  intermediárias  com  4  e  1  neurôn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eficientes de correlaçã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mostra treinamento = 0,8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mostra teste = 0,8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rro médio relativ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mostra I = 13,4 %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mostra II = 17,9 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1100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51400" cy="3348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5608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1100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50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65800" cy="3348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1050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678200" y="327672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45680" y="45720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ICAÇÃO  DE  MODELO 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ONTO  DE  FLUIDEZ  DO  Ó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1371600"/>
            <a:ext cx="80010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ariáveis de entrad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azão de carg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mperatura de carg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mperatura de alimentação do solvente (MIBK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azão de alimentação do solv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essão  no  filtr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ível  da  carga  no  filtr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ariável  de  saída  (ponto  de  fluidez  do  óleo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dições  sempre  expressas  em  valores  inteir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ferentes  valores  de  variáveis  de  entrada  associados  ao  mesmo  valor  de  ponto  de  fluidez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4284720" cy="26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Interpretações de model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is abran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rução de 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is restrin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delos mecanís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440" y="549360"/>
          <a:ext cx="885816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9360"/>
                    <a:ext cx="88581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33"/>
                </a:solidFill>
                <a:latin typeface="Times New Roman"/>
              </a:rPr>
              <a:t>Abordagens para a construção de modelos</a:t>
            </a:r>
            <a:endParaRPr b="1" lang="en-US" sz="3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0000" y="4005360"/>
            <a:ext cx="428472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rpretações de ident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s abran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ção de 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s restrin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tura de Mod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9718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80240" cy="57610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5886360"/>
            <a:ext cx="883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BLEMA  DE  IDENTIFICAÇÃO  COMO  UM  PROBLEMA DE  RECONHECIMENTO  DE  PADRÕ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5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39200" y="152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533520"/>
            <a:ext cx="800100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Rede  neural  “feedforward”  com  6  entradas  e  13  neurônios  na  camada  de  saí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amada  intermediária  com  quantidade  de  neurônios  a  ser  testada  e  com  função de  ativação  sigmóid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Função  de  ativação  linear  nos  neurônios  de  saí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lassificação  ou  padronização  dos  valores  de   fluidez  em  1  vetores  de  saí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225520" y="3886200"/>
                <a:ext cx="326088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63868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proximar  os  valores  obtidos  para  os  neurônios  de  saída.  O  mais  alto  valor considerado  como  a  classe  correspond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146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~AUT005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473640" cy="2928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766800" y="35812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4114800"/>
            <a:ext cx="8001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ercentual  de  classificações  corretas  de  50 %  para  as  amostras  de  treinamento  e  tes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3  neurônios  na camada  intermediária  e  2000  époc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146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5118120" cy="38257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025880" y="3032280"/>
            <a:ext cx="511812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sclareciment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64960" y="533520"/>
            <a:ext cx="8868960" cy="5580360"/>
            <a:chOff x="264960" y="533520"/>
            <a:chExt cx="8868960" cy="5580360"/>
          </a:xfrm>
        </p:grpSpPr>
        <p:sp>
          <p:nvSpPr>
            <p:cNvPr id="564" name=""/>
            <p:cNvSpPr/>
            <p:nvPr/>
          </p:nvSpPr>
          <p:spPr>
            <a:xfrm>
              <a:off x="264960" y="2638440"/>
              <a:ext cx="5173200" cy="213444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úvida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u Perguntas 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19520" y="480060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4240" y="3170160"/>
              <a:ext cx="84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10080" y="37339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77320" y="3476520"/>
              <a:ext cx="285660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sclareciment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64160" y="48466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8480" y="5533920"/>
              <a:ext cx="4214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brigado pela Aten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96080" y="160020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73760" y="1266840"/>
              <a:ext cx="3062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m da exposi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1905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95480" y="5335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1600200"/>
              <a:ext cx="327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lasses Gerais de Modelos: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 VOAs x Controle de Processo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914256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dição (</a:t>
            </a: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Estimação, Inferência, VOA, </a:t>
            </a:r>
            <a:r>
              <a:rPr b="1" i="1" lang="pt-BR" sz="3000" spc="-1" strike="noStrike">
                <a:solidFill>
                  <a:srgbClr val="ffffff"/>
                </a:solidFill>
                <a:latin typeface="Times New Roman"/>
              </a:rPr>
              <a:t>Soft Sensor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lha F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lha Abert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íntese e Projeto de Sistemas de C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ção do Processo (Simul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íntese do Cont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n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adores Predi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tecip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Modelos: Diversos Tip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914256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l Utiliza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conexão entre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o Desenvolver os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Tipos de Modelos – Classificação Clássica e “Linguagens”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914256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mecaníst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s empí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s lineares x modelos não line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contínu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FT, ED, freqüência) x modelos discr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paramét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x modelos não paramét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s estacionários x modelos dinâ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eterminíst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x modelos estocá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s concentrados x modelos distribuí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33"/>
                </a:solidFill>
                <a:latin typeface="Times New Roman"/>
              </a:rPr>
              <a:t>Tipos de Modelos–A Distinção Mais Usual</a:t>
            </a:r>
            <a:endParaRPr b="1" lang="en-US" sz="3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572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nomenológ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70020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pí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920" y="2455920"/>
            <a:ext cx="374508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ét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Line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dos (às vezes distribuí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áticos (às vezes Dinâmic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ínu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2463840"/>
            <a:ext cx="53640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amétricos (FT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ou não (FI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eares (FT)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 não (R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iscretos (FT, RN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ou não (FT, Freq., R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centrados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 não (MI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inâmicos (FT)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 não (RN p/ inferênc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33440"/>
            <a:ext cx="9142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0000"/>
          </a:bodyPr>
          <a:p>
            <a:pPr marL="171360" indent="-171360" algn="ctr">
              <a:spcBef>
                <a:spcPts val="726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O que são em relação às outras Classificações (critérios)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ctr">
              <a:spcBef>
                <a:spcPts val="726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Em princípio, qualquer cois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256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s mecanísticos x modelos empíricos – “Regras Gera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mitações de tempo e necessidade de precisão e util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do o tempo e a perícia humana disponíveis é provavelmente inteligente desenvolver ambos os tipos de modelo, e compará-los entre si e com dados de planta. Em muitos casos, modelos simples, empiricamente identificados, têm revelado efeitos importantes não considerados no estágio da modelagem teórica, e portanto têm levado a um entendimento do sistema consideravelmente melh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181080" y="6308640"/>
            <a:ext cx="478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ples: Tempos Mo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6308640"/>
            <a:ext cx="547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lvl="2" marL="1062720" indent="-212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xos: Sistemas catalí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256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rência ou Control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ferência substitui a medição, e a necessidade de precisão, portanto, é grande. Em geral, os modelos são continuamente atualizados, através de medições em linha de baixa amostr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os para “controle”, em geral, não requerem grande precisão, mas têm que ser qualitativamente consistentes (sinais de ganhos, relação de velocidade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256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fer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 existem modelos fenomenológicos à disposição, utilize-os, após validação experimental e eventualmente a inclusão de parcelas empíricas para aumentar a precisão e/ou descrever fenômenos “complicados”. Ex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trox (Destilação) – Petrobr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ysys / Aspen (Destilação) – Possi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tor de Polimerização – Polit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no de Pirólise - Cop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r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não existem modelos fenomenológicos, utilize modelos empíricos. Neste caso, deve ser analisada a necessidade de considerar não linearidades (que podem ser incluídas de diversas formas: RN, NARMAX, transformação de variávei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itas vezes são considerados modelos “estacionários” para inferência, o que seria conceitualmente inconsistente (todo processo opera dinamicamente !!!). Por isso, estes modelos são, na realidade, dinâmicos, através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rasos de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é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áveis de saída como ent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Objetiv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7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os   princípios dos analisadores virtu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os princípios da modelagem matemática, pilar básico dos VO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os principais analisadores virtuais utilizados na medição contínua, especialmente as 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aplicações e limitações dos VO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scutir aspectos relacionados às informações necessárias para as inferências, sistema de  aquisição de dados, softwares utilizados, manutenção dos  modelos e aplicaç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Não Linearidade do Proc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Às vezes, a necessidade de uma dada representação do processo, conseqüência de um desempenho requerido, direciona o algoritmo a ser utili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ste caso, a questão mais relevante é a não linearida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“grau de liberdade” restante pode ser “consumido” por outros critérios, tais como robustez, facilidades existentes, etc. (p.e.: RN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versu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rincípios fundamenta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típico: Processos de neutral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típico: Reatores de Polimer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84080" y="1911240"/>
          <a:ext cx="724392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911240"/>
                    <a:ext cx="724392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31960" y="4076640"/>
          <a:ext cx="705312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076640"/>
                    <a:ext cx="70531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Não Linearidade do Proc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mplo típico: Processos de neutr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Não Linearidade do Proc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mplo típico: Reatores de Polimer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070000"/>
            <a:ext cx="35049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turbações Degrau Aplic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060720"/>
            <a:ext cx="0" cy="468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3517920"/>
          <a:ext cx="4106880" cy="28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7920"/>
                    <a:ext cx="4106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572000" y="1700280"/>
          <a:ext cx="4106880" cy="2863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00280"/>
                    <a:ext cx="4106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0" y="4021200"/>
          <a:ext cx="4106880" cy="2863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021200"/>
                    <a:ext cx="4106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 Não Linearidade do Processo e sua Nature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merização em Batel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Linearidade, não Existência de Estado de Refer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ão Adequado para FT Empí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o Fenomen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ção Adeq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T gerada a partir d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just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delos Podem Ser Util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just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ra gerar Dado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16720" y="2514600"/>
          <a:ext cx="29876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2514600"/>
                    <a:ext cx="29876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57200" y="4508640"/>
          <a:ext cx="3822840" cy="2388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08640"/>
                    <a:ext cx="38228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Que Tipo de Modelo Utilizar 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256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trole – O Algoritmo de C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 geral, a estratégia, a estrutura e os algoritmos de controle utilizados já determinam quase completamente o tipo de modelo a ser utilizado. Por ex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MC: FIR ou F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MPC: 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Ziegler-Nichols: Freqü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tecipativo: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se completamente: Modelo Fenomenoló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2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“Cara” dos Diversos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contínu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mínio do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po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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y/dt + y = kp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mínio de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aplace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y(s) =G(s)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(s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(s) = kp/(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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 +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reqü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Ku, 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iscr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mínio do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po discreto ou amostrado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) = a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-1) + kp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1-a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k-1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=exp(-Ta/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2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“Cara” dos Diversos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eterminí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s) =G(s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aleatórios ou probabilí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y(s) =G(s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s) + H(s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 paramét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(q)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) = b(q)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k-nk) + e(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odelo não paramét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posta ao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uls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gi(k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) = GI(q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k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I(q) = 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i(k)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800" spc="-1" strike="noStrike" baseline="19000">
                <a:solidFill>
                  <a:srgbClr val="ffffff"/>
                </a:solidFill>
                <a:latin typeface="Times New Roman"/>
              </a:rPr>
              <a:t>-k </a:t>
            </a:r>
            <a:r>
              <a:rPr b="0" lang="pt-BR" sz="2800" spc="-1" strike="noStrike" baseline="19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baseline="19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 = 1, ...,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2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“Cara” dos Diversos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e Parâmetros Distribuí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e Parâmetros Concent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dinâmicos </a:t>
            </a:r>
            <a:r>
              <a:rPr b="1" lang="pt-BR" sz="2700" spc="-1" strike="noStrike">
                <a:solidFill>
                  <a:srgbClr val="ffffff"/>
                </a:solidFill>
                <a:latin typeface="Times New Roman"/>
              </a:rPr>
              <a:t>ou transientes ou não estacionári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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y/dt + y = kp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estacionários ou está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 = kp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61840" y="3514680"/>
                <a:ext cx="464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-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26920" y="1859040"/>
                <a:ext cx="4237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-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“Cara” dos Diversos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Mecaní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Empíricos (Identificaç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bordagens M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84200" y="1557360"/>
                <a:ext cx="5402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,q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-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9640" y="3213000"/>
                <a:ext cx="4502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04760" y="4956120"/>
                <a:ext cx="62737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,q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N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-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“Cara” dos Diversos Tipos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Line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x/dt = A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 + B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 = c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)=a</a:t>
            </a:r>
            <a:r>
              <a:rPr b="0" lang="pt-BR" sz="2800" spc="-1" strike="noStrike" baseline="-19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-1)+...+a</a:t>
            </a:r>
            <a:r>
              <a:rPr b="0" lang="pt-BR" sz="2800" spc="-1" strike="noStrike" baseline="-19000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-n)+b</a:t>
            </a:r>
            <a:r>
              <a:rPr b="0" lang="pt-BR" sz="2800" spc="-1" strike="noStrike" baseline="-19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k-1)+...+b</a:t>
            </a:r>
            <a:r>
              <a:rPr b="0" lang="pt-BR" sz="2800" spc="-1" strike="noStrike" baseline="-19000">
                <a:solidFill>
                  <a:srgbClr val="ffffff"/>
                </a:solidFill>
                <a:latin typeface="Times New Roman"/>
              </a:rPr>
              <a:t>nb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(k-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delos Não Line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x/dt = f(x, u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 = h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y(k) = f[y(k-1), ..., y(k-na), u(k-1), ..., u(k-nb)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4880" y="4317840"/>
          <a:ext cx="691020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4317840"/>
                    <a:ext cx="69102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Programa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6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ito de Analisadores em Lin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sidade  dos analisadores em lin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os para Analisadores Virtuais e para Controle de Proces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ção e Conceituação de 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s de Modelos e de Analisadores Virt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ção Apropriada do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ção entre os Mode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nvolvimento dos Mode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ções sobre  tratament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Pergunta que Não Quer Ca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enho um Modelo Tipo “A” e Preciso de um Modelo Tipo “B”. O que faz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Regra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idere que o Modelo tipo “A” é a planta, e faça um trabalho de identificação / modelagem para gerar o Modelo tipo “B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m muitos casos, esta identificação pode ser ana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r exemplo, linearização e T.L. para obter uma F.T. a partir de um modelo não linear no domínio do t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erconexão entre Model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 Pergunta que Não Quer Calar-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empre posso obter “B” a Partir de “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Regra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mpre que as informações necessárias para desenvolver “B” estiverem contidas em “A”. Não é possível ge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modelo dinâmico a partir de um estacion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modelo não linear a partir de um li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modelo distribuído a partir de um concent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m alguns casos, as informações que faltam podem ser assumidas ou obtidas “por for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Hold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ara transformar modelos discretos em contín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mpo morto para transformar freqüência em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2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desenvolvimento de um modelo adequado para uma dada aplicação envolve diversas etapas em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m  fluxo natural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terminação de uma estrutura de model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mento de equ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os, coleta e tratamento de dad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ção de parâmetr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ção do mode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terminação de uma estrutura de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Good Identification of Real Process is na Ar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agem é uma arte (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omos um pouco artistas também!!!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, uma área na qual o engenheiro pode (e, muitas vezes, deve) exercer sua cria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s exemplos de abordagens “criativas” para o desenvolvimento de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ordagens “criativas” para Model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mplicidade e Técnicas Padrão de Identificaçã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esacoplamento da Estática e da Dinâm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utros modelos podem ser usados no lugar da R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4680" y="3079800"/>
          <a:ext cx="634032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3079800"/>
                    <a:ext cx="634032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3191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ordagens “criativas” para Model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ub-Redes Conectadas para Simplificar Modelag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3400" y="1066680"/>
          <a:ext cx="5791320" cy="57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3400" y="1066680"/>
                    <a:ext cx="579132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bordagens “criativas” para Model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Dados Experimentais de Plan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just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juste do Hysys Está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Não é Possível Simular o Hysys Dinâmico com os Dados. Como Ajustar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Dados Experimentais de Plan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just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juste de modelo Empí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Modelo Empíri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just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Geração de Dad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just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juste do Hysys Dinâmico (apenas da Dinâm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odelos Podem Ser Utilizados para gerar Dad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25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o Desenvolver os Modelo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475920"/>
            <a:ext cx="87631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eri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los Podem Ser Utilizados para gerar Dad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3529080"/>
            <a:ext cx="876276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 não para ajuste de modelo empírico dinâ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o Fenomenológico pode ser utilizado para gerar dados dinâ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34136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dos são informativos para modelagem estática e ajuste de modelo fenomenológico dinâ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664240" y="1557360"/>
          <a:ext cx="3011400" cy="20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4240" y="1557360"/>
                    <a:ext cx="30114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440" y="4076640"/>
          <a:ext cx="914400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4076640"/>
                    <a:ext cx="914400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Tratamento de Dados - Noçõ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6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f-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ortante para o desenvolvimento de bons 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n-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ortante para a Correta predição dos valores infe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dimento e Estraté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tecção de erros grosseiros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out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álises estatísticas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ff-lin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 e qualitativas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ff-lin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nciliação de dados (necessidade de modelos fenomenológ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tática e/ou dinâ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ff-sets, normalizações e análises de correlação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ff-lin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l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OAs redundantes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n-lin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nalisadores Virtuais e Correçõ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6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dores” em Malha Abe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m correção. Cômputo direto de equações algébricas ou integração de E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dores” em Malha F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rreção contínua dos modelos, a partir da disponibilidade de me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eqüentes (outras variáveis que não a de interes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reqüentes (da variável de interesse ou de outr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ias, Bias filt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tro de Kal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conciliação dinâ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mentação do erro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Programa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6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des Neurais Artificiais e Identificação de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odução. Inteligênci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urônio Biológico e Modelo de um Neurô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rquite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ei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daline – Regra Del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de Feedforward Multicam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oritmo Retropropagação. Caractreís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de com uma Camada Intermediária. Modelagem Dinâ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erimento de Ident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2560" cy="10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ftwares para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dentificação Empírica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Times New Roman"/>
              </a:rPr>
              <a:t>Praticamente todo Pacote de Análise e Projeto de Controle tem Acoplado um Pacote de Identificaçã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Times New Roman"/>
              </a:rPr>
              <a:t>Exemplo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tlab (tem R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MC (DM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tu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C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 Perfecter (tem R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M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tc., etc.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sclareciment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960" y="533520"/>
            <a:ext cx="8868960" cy="5580360"/>
            <a:chOff x="264960" y="533520"/>
            <a:chExt cx="8868960" cy="5580360"/>
          </a:xfrm>
        </p:grpSpPr>
        <p:sp>
          <p:nvSpPr>
            <p:cNvPr id="293" name=""/>
            <p:cNvSpPr/>
            <p:nvPr/>
          </p:nvSpPr>
          <p:spPr>
            <a:xfrm>
              <a:off x="264960" y="2638440"/>
              <a:ext cx="5173200" cy="213444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úvida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u Perguntas 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480060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4240" y="3170160"/>
              <a:ext cx="84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0080" y="37339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77320" y="3476520"/>
              <a:ext cx="285660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sclareciment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64160" y="48466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8480" y="5533920"/>
              <a:ext cx="4214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brigado pela Aten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96080" y="160020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3760" y="1266840"/>
              <a:ext cx="3062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m da exposi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95480" y="1905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5335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19720" y="1600200"/>
              <a:ext cx="327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3080" y="457200"/>
            <a:ext cx="7824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DES NEURAIS ARTIFICIAIS E IDENTIFICAÇÃO DE SISTEMAS</a:t>
            </a:r>
            <a:endParaRPr b="1" lang="en-US" sz="54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678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Times New Roman"/>
              </a:rPr>
              <a:t>PROGRA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MODELO DE UM NEURÔ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RQUITE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REDE  ADALINE  REGRA  DE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REDE  MULTICAM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REINAMENTO.  RETROPROPA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EXPERIMENTO DE IDENT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PLICAÇÕES. MODELAGEM  DINÂ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80800" y="304560"/>
            <a:ext cx="8678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TELIGÊNCIA  ARTIFI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33cc"/>
                </a:solidFill>
                <a:latin typeface="Times New Roman"/>
              </a:rPr>
              <a:t>ESTUDA  COMO  AS  PESSOAS  RESOLVEM  PROBLEMAS  E  COMO  AS  MÁQUINAS  PODEM  EMULAR  ESTE  COMPORTAMENTO  HUMANO  DE  “SOLUÇÃO  DE  PROBLEMAS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80"/>
                </a:solidFill>
                <a:latin typeface="Times New Roman"/>
              </a:rPr>
              <a:t>COMO  FAZER  COM  QUE  AS  MÁQUINAS  SEJAM  MAIS  ATRIBUÍDAS  DE  CARACTERÍSTICAS  DA  INTELIGÊNCIA  HUMAN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80800" y="304560"/>
            <a:ext cx="8678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MA  RNA  É  UMA  MÁQUINA  QUE  MIMETIZA  A  MANEIRA  PELA QUAL  O  CÉREBRO  EXECUTA  UMA  TAREF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MA  RNA  É  UMA  SUBSESPECIALIDADE  DA  INTELIGÊNCIA  ARTIFICIA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SSE  OU  ESTRUTURA  DE  MODELOS  MATEMÁTICOS  PARA  PROBLEMAS  DE  IDENTIFICAÇÃO  OU  MESMO  RECONHECIMENTO  DE  PADRÕ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560" y="189000"/>
            <a:ext cx="3722400" cy="256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270828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urônio  constituído  de  DENTRITOS,  CONEXÕES  SINÁPTICAS  DE  ENTRADA  E  DE  SAÍDA  E  AXÔN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urônio  biológico  como  um  dispositivo  elementar  do  sistema  nervoso  COM  MUITAS  ENTRADAS (impulsos  nervosos  transmitidos  através  das  conexões  sinápticas) E  UMA  SAÍDA  (impulso  nervoso  no  axôni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equência  média  de  impulsos  nervosos  em  um  intervalo  de  tempo  T  representa  a  integração  espacial-temporal  de  toda  a  atividade  de  entrada  na  árvore  dentrita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504800" y="5502240"/>
                <a:ext cx="5731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nhos 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SOS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sinápti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ais   de   entrad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3921120" y="909720"/>
            <a:ext cx="51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33cc"/>
                </a:solidFill>
                <a:uFillTx/>
                <a:latin typeface="Times New Roman"/>
              </a:rPr>
              <a:t>RNA   E   O  NEURÔNIO   BIOLÓGIC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26028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UNÇÕES  DE  ATIVA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50880" y="1795320"/>
                <a:ext cx="8088480" cy="32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</m:t>
                        </m:r>
                        <m:r>
                          <m:t xml:space="preserve">⇒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monotônica    e   sem  efeitos   de  saturaçã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RAU  UNITÁRIO</m:t>
                        </m:r>
                        <m:r>
                          <m:t xml:space="preserve">⇒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→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e   v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80800" y="304560"/>
            <a:ext cx="867852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900" spc="-1" strike="noStrike" u="sng">
                <a:solidFill>
                  <a:srgbClr val="ffffff"/>
                </a:solidFill>
                <a:uFillTx/>
                <a:latin typeface="Times New Roman"/>
              </a:rPr>
              <a:t>UMA  RNA  É  UM  PROCESSADOR  DISTRIBUÍDO,  COM  UNIDADES  DE  PROCESSAMENTO  CONECTADAS,  E  QUE  POSSUI  A  CAPACIDADE  DE  ARMAZENAR  EXPERIÊNCIA  (CONHECIMENTO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26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Times New Roman"/>
              </a:rPr>
              <a:t>O conhecimento  é  adquirido  através  de  um  processo  de  treinament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26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Times New Roman"/>
              </a:rPr>
              <a:t>A  intensidade  das  conexões  entre  os  diferentes  neurônios  (PESOS  SINÁPTICOS)  são  usadas  para  armazenar  o  conhecimento.  Portanto,  as  modificações  ou  ajustes  dos  pesos  sinápticos  oferecem  um  método  tradicional  de  projeto  ou  treinamento  de redes  neurais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83960" y="115560"/>
            <a:ext cx="886284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26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Não linearidad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Importante  para  o  aprendizado  de  sistemas  inerentemente  não-linear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26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Mapeamento entrada-saíd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Treinamento  supervisionado  a  partir  de  exemplos  do  sistema  real  que  será  identificad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26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Adaptatividad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Adpatar  os  pesos  diante  de  alterações  na  vizinhanç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26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Capacidade de generaliza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ffffff"/>
                </a:solidFill>
                <a:latin typeface="Times New Roman"/>
              </a:rPr>
              <a:t>Bom  desempenho para  amostras  de  dados  não  inseridas  no  processo  de  aprendizagem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Programa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6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s de aplicações industriais: vantagens e desvant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eriência da RL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ções sobre 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uidados espe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erfil da equipe de manutençã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e redes neurais na modelagem de Melt Index de polietilenos - Experiências na Politeno e na Millen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ncipais Dificul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ultados e noções sobre validação dos analisadores em lin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delagem Empírica de um Sistema de Desparafinação de Óleo Lubrificante Usando Redes Neurais Artifi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ODELO DE UM NEURÔNI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1523880"/>
          <a:ext cx="9144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ELEMENTOS DE UM NEURÔNIO</a:t>
            </a:r>
            <a:endParaRPr b="1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80800" y="914040"/>
            <a:ext cx="88628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Conjunto de pesos sinápticos ou simplesmente parâmetros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t-BR" sz="3000" spc="-1" strike="noStrike" baseline="-25000">
                <a:solidFill>
                  <a:srgbClr val="ffffff"/>
                </a:solidFill>
                <a:latin typeface="Times New Roman"/>
              </a:rPr>
              <a:t>kj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quantifica a influência da entrada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 sobre o neurônio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Bloco de adição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492360" y="2362320"/>
                <a:ext cx="33735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81160" y="3809880"/>
            <a:ext cx="8862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Limiar de ativação (ou  “bias”) </a:t>
            </a:r>
            <a:r>
              <a:rPr b="0" i="1" lang="pt-BR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pt-BR" sz="3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qüivale à uma translação do sinal de entrada, e sua inclusão é analiticamente similar à inserção de uma nova entrada unitária com peso </a:t>
            </a:r>
            <a:r>
              <a:rPr b="0" i="1" lang="pt-BR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pt-BR" sz="3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03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ÇÃO DE ATIV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CLASS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erenciável ou não diferenciá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a ou média z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Funções SIGMÓIDE E TANGENTE HIPERBÓ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75440" y="380880"/>
                <a:ext cx="1195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343160" y="3886200"/>
                <a:ext cx="30146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12920" y="5259240"/>
                <a:ext cx="52038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19080" y="-27000"/>
            <a:ext cx="4924440" cy="4000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19560" y="2852640"/>
            <a:ext cx="4924440" cy="400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703080" y="380520"/>
            <a:ext cx="78786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ÇÕES SIGMÓIDE E TANG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PERBÓL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ÍNUAS E LIMIT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ERENCI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ÇÃO TANGENTE HIPERBÓLICA É DE MÉDIA Z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ÇÃO SIGMÓIDE  É POSI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03080" y="380520"/>
            <a:ext cx="787860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QUITE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 maneira  na  qual  uma  Rede  é  estruturada  está  diretamente  relacionada  com  o  algoritmo  de  aprendizagem  utiliz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EDE  FEEDFORWARD  COM  UMA  CAMADA  INTERMEDIÁ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Uma  camada   de  entrada ,  uma  camada  intermediária  e  uma  camada  de  saída.  A  camada  intermediária  eleva  o  potencial  de  ajuste  através  da   inclusão  de  novos  pesos  (parâmetros)  e  da  elevação  dos  níveis  de  conexão  entre  os  neurôn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usência  de  retroalimentação  de  si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9480" y="3645000"/>
            <a:ext cx="2664000" cy="31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703080" y="380520"/>
            <a:ext cx="7878600" cy="29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QUITE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DE  RECOR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istência  de   malha  de  realimentação.  A  realimentação pode  ser  gerada  a  partir  de  um  neurônio  intermediário  ou  de  um  neurônio  de  saí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rutura  essencialmente  dinâmica  para  a  predição  de  uma  variável  múltiplos  passos  a  fr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705200" y="3429000"/>
            <a:ext cx="3849840" cy="33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561960" y="304560"/>
            <a:ext cx="8159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EINAMENTO DE UMA 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APRENDIZAGEM É UM PROCESSO PELO QUAL OS PARÂMETROS LIVRES DE UMA REDE NEURAL SÃO ADAPTADOS ATRAVÉS DE UM PROCEDIMENTO CONTÍNUO DE ESTIMULAÇÃO PROVOCADO PELA  VIZINHANÇA NA QUAL A REDE ESTÁ INSERIDA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  PRINCIPAL  OBJETIVO  DE  UMA  REDE  É  ADQUIRIR  CONHECIMENTO  A  RESPEITO  DO  SISTEMA  A  SER  ESTUDAD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561960" y="304560"/>
            <a:ext cx="8159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PRENDIZAGEM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STÍMULO</a:t>
            </a:r>
            <a:r>
              <a:rPr b="0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APTAÇÃO</a:t>
            </a:r>
            <a:r>
              <a:rPr b="0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NOVO  COMPORTAMENT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LGORITMO  DE  APRENDIZAGEM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ETERMINARÁ  A  MANEIRA  COMO  AO  AJUSTES  DOS  PARÂMETROS  SERÃO  REALIZA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ALGORITMO  SUPERVISIONADO  DE  CORREÇÃO  DE  ERROS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BLEMA   DE  OTIMIZAÇÃO  QUE  MINIMIZA  O  ERRO  ENTRE  OS  VALORES  PREDITOS  PELA  RNA  E  OS  VALORES  DE  SAÍDA  APRESENTADOS  DURANTE  O  TREINAMENTO.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1600" y="304920"/>
            <a:ext cx="7878600" cy="60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EINAMENTO DE UMA 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IMAÇÃO DOS PESOS SINÁPTICOS E DOS LIMIARES DE ATIVAÇÃO, CONFORME UM ALGORITMO PRÉ-ESTABELEC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GORITMO SUPERVISIONA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S PARÂMETROS SÃO MODIFICADOS ATRAVÉS DA APRESENTAÇÃO DE SUCESSIVOS EXEMP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DA  PAR  ENTRADA-SAÍ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TOR DA CAMADA DE ENTRADA + VETOR DA CAMADA DE SAÍ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3280" y="304920"/>
            <a:ext cx="7948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20960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33"/>
                </a:solidFill>
                <a:latin typeface="Times New Roman"/>
              </a:rPr>
              <a:t>Introdução a Analisadores Virtuais e Modelos para Controle e Otimização de Processos</a:t>
            </a:r>
            <a:endParaRPr b="1" lang="en-US" sz="37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61760" y="30877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celo Embiruç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ROTEC - Processos e Tecnolog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ola Politéc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dade Federal da Ba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04000" y="2997360"/>
            <a:ext cx="1548000" cy="21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36360" y="3141720"/>
            <a:ext cx="1547640" cy="200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8000" y="6416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de Outubro de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NAP -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WORKSHOP NACIONAL SOBRE ANALISADORES DE PROCESSOS EM LINH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82480" y="333360"/>
            <a:ext cx="78789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DALINE  -  REGRA  DELTA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 ADALINE  (“ADAptative  LINear  Element”)  representa   uma  forma  de  se  gerar  um  modelo  cuja  saída  é  uma  combinação  linear  das  entr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blema:  p  entradas  que  são  ponderadas  por  p  pesos  específicos .  A  soma  ponderada  produz  como  a  saída  predita  pela  Rede.  O  objetivo  é  calcular  os  pesos  de  forma  a  minimizar  a  diferença  entre  o  valor  predito  e  o  valor  real  para  a  variável  de 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644920" y="4005360"/>
            <a:ext cx="3714480" cy="278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71480" y="465120"/>
                <a:ext cx="51627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odelo   proposto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erro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unção  objetiv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15840" y="3157560"/>
                <a:ext cx="72630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rPr>
                            <m:lit/>
                            <m:nor/>
                          </m:rPr>
                          <m:t xml:space="preserve">observaçõe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  exemplo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⋅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i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dição</m:t>
                        </m:r>
                        <m:r>
                          <m:t xml:space="preserve">⇒</m:t>
                        </m:r>
                        <m:r>
                          <m:t xml:space="preserve">∇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ou  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6600" y="900000"/>
                <a:ext cx="90140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</m:t>
                        </m:r>
                        <m:r>
                          <m:t xml:space="preserve">⋮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⋮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SISTEMA   LINEAR   COM   p   EQUAÇÕ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QUAÇÕES    DE    WIENER-HOPF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82480" y="115920"/>
            <a:ext cx="78789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gra  delta  ou  gradiente  descen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ante  da  possibilidade  de  mal  condicionamento,  pode-se  caminhar  pela  superfície  da  função  objetivo  em  direção  ao  ponto  de  mínimo,  evoluindo  sempre  no  sentido  oposto  ao  do  gradiente  em  cada  ponto.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justes  sucessivos  dos  pesos  (método  iterativo) no  sentido  oposto  ao  vetor  gradiente   da  função  obje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 próximo  valor  do  peso,  calculado  na  i-ésima  iteração,  será  igual  à  soma  do  valor  atual   mais  uma  correção   que  é  proporcional  à  negativa  do  gradiente  da  função  erro  (função  objetivo),  em  relação  ao  peso  espec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627280" y="5516640"/>
                <a:ext cx="46180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,     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Taxa  de  aprendizag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03080" y="9000"/>
            <a:ext cx="78786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ffffff"/>
                </a:solidFill>
                <a:uFillTx/>
                <a:latin typeface="Times New Roman"/>
              </a:rPr>
              <a:t>Característica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étodo  baseado  no  erro  global  (todos  os  exempl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cursor  do  método  da  retropropag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 taxa  de  aprendizagem  define  o  tamanho  do  passo  efetuado  na  direção  do  gradiente  descen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 eficiência  do  método  depende  da  escolha  adequada  do  ponto  de  partida  e  da  taxa  de  aprendizagem,  podendo  existir  convergência  oscilatória  ou  mesmo  diverg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03080" y="9000"/>
            <a:ext cx="78786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de  feedforward  multicama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junto  de  neurônios  de  entrada,  uma  ou  mais  camadas  intermediárias  e  uma  camada  de 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  modelo  de  cada  neurônio  inclui  uma  não  linearidade  representada  pela  função  sigmóide  (suave  e  diferenciáve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 rede contém  uma  ou  mais  camadas  intermediárias  que  não  fazem  parte  diretamente  na  entrada  e  saída  da  rede.  Estes  neurônios  intermediários  elevam  a  capacidade  de  extrair  maiores  informações  dos  exemplos  de  treina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  rede  apresenta  um  elevado  grau  de  conectividade,  ponderadas  pelos  pesos  sinápt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  algoritmo  da  RETROPROPAGAÇÃO  (“BACKPROPAGATION”)  representa  uma  marca  importante  no  sentido  de  viabilizar  computacionalmente  o  treinamento  de  uma  rede  com  uma  ou  mais  camadas  intermediá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14480" y="4365720"/>
            <a:ext cx="453384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2480" y="333360"/>
            <a:ext cx="78789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lgoritmo  da  retropropag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O AJUSTE DOS PARÂMETROS É FEITO A CADA PAR DE EXEMPLOS DE ACORDO COM O QUADRADO DO ERRO COMPUTADO   A  CADA  APRESENTAÇÃO  DE  EXEMPLO  ENTRADA  SAÍDA.  UMA  ÉPOCA   DE  APRESENTAÇÃO  REPRESENTA  UMA  AMOSTRA  DE  TREINAMENTO  COMPLETA.  VÁRIAS  ÉPOCAS  SÃO  APRESENTADAS  DURANTE   O  TREINAMENTO    DE  UMA  RED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187280" y="5229360"/>
                <a:ext cx="6218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erro  quadrado  médio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manho  da  amostra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 época  de  apresentaçã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209600" y="3486240"/>
                <a:ext cx="675180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oma   instantânea  do  quadrado  dos  erro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na   camada   de   saíd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17520" y="333000"/>
            <a:ext cx="541512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TUALIZAÇÃO DOS PARÂME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154160" y="836640"/>
                <a:ext cx="6757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neurônio  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IGE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e   neurônio  k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314360" y="1773360"/>
            <a:ext cx="773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-ésima iteração ou insta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314360" y="2522520"/>
                <a:ext cx="402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317520" y="3460680"/>
            <a:ext cx="858204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é a taxa de aprendizage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 é a saída ou nível de ativação do neurônio j (localizado na camada imediatamente anterior à do neurônio k e que está conectado a este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o gradiente local do neurônio 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561600" y="304920"/>
            <a:ext cx="8582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E LOCAL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   NEURÔNIO  É  DA  CAMADA  DE   SAÍD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474920" y="2133720"/>
                <a:ext cx="4295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0" y="3124080"/>
            <a:ext cx="85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  NEURÔNIO  NÃO  É  DA  CAMADA   DE   SAÍD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406520" y="3809880"/>
                <a:ext cx="4924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492120" y="5410080"/>
            <a:ext cx="865188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A PODENRADA DOS GRADIENTES LOCAIS DOS NEURÔNIOS DA CAMADA SUBSEQU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464832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61600" y="0"/>
            <a:ext cx="85820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BSERVA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algoritmo da retropropagação possui este nome pelo fato do sinal de erro ser retropropagado ao longo da Re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uas 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 frente.  Pesos  sinápticos  inalterados  e  funções  de  ativação  são  comput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 trás. Inicia-se  na  camada  de  saída  e  evolui  para  as  camadas  anteriores,  tendo-se  a  computação  dos  erros  da  camada  e  o  ajuste  dos  pesos,  a  partir  do  cálculo  recursivo  dos  gradientes  locais  de  cada  neurôn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144000" cy="620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eito de Analisadores em Lin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lisadores em linha são modelos e equações matemáticas que são resolvidos continuamente, em linha, utilizando valores medidos de determinadas variáveis, com o objetivo de calcular uma outra variável, cujo valor não é fornecido ao modelo, ou é fornecido em uma freqüência menor do que aquela calculada pelo mod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as Denominações Com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OA (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Virtual On-line Analyze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oft Senso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sensor baseado em algoritm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fer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imador de estados e variá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61600" y="0"/>
            <a:ext cx="85820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leração do processo de aprendizag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ra delta generalizad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ação de funções de ativação simétricas como a tangente hiperbólica (imagem entre –1 e 1), ao invés de funções não simétricas como a sigmó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ação de dados reais da variável de saída próximos do conjunto imagem da função de ativ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cialização de parâmetros uniformemente distribuída e dentro de uma pequena faix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ção randômica da ordem dos exemplos após a apresentação de cada époc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561600" y="0"/>
            <a:ext cx="85820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ICIÊNCIAS DO ALGORITMO DA RETROPROPAG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lisação do treinamen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ínimo lo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o de treinamento. Como alternativas destacam-se o ajuste da topologia  e o ajuste da taxa de aprendiz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03080" y="0"/>
            <a:ext cx="7878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de  feedforward  com  uma  camada  intermedi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79360" y="1447920"/>
          <a:ext cx="91440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4479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03080" y="-360"/>
            <a:ext cx="78786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PENAS UMA CAMADA INTERMEDIÁRIA COM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1" i="1" lang="pt-BR" sz="28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NEURÔN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TRIZES DE PESOS SINÁPT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338120" y="2057400"/>
                <a:ext cx="478332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336680" y="4491000"/>
                <a:ext cx="4994280" cy="23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74360" y="380880"/>
            <a:ext cx="7875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AMENTO DOS SI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195560" y="990720"/>
                <a:ext cx="54864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335240" y="2209680"/>
                <a:ext cx="53449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844560" y="3733920"/>
            <a:ext cx="780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TAL DE PARÂMETROS (PESOS SINÁPTICOS E LIMIAR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914400" y="5181480"/>
                <a:ext cx="7810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74360" y="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ELAGEM DINÂ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NTIFICAÇÃO DE MODELO MI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15840" y="1019160"/>
          <a:ext cx="7878960" cy="58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019160"/>
                    <a:ext cx="78789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561600" y="0"/>
            <a:ext cx="85820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O DE IDENT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ÇÃO DO SINAL EXCITAT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AL DE AMPLITUDE RANDÔMICA AO INVÉS DE UM SINAL DO TIPO PRBS (“PSEUDO-RANDOM BINARY SIGNAL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ÍODO DE AMPLITUDE CONSTA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PLITUDE MÁX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COLHA DO PERÍODO DE AMOSTRAG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ÇÃO DO MODE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ÇÃO CRUZADA. GERAÇÃO DE AMOSTRAS DE TESTE ALÉM DA AMOSTRA DE TREIN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561600" y="380520"/>
            <a:ext cx="85820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NA COM APENAS UMA CAMADA INTERMEDI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TENÇÃO DAS AMOSTRAS DE TREINAMENTO E TES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ÇÃO DO NÚMERO DE NEURÔNIOS NA CAMADA INTERMEDIÁ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ÇÃO DA QUANTIDADE DE ÉPOCAS TREINADAS QUE FORNECE O MELHOR DESEMPENHO PARA AS AMOSTRAS DE TES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ALIAÇÃO DO MODELO IDENTIFICADO PARA A PREDIÇÃO DE MÚLTIPLOS PASSOS A F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1960" y="4419720"/>
            <a:ext cx="8582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33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sclareciment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4960" y="533520"/>
            <a:ext cx="8868960" cy="5580360"/>
            <a:chOff x="264960" y="533520"/>
            <a:chExt cx="8868960" cy="5580360"/>
          </a:xfrm>
        </p:grpSpPr>
        <p:sp>
          <p:nvSpPr>
            <p:cNvPr id="385" name=""/>
            <p:cNvSpPr/>
            <p:nvPr/>
          </p:nvSpPr>
          <p:spPr>
            <a:xfrm>
              <a:off x="264960" y="2638440"/>
              <a:ext cx="5173200" cy="213444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úvida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u Perguntas 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19520" y="480060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94240" y="3170160"/>
              <a:ext cx="84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7339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77320" y="3476520"/>
              <a:ext cx="285660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sclareciment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64160" y="48466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480" y="5533920"/>
              <a:ext cx="4214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brigado pela Aten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96080" y="160020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3760" y="1266840"/>
              <a:ext cx="3062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m da exposi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95480" y="1905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5480" y="5335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19720" y="1600200"/>
              <a:ext cx="327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1" lang="en-US" sz="3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609480"/>
            <a:ext cx="82296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N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WORKSHOP NACIONAL SOBRE ANALISADORES DE PROCESSOS EM LINH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9760" y="5318280"/>
            <a:ext cx="28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ucio Estre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g. Controle de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illennium Chemic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1320" y="43419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 de Outubro, 200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144000" cy="620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ecessidade dos Analisadores em lin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existe tecnologia disponível para medir uma determinada variá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existe tecnologia disponível para medir determinada variável em lin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medidores em linha existente apresenta deficiê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lta de Pr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aixa Robustt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 Econô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to custo de capi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to custo de manuten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binação das causas anteri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21840" y="2274840"/>
            <a:ext cx="26200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Int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rocesso Polit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MI&amp;Dens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Objetivos / Me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rincipais Dificul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Model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esultados Obt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1" lang="en-US" sz="1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21120" y="1600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343400"/>
            <a:ext cx="1447920" cy="4572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RUS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7" idx="3"/>
            <a:endCxn id="408" idx="1"/>
          </p:cNvCxnSpPr>
          <p:nvPr/>
        </p:nvCxnSpPr>
        <p:spPr>
          <a:xfrm>
            <a:off x="5866920" y="3557160"/>
            <a:ext cx="686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4343400" y="3176640"/>
            <a:ext cx="1523880" cy="7621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SORVE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3176640"/>
            <a:ext cx="1447920" cy="7621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39760" y="3176640"/>
            <a:ext cx="1447920" cy="7621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SORVE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9" idx="3"/>
            <a:endCxn id="411" idx="1"/>
          </p:cNvCxnSpPr>
          <p:nvPr/>
        </p:nvCxnSpPr>
        <p:spPr>
          <a:xfrm>
            <a:off x="2587680" y="3557160"/>
            <a:ext cx="3578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11" idx="3"/>
            <a:endCxn id="407" idx="1"/>
          </p:cNvCxnSpPr>
          <p:nvPr/>
        </p:nvCxnSpPr>
        <p:spPr>
          <a:xfrm>
            <a:off x="4087800" y="3557160"/>
            <a:ext cx="25596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8" idx="2"/>
            <a:endCxn id="405" idx="0"/>
          </p:cNvCxnSpPr>
          <p:nvPr/>
        </p:nvCxnSpPr>
        <p:spPr>
          <a:xfrm flipV="1" rot="10800000">
            <a:off x="7276320" y="3938400"/>
            <a:ext cx="1080" cy="405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7391520" y="1066680"/>
            <a:ext cx="1447560" cy="7621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IPP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2133720"/>
            <a:ext cx="1752480" cy="7617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UPER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SOLVEN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05" idx="3"/>
            <a:endCxn id="414" idx="3"/>
          </p:cNvCxnSpPr>
          <p:nvPr/>
        </p:nvCxnSpPr>
        <p:spPr>
          <a:xfrm flipV="1">
            <a:off x="8001000" y="1447560"/>
            <a:ext cx="838800" cy="3124800"/>
          </a:xfrm>
          <a:prstGeom prst="bentConnector3">
            <a:avLst>
              <a:gd name="adj1" fmla="val 12726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4" idx="0"/>
            <a:endCxn id="415" idx="3"/>
          </p:cNvCxnSpPr>
          <p:nvPr/>
        </p:nvCxnSpPr>
        <p:spPr>
          <a:xfrm rot="5400000">
            <a:off x="5923800" y="323640"/>
            <a:ext cx="1448640" cy="2934720"/>
          </a:xfrm>
          <a:prstGeom prst="bentConnector4">
            <a:avLst>
              <a:gd name="adj1" fmla="val -15784"/>
              <a:gd name="adj2" fmla="val 6233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4" idx="2"/>
            <a:endCxn id="419" idx="0"/>
          </p:cNvCxnSpPr>
          <p:nvPr/>
        </p:nvCxnSpPr>
        <p:spPr>
          <a:xfrm flipV="1" rot="10800000">
            <a:off x="8114760" y="1828440"/>
            <a:ext cx="1080" cy="534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5" idx="1"/>
            <a:endCxn id="409" idx="0"/>
          </p:cNvCxnSpPr>
          <p:nvPr/>
        </p:nvCxnSpPr>
        <p:spPr>
          <a:xfrm flipV="1" rot="10800000">
            <a:off x="1863000" y="2513520"/>
            <a:ext cx="1566000" cy="6627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2057400" y="5562720"/>
            <a:ext cx="1219320" cy="38088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TE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21" idx="1"/>
            <a:endCxn id="409" idx="2"/>
          </p:cNvCxnSpPr>
          <p:nvPr/>
        </p:nvCxnSpPr>
        <p:spPr>
          <a:xfrm rot="10800000">
            <a:off x="1863000" y="3938040"/>
            <a:ext cx="194400" cy="18151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2057400" y="6019920"/>
            <a:ext cx="1219320" cy="38088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TE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3" idx="1"/>
            <a:endCxn id="409" idx="2"/>
          </p:cNvCxnSpPr>
          <p:nvPr/>
        </p:nvCxnSpPr>
        <p:spPr>
          <a:xfrm rot="10800000">
            <a:off x="1863000" y="3938040"/>
            <a:ext cx="194400" cy="22723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8" idx="0"/>
            <a:endCxn id="415" idx="3"/>
          </p:cNvCxnSpPr>
          <p:nvPr/>
        </p:nvCxnSpPr>
        <p:spPr>
          <a:xfrm flipV="1" rot="16200000">
            <a:off x="5897520" y="1797120"/>
            <a:ext cx="662760" cy="2096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2944800" y="3176640"/>
            <a:ext cx="1143000" cy="7621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1143000" cy="60948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4471920"/>
            <a:ext cx="1447560" cy="3049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ALIS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6" idx="0"/>
            <a:endCxn id="411" idx="2"/>
          </p:cNvCxnSpPr>
          <p:nvPr/>
        </p:nvCxnSpPr>
        <p:spPr>
          <a:xfrm flipH="1" flipV="1" rot="5400000">
            <a:off x="2920320" y="3875400"/>
            <a:ext cx="533880" cy="65952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572000" y="5562720"/>
            <a:ext cx="1504800" cy="733320"/>
          </a:xfrm>
          <a:prstGeom prst="borderCallout2">
            <a:avLst>
              <a:gd name="adj1" fmla="val 18750"/>
              <a:gd name="adj2" fmla="val -8333"/>
              <a:gd name="adj3" fmla="val 15449"/>
              <a:gd name="adj4" fmla="val -27532"/>
              <a:gd name="adj5" fmla="val -221879"/>
              <a:gd name="adj6" fmla="val -50824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os para MI, Densidade e Conversã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343400"/>
            <a:ext cx="1733760" cy="3070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117763"/>
              <a:gd name="adj5" fmla="val -162759"/>
              <a:gd name="adj6" fmla="val 131759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os para M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852200" y="5302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105520"/>
            <a:ext cx="838080" cy="38088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E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2448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6280" y="157320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CESSO POLIT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22920" y="119232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8080" y="11923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INTRODUÇÃO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6280" y="1801800"/>
            <a:ext cx="6651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Melt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edida indireta do peso molecular do polímero, expresso em g/10mi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lacionado com as propriedades mecânicas do polietil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É analisado em laboratório a cada ho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Den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Densidade do polímero, expressa em g/cm</a:t>
            </a:r>
            <a:r>
              <a:rPr b="0" lang="pt-BR" sz="16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Junto com o MI define a aplicação final do polietil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É função da concentração de comonôm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É analisado em laboratório a cada 2 hor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74480" y="119232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1600200"/>
            <a:ext cx="76964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edição de MI, com modelo baseado nas variáveis da extruso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edição instantânea de MI, com modelo baseado nas variáveis do re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edição instantânea de Densidade, com modelo baseado nas variáveis do re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4287960"/>
            <a:ext cx="76964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dução da dispersão em 5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dução das análises de laboratório em 5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timização das transições (Redução de produto fora de especificaçã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3040" y="390672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3400" y="1192320"/>
            <a:ext cx="29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INCIPAIS DIFICUL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1905120"/>
            <a:ext cx="7696440" cy="37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s propriedades do polietileno são analisadas em laboratório, em uma freqüência muito menor que o tempo de residência do reator, as vezes com horas de atraso, além de serem funções não lineares das variáveis de processo, envolvendo reações complexas.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mpurezas, não medidas afetam significativamente as propriedades do polím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trasos das variáveis de processo dependentes da produçã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Sistema multivariável, extremamente acopl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odelos físicos são escassos comercialmente, são lentos para aplicações on-line e necessitam de muitos parâmetros experimentai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nstante mudança de grade, gerando entre eles produtos fora de especificaçã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75200" y="11923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1905120"/>
            <a:ext cx="7696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 Politeno selecionou a solução baseada em redes neurais fornecida pela Pavilion Technologi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ara a modelagem, foram utilizados 7 meses de dados de processo e laboratório. As variáveis de processo foram amostradas a cada minuto, enquanto que o MI foi analisado a cada ho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O sistema abaixo, consistindo de um separador de gás-polímero e a extrusora foi o objeto do estudo inicial.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666880" y="4038480"/>
          <a:ext cx="4038840" cy="26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038480"/>
                    <a:ext cx="4038840" cy="26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1905120"/>
            <a:ext cx="769644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Foram consideradas as seguintes variáveis como entradas do model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Diferencial de pressão do separad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otação do parafuso da extruso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mperagem do m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essão da matri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Temperatura da matri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Os dados de processo e laboratório foram compilados em uma única base de tempo. A seguir, o conjunto foi submetido a uma limpeza, onde foram excluídas situações anormais de produção, paradas, problemas com transmissores, e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95280" y="190512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 pressão diferencial do separador foi defasada em 10 minutos para compensar o atraso de transporte até a saída da extrus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nsiderando as diferenças reológicas entre as resinas produzidas em configurações de reatores diferentes, decidimos construir dois model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sinas com 0,4 &lt; MI &lt; 60, produzidas na configuração 1 do reator, com distribuição estreita de peso molecul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sinas com 0,2 &lt; MI &lt; 1,0 , produzidas na configuração 2 do reator, com distribuição larga de peso molecul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Foi utilizada como variável de saída o logaritmo natural do M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1905120"/>
            <a:ext cx="769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 modelo desenvolvido para resinas produzidas na configuração 1 do reator, que abrange uma faixa maior de MI é apresentado a segui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260520" cy="4038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62560" y="2666880"/>
            <a:ext cx="3170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1905120"/>
            <a:ext cx="769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 tabela de sensibilidades abaixo demonstra que as variáveis mais importantes para o modelo foram a rotação do parafuso da extrusora e a pressão diferencial do separad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295280" y="3200400"/>
          <a:ext cx="784872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00400"/>
                    <a:ext cx="78487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144000" cy="620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utura dos Analisadores Virtu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4797360"/>
            <a:ext cx="1366920" cy="57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c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4941720"/>
            <a:ext cx="16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941720"/>
            <a:ext cx="16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5229360"/>
            <a:ext cx="169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9360"/>
            <a:ext cx="169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1341360"/>
            <a:ext cx="1366920" cy="5763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33cc"/>
                </a:solidFill>
                <a:latin typeface="Times New Roman"/>
              </a:rPr>
              <a:t>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2637000"/>
            <a:ext cx="2374920" cy="5760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33cc"/>
                </a:solidFill>
                <a:latin typeface="Times New Roman"/>
              </a:rPr>
              <a:t>Aquisição de D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3213000"/>
            <a:ext cx="0" cy="1728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3213000"/>
            <a:ext cx="0" cy="12240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7080" y="4437000"/>
            <a:ext cx="2808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4437000"/>
            <a:ext cx="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1413000"/>
            <a:ext cx="2374920" cy="576000"/>
          </a:xfrm>
          <a:prstGeom prst="rect">
            <a:avLst/>
          </a:prstGeom>
          <a:noFill/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33cc"/>
                </a:solidFill>
                <a:latin typeface="Times New Roman"/>
              </a:rPr>
              <a:t>Tratamento de D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1989000"/>
            <a:ext cx="0" cy="6480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1989000"/>
            <a:ext cx="0" cy="6480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3080" y="1557360"/>
            <a:ext cx="719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3080" y="1773360"/>
            <a:ext cx="719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5440" y="5373720"/>
            <a:ext cx="0" cy="576360"/>
          </a:xfrm>
          <a:prstGeom prst="line">
            <a:avLst/>
          </a:prstGeom>
          <a:ln cap="rnd" w="381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05440" y="5950080"/>
            <a:ext cx="2735280" cy="0"/>
          </a:xfrm>
          <a:prstGeom prst="line">
            <a:avLst/>
          </a:prstGeom>
          <a:ln cap="rnd" w="38160">
            <a:solidFill>
              <a:srgbClr val="cc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42160" y="5518080"/>
            <a:ext cx="1366920" cy="57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Laborató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1800" y="191772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1917720"/>
            <a:ext cx="1366560" cy="576360"/>
          </a:xfrm>
          <a:prstGeom prst="rect">
            <a:avLst/>
          </a:prstGeom>
          <a:noFill/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33cc"/>
                </a:solidFill>
                <a:latin typeface="Times New Roman"/>
              </a:rPr>
              <a:t>Corre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2276640"/>
            <a:ext cx="1150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9440" y="2492280"/>
            <a:ext cx="0" cy="2952720"/>
          </a:xfrm>
          <a:prstGeom prst="line">
            <a:avLst/>
          </a:prstGeom>
          <a:ln cap="rnd" w="12600">
            <a:solidFill>
              <a:srgbClr val="cc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1557360"/>
            <a:ext cx="1152720" cy="0"/>
          </a:xfrm>
          <a:prstGeom prst="line">
            <a:avLst/>
          </a:prstGeom>
          <a:ln cap="rnd" w="12600">
            <a:solidFill>
              <a:srgbClr val="cc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3440" y="1557360"/>
            <a:ext cx="0" cy="360360"/>
          </a:xfrm>
          <a:prstGeom prst="line">
            <a:avLst/>
          </a:prstGeom>
          <a:ln cap="rnd" w="1260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5080" y="2708280"/>
            <a:ext cx="2736720" cy="576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baseline="-25000">
                <a:solidFill>
                  <a:srgbClr val="ffff00"/>
                </a:solidFill>
                <a:latin typeface="Times New Roman"/>
              </a:rPr>
              <a:t>Disponililidade em lin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3080" y="2925720"/>
            <a:ext cx="4320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542916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os Matemáticos são a “alma do negóci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90512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s resultados após a instalação do modelo on-line são apresentados a segui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447920" y="2514600"/>
          <a:ext cx="66294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14600"/>
                    <a:ext cx="66294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458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90512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sultado obtido com a modelagem do MI no reato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7458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sultado obtido com a modelagem da densidade no reato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458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dução de dispersão para resinas de inje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295280" y="2438280"/>
          <a:ext cx="739152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3915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dução de dispersão para resinas de Rotomoldag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143000" y="2378160"/>
          <a:ext cx="739152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78160"/>
                    <a:ext cx="73915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981080"/>
            <a:ext cx="7315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nvestimento –$150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dução de 66% da freqüência de análises de melt index, resultando na economia de R$ 330K/a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Redução de produto fora de especificação, principalmente durante as transições em 3000 t/ano, com um ganho de R$ 1,2 milh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elhoria da consistência lote a lote, com redução da dispersão de 30 a 50%, dependendo da família de produ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umento da produção anual em cerca de 2000 t, com faturamento adicional de R$ 1,6 milhões/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33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4480" y="1192320"/>
            <a:ext cx="15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CONCLUS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1828800"/>
            <a:ext cx="7315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 predição on-line de melt index e densidade permitiu uma redução acentuada na dispersão dos produtos da Polit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mo a indústria de transformação opera cada vez mais com equipamentos de alta produtividade, nos quais paradas para regulagem torna-se um fator de grande perda, a consistência de propriedades lote a lote é uma variável de grande importância no merc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 segurança obtida com a predição on-line de MI permitiu um aumento de produção significativo, haja vista que durante as transições, a carga da planta era reduzi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be ressaltar que somente a planta de polietileno linear executa mais de 700 transições de produtos por a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ste projeto também foi aplicado com sucesso para as duas unidades de alta pressão para produção PEBD/EVA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sclarecimento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64960" y="533520"/>
            <a:ext cx="8868960" cy="5580360"/>
            <a:chOff x="264960" y="533520"/>
            <a:chExt cx="8868960" cy="5580360"/>
          </a:xfrm>
        </p:grpSpPr>
        <p:sp>
          <p:nvSpPr>
            <p:cNvPr id="501" name=""/>
            <p:cNvSpPr/>
            <p:nvPr/>
          </p:nvSpPr>
          <p:spPr>
            <a:xfrm>
              <a:off x="264960" y="2638440"/>
              <a:ext cx="5173200" cy="213444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úvida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u Perguntas 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19520" y="480060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4240" y="3170160"/>
              <a:ext cx="84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0080" y="37339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77320" y="3476520"/>
              <a:ext cx="285660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sclareciment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64160" y="48466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8480" y="5533920"/>
              <a:ext cx="4214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brigado pela Aten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6080" y="160020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3760" y="1266840"/>
              <a:ext cx="3062520" cy="57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m da exposiçã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5480" y="1905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5480" y="5335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1600200"/>
              <a:ext cx="327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7320" y="1828800"/>
            <a:ext cx="8667720" cy="2209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MODELAGEM EMPÍRICA DE UM SISTEMA DE DESPARAFINAÇÃO DE ÓLEO LUBRIFICANTE USANDO REDES NEURAIS ARTIFICIAIS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1T21:28:08Z</dcterms:created>
  <dc:creator> </dc:creator>
  <dc:description/>
  <dc:language>en-US</dc:language>
  <cp:lastModifiedBy>Marcelo Embiruçu</cp:lastModifiedBy>
  <cp:lastPrinted>2000-05-04T17:56:59Z</cp:lastPrinted>
  <dcterms:modified xsi:type="dcterms:W3CDTF">2004-10-22T01:38:22Z</dcterms:modified>
  <cp:revision>205</cp:revision>
  <dc:subject/>
  <dc:title>Treinamento</dc:title>
</cp:coreProperties>
</file>