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16D-E695-4AD1-82EF-5CE00BED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183-2FB1-4DCB-8315-E3061E99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882-09E1-45A1-BEAB-CC9D0A21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70C-9FB6-4D42-8FDF-8D211B4F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5CE-C655-408A-ADEB-5E60160C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664-2D3A-4D70-A9C2-BBDB107E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B2D-D9CD-411E-B531-B6305342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A30-BF06-4B29-A009-09D05493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09B-6824-4024-BB0C-59E29CCE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F0C-5297-4AB1-8074-6AA3FF34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37E-9B2A-424A-8C6B-7EC46E08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6FF-207F-4E16-85E3-920D45C4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10520" y="1440"/>
            <a:ext cx="19001880" cy="13690440"/>
            <a:chOff x="-9110520" y="1440"/>
            <a:chExt cx="19001880" cy="13690440"/>
          </a:xfrm>
        </p:grpSpPr>
        <p:sp>
          <p:nvSpPr>
            <p:cNvPr id="1" name=""/>
            <p:cNvSpPr/>
            <p:nvPr/>
          </p:nvSpPr>
          <p:spPr>
            <a:xfrm>
              <a:off x="5837760" y="1585800"/>
              <a:ext cx="4053600" cy="5261040"/>
            </a:xfrm>
            <a:custGeom>
              <a:avLst/>
              <a:gdLst/>
              <a:ahLst/>
              <a:rect l="l" t="t" r="r" b="b"/>
              <a:pathLst>
                <a:path w="2554" h="3314">
                  <a:moveTo>
                    <a:pt x="2062" y="3312"/>
                  </a:moveTo>
                  <a:lnTo>
                    <a:pt x="2553" y="3313"/>
                  </a:lnTo>
                  <a:lnTo>
                    <a:pt x="2553" y="1437"/>
                  </a:lnTo>
                  <a:lnTo>
                    <a:pt x="0" y="0"/>
                  </a:lnTo>
                  <a:lnTo>
                    <a:pt x="217" y="150"/>
                  </a:lnTo>
                  <a:lnTo>
                    <a:pt x="396" y="279"/>
                  </a:lnTo>
                  <a:lnTo>
                    <a:pt x="597" y="441"/>
                  </a:lnTo>
                  <a:lnTo>
                    <a:pt x="792" y="612"/>
                  </a:lnTo>
                  <a:lnTo>
                    <a:pt x="1078" y="903"/>
                  </a:lnTo>
                  <a:lnTo>
                    <a:pt x="1331" y="1212"/>
                  </a:lnTo>
                  <a:lnTo>
                    <a:pt x="1515" y="1482"/>
                  </a:lnTo>
                  <a:lnTo>
                    <a:pt x="1676" y="1761"/>
                  </a:lnTo>
                  <a:lnTo>
                    <a:pt x="1802" y="2040"/>
                  </a:lnTo>
                  <a:lnTo>
                    <a:pt x="1895" y="2295"/>
                  </a:lnTo>
                  <a:lnTo>
                    <a:pt x="1958" y="2511"/>
                  </a:lnTo>
                  <a:lnTo>
                    <a:pt x="2017" y="2778"/>
                  </a:lnTo>
                  <a:lnTo>
                    <a:pt x="2046" y="3012"/>
                  </a:lnTo>
                  <a:lnTo>
                    <a:pt x="2062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10520" y="1440"/>
              <a:ext cx="182210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774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194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432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6D89-330A-4C88-9584-9B275A8D3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4772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5fb"/>
                </a:solidFill>
                <a:latin typeface="Arial"/>
              </a:rPr>
              <a:t>REDES NEURAIS ARTIFICIAIS E IDENTIFICAÇÃO DE SISTEMAS QUÍMICOS</a:t>
            </a:r>
            <a:endParaRPr b="0" lang="en-US" sz="5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420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ELEMENTOS DE UM NEURÔNIO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9601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Conjunto de pesos sinápticos ou simplesmente parâmetros. </a:t>
            </a:r>
            <a:r>
              <a:rPr b="0" i="1" lang="pt-BR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pt-BR" sz="3000" spc="-1" strike="noStrike" baseline="-25000">
                <a:solidFill>
                  <a:srgbClr val="000000"/>
                </a:solidFill>
                <a:latin typeface="Times New Roman"/>
              </a:rPr>
              <a:t>kj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quantifica a influência da entrada </a:t>
            </a:r>
            <a:r>
              <a:rPr b="0" i="1" lang="pt-BR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 sobre o neurônio </a:t>
            </a:r>
            <a:r>
              <a:rPr b="0" i="1" lang="pt-BR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Bloco de adição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670120" y="2362320"/>
                <a:ext cx="365436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04920" y="3809880"/>
            <a:ext cx="9601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Limiar de ativação (ou  “bias”) </a:t>
            </a:r>
            <a:r>
              <a:rPr b="0" i="1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pt-BR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qüivale à uma translação do sinal de entrada, e sua inclusão é analiticamente similar à inserção de uma nova entrada unitária com peso </a:t>
            </a:r>
            <a:r>
              <a:rPr b="0" i="1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pt-BR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t-BR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6176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5000"/>
          </a:bodyPr>
          <a:p>
            <a:pPr marL="119880" indent="-1198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ÇÃO DE ATIVAÇÃ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CLASSIF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ável ou não diferenciá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a ou média z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Funções SIGMÓIDE E TANGENTE HIPERBÓ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715000" y="380880"/>
                <a:ext cx="1295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455840" y="3886200"/>
                <a:ext cx="326556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371600" y="5237280"/>
                <a:ext cx="56386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20520" y="-27000"/>
            <a:ext cx="5333760" cy="4000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285264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1760" y="380520"/>
            <a:ext cx="853596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ÇÕES SIGMÓIDE E TANG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PERBÓLIC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ÍNUAS E LIMIT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Á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c0128"/>
              </a:buClr>
              <a:buSzPct val="75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ÇÃO TANGENTE HIPERBÓLICA É DE MÉDIA Z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ÇÃO SIGMÓIDE  É POSITI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61760" y="380520"/>
            <a:ext cx="8535960" cy="31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QUITE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  maneira  na  qual  uma  Rede  é  estruturada  está  diretamente  relacionada  com  o  algoritmo  de  aprendizagem  utiliz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DE  FEEDFORWARD  COM  UMA  CAMADA  INTERMEDIÁ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Uma  camada   de  entrada ,  uma  camada  intermediária  e  uma  camada  de  saída.  A  camada  intermediária  eleva  o  potencial  de  ajuste  através  da   inclusão  de  novos  pesos  (parâmetros)  e  da  elevação  dos  níveis  de  conexão  entre  os  neurôn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usência  de  retroalimentação  de  sin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95720" y="3645000"/>
            <a:ext cx="2886120" cy="31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1760" y="380520"/>
            <a:ext cx="8535960" cy="29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QUITE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E  RECOR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istência  de   malha  de  realimentação.  A  realimentação pode  ser  gerada  a  partir  de  um  neurônio  intermediário  ou  de  um  neurônio  de  saí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rutura  essencialmente  dinâmica  para  a  predição  de  uma  variável  múltiplos  passos  a  fr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97600" y="3429000"/>
            <a:ext cx="4170240" cy="331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EINAMENTO DE UMA R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RENDIZAGEM É UM PROCESSO PELO QUAL OS PARÂMETROS LIVRES DE UMA REDE NEURAL SÃO ADAPTADOS ATRAVÉS DE UM PROCEDIMENTO CONTÍNUO DE ESTIMULAÇÃO PROVOCADO PELA  VIZINHANÇA NA QUAL A REDE ESTÁ INSERIDA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O  PRINCIPAL  OBJETIVO  DE  UMA  REDE  É  ADQUIRIR  CONHECIMENTO  A  RESPEITO  DO  SISTEMA  A  SER  ESTUDADO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PRENDIZAGEM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STÍMULO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DAPTAÇÃO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OVO  COMPORTAMENT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GORITMO  DE  APRENDIZAGEM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ETERMINARÁ  A  MANEIRA  COMO  AO  AJUSTES  DOS  PARÂMETROS  SERÃO  REALIZADO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ALGORITMO  SUPERVISIONADO  DE  CORREÇÃO  DE  ERROS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BLEMA   DE  OTIMIZAÇÃO  QUE  MINIMIZA  O  ERRO  ENTRE  OS  VALORES  PREDITOS  PELA  RNA  E  OS  VALORES  DE  SAÍDA  APRESENTADOS  DURANTE  O  TREINAMENTO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534520" cy="607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EINAMENTO DE UMA 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IMAÇÃO DOS PESOS SINÁPTICOS E DOS LIMIARES DE ATIVAÇÃO, CONFORME UM ALGORITMO PRÉ-ESTABELEC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GORITMO SUPERVISIONA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 PARÂMETROS SÃO MODIFICADOS ATRAVÉS DA APRESENTAÇÃO DE SUCESSIVOS EXEMP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DA  PAR  ENTRADA-SAÍ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TOR DA CAMADA DE ENTRADA + VETOR DA CAMADA DE SAÍ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304920"/>
            <a:ext cx="8610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31440" y="333360"/>
            <a:ext cx="853452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ADALINE  -  REGRA  DELTA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  ADALINE  (“ADAptative  LINear  Element”)  representa   uma  forma  de  se  gerar  um  modelo  cuja  saída  é  uma  combinação  linear  das  entr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blema:  p  entradas  que  são  ponderadas  por  p  pesos  específicos .  A  soma  ponderada  produz  como  a  saída  predita  pela  Rede.  O  objetivo  é  calcular  os  pesos  de  forma  a  minimizar  a  diferença  entre  o  valor  predito  e  o  valor  real  para  a  variável  de  saí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65600" y="4005360"/>
            <a:ext cx="4024080" cy="278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825120" y="685440"/>
            <a:ext cx="831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c0128"/>
                </a:solidFill>
                <a:uFillTx/>
                <a:latin typeface="Times New Roman"/>
              </a:rPr>
              <a:t>PROGRA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INTRODU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MODELO DE UM NEURÔ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ARQUITE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REDE  ADALINE  REGRA  DEL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REDE  MULTICAM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TREINAMENTO.  RETROPROPAG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EXPERIMENTO DE IDENTIF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APLICAÇÕES. MODELAGEM  DINÂM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6640" y="465120"/>
                <a:ext cx="559116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modelo   proposto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erro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função  objetiv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92160" y="3157560"/>
                <a:ext cx="7867800" cy="30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rPr>
                            <m:lit/>
                            <m:nor/>
                          </m:rPr>
                          <m:t xml:space="preserve">observações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  exemplo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w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⋅</m:t>
                                        </m:r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i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dição</m:t>
                        </m:r>
                        <m:r>
                          <m:t xml:space="preserve">⇒</m:t>
                        </m:r>
                        <m:r>
                          <m:t xml:space="preserve">∇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   ou  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  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p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3080" y="900000"/>
                <a:ext cx="976464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</m:t>
                        </m:r>
                        <m:r>
                          <m:t xml:space="preserve">⋮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⋮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SISTEMA   LINEAR   COM   p   EQUAÇÕ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EQUAÇÕES    DE    WIENER-HOPF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31800" y="333360"/>
            <a:ext cx="85345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7000"/>
          </a:bodyPr>
          <a:p>
            <a:pPr marL="263880" indent="-263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gra  delta  ou  gradiente  descen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ante  da  possibilidade  de  mal  condicionamento,  pode-se  caminhar  pela  superfície  da  função  objetivo  em  direção  ao  ponto  de  mínimo,  evoluindo  sempre  no  sentido  oposto  ao  do  gradiente  em  cada  ponto.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justes  sucessivos  dos  pesos  (método  iterativo) no  sentido  oposto  ao  vetor  gradiente   da  função  obje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 próximo  valor  do  peso,  calculado  na  i-ésima  iteração,  será  igual  à  soma  do  valor  atual   mais  uma  correção   que  é  proporcional  à  negativa  do  gradiente  da  função  erro  (função  objetivo),  em  relação  ao  peso  especific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24160" y="5084640"/>
                <a:ext cx="50022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,        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p</m:t>
                        </m:r>
                      </m:e>
                      <m:e>
                        <m:r>
                          <m:t xml:space="preserve">η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Taxa  de  aprendizag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61760" y="9000"/>
            <a:ext cx="853596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racterística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étodo  baseado  no  erro  global  (todos  os  exempl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Precursor  do  método  da  retropropag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  taxa  de  aprendizagem  define  o  tamanho  do  passo  efetuado  na  direção  do  gradiente  descend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  eficiência  do  método  depende  da  escolha  adequada  do  ponto  de  partida  e  da  taxa  de  aprendizagem,  podendo  existir  convergência  oscilatória  ou  mesmo  divergê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9000"/>
            <a:ext cx="8535960" cy="46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de  feedforward  multicamad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junto  de  neurônios  de  entrada,  uma  ou  mais  camadas  intermediárias  e  uma  camada  de  saí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O  modelo  de  cada  neurônio  inclui  uma  não  linearidade  representada  pela  função  sigmóide  (suave  e  diferenciáve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  rede contém  uma  ou  mais  camadas  intermediárias  que  não  fazem  parte  diretamente  na  entrada  e  saída  da  rede.  Estes  neurônios  intermediários  elevam  a  capacidade  de  extrair  maiores  informações  dos  exemplos  de  treinam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   rede  apresenta  um  elevado  grau  de  conectividade,  ponderadas  pelos  pesos  sinápti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O  algoritmo  da  RETROPROPAGAÇÃO  (“BACKPROPAGATION”)  representa  uma  marca  importante  no  sentido  de  viabilizar  computacionalmente  o  treinamento  de  uma  rede  com  uma  ou  mais  camadas  intermediár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73240" y="4365720"/>
            <a:ext cx="4913280" cy="23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31800" y="333360"/>
            <a:ext cx="85345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Algoritmo  da  retropropaga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O AJUSTE DOS PARÂMETROS É FEITO A CADA PAR DE EXEMPLOS DE ACORDO COM O QUADRADO DO ERRO COMPUTADO   A  CADA  APRESENTAÇÃO  DE  EXEMPLO  ENTRADA  SAÍDA.  UMA  ÉPOCA   DE  APRESENTAÇÃO  REPRESENTA  UMA  AMOSTRA  DE  TREINAMENTO  COMPLETA.  VÁRIAS  ÉPOCAS  SÃO  APRESENTADAS  DURANTE   O  TREINAMENTO    DE  UMA  RED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384200" y="5157720"/>
                <a:ext cx="67374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E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erro  quadrado  médio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tamanho  da  amostra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  época  de  apresentação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11120" y="3357720"/>
                <a:ext cx="731376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oma   instantânea  do  quadrado  dos  erro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na   camada   de   saíd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44520" y="333000"/>
            <a:ext cx="5865840" cy="3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UALIZAÇÃO DOS PARÂMET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251000" y="836640"/>
                <a:ext cx="73198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neurônio  j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IGE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e   neurônio  k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TIN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424160" y="177336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n-ésima iteração ou insta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424160" y="2781360"/>
                <a:ext cx="4365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44520" y="3460680"/>
            <a:ext cx="9296280" cy="26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é a taxa de aprendizagem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 é a saída ou nível de ativação do neurônio j (localizado na camada imediatamente anterior à do neurônio k e que está conectado a este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é o gradiente local do neurônio 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92966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DIENTE LOCAL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   NEURÔNIO  É  DA  CAMADA  DE   SAÍDA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96960" y="2133720"/>
                <a:ext cx="4654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124080"/>
            <a:ext cx="929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  NEURÔNIO  NÃO  É  DA  CAMADA   DE   SAÍDA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523880" y="3809880"/>
                <a:ext cx="53341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33520" y="5410080"/>
            <a:ext cx="9372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A PODENRADA DOS GRADIENTES LOCAIS DOS NEURÔNIOS DA CAMADA SUBSEQU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4648320"/>
            <a:ext cx="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929664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BSERVAÇÕ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algoritmo da retropropagação possui este nome pelo fato do sinal de erro ser retropropagado ao longo da Re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uas etap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  frente.  Pesos  sinápticos  inalterados  e  funções  de  ativação  são  comput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  trás. Inicia-se  na  camada  de  saída  e  evolui  para  as  camadas  anteriores,  tendo-se  a  computação  dos  erros  da  camada  e  o  ajuste  dos  pesos,  a  partir  do  cálculo  recursivo  dos  gradientes  locais  de  cada  neurôn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929664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SERVAÇÕ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leração do processo de aprendizag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ra delta generalizada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ação de funções de ativação simétricas como a tangente hiperbólica (imagem entre –1 e 1), ao invés de funções não simétricas como a sigmó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ação de dados reais da variável de saída próximos do conjunto imagem da função de ativ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cialização de parâmetros uniformemente distribuída e dentro de uma pequena faix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ação randômica da ordem dos exemplos após a apresentação de cada época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940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TELIGÊNCIA  ARTIFIC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c0128"/>
                </a:solidFill>
                <a:latin typeface="Times New Roman"/>
              </a:rPr>
              <a:t>ESTUDA  COMO  AS  PESSOAS  RESOLVEM  PROBLEMAS  E  COMO  AS  MÁQUINAS  PODEM  EMULAR  ESTE  COMPORTAMENTO  HUMANO  DE  “SOLUÇÃO  DE  PROBLEMAS”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65fb"/>
                </a:solidFill>
                <a:latin typeface="Times New Roman"/>
              </a:rPr>
              <a:t>COMO  FAZER  COM  QUE  AS  MÁQUINAS  SEJAM  MAIS  ATRIBUÍDAS  DE  CARACTERÍSTICAS  DA  INTELIGÊNCIA  HUMAN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929664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CIÊNCIAS DO ALGORITMO DA RETROPROPAG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lisação do treinamen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ínimo local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mpo de treinamento. Como alternativas destacam-se o ajuste da topologia  e o ajuste da taxa de aprendizag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0"/>
            <a:ext cx="8535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e  feedforward  com  uma  camada  intermediá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3120" y="1447920"/>
          <a:ext cx="990612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447920"/>
                    <a:ext cx="990612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1760" y="-360"/>
            <a:ext cx="85359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PENAS UMA CAMADA INTERMEDIÁRIA COM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i="1" lang="pt-BR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NEURÔN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ATRIZES DE PESOS SINÁPTIC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9360" y="2057400"/>
                <a:ext cx="5181480" cy="23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447920" y="4491000"/>
                <a:ext cx="5410080" cy="23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o</m:t>
                                          </m:r>
                                        </m:sub>
                                      </m:s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o</m:t>
                                          </m:r>
                                        </m:sub>
                                      </m:s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o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9880" y="380880"/>
            <a:ext cx="8531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SAMENTO DOS SIN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990720"/>
                <a:ext cx="59436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446120" y="2209680"/>
                <a:ext cx="57913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914400" y="3733920"/>
            <a:ext cx="845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DE PARÂMETROS (PESOS SINÁPTICOS E LIMIARE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90720" y="5181480"/>
                <a:ext cx="8461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9880" y="0"/>
            <a:ext cx="8531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DELAGEM DINÂ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ÇÃO DE MODELO MI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92160" y="1019160"/>
          <a:ext cx="8535960" cy="58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1019160"/>
                    <a:ext cx="853596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929664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PERIMENTO DE IDENTIF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ÇÃO DO SINAL EXCITATÓ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AL DE AMPLITUDE RANDÔMICA AO INVÉS DE UM SINAL DO TIPO PRBS (“PSEUDO-RANDOM BINARY SIGNAL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ÇÕ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ÍODO DE AMPLITUDE CONSTANT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 MÁXI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OLHA DO PERÍODO DE AMOSTRAG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ÇÃO DO MODE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ÇÃO CRUZADA. GERAÇÃO DE AMOSTRAS DE TESTE ALÉM DA AMOSTRA DE TREINA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9296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NA COM APENAS UMA CAMADA INTERMEDIÁ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ENÇÃO DAS AMOSTRAS DE TREINAMENTO E TES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ÇÃO DO NÚMERO DE NEURÔNIOS NA CAMADA INTERMEDIÁ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ÇÃO DA QUANTIDADE DE ÉPOCAS TREINADAS QUE FORNECE O MELHOR DESEMPENHO PARA AS AMOSTRAS DE TEST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ALIAÇÃO DO MODELO IDENTIFICADO PARA A PREDIÇÃO DE MÚLTIPLOS PASSOS A FR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419720"/>
            <a:ext cx="92966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940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MA  RNA  É  UMA  MÁQUINA  QUE  MIMETIZA  A  MANEIRA  PELA QUAL  O  CÉREBRO  EXECUTA  UMA  TAREF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MA  RNA  É  UMA  SUBSESPECIALIDADE  DA  INTELIGÊNCIA  ARTIFICIAL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E  OU  ESTRUTURA  DE  MODELOS  MATEMÁTICOS  PARA  PROBLEMAS  DE  IDENTIFICAÇÃO  OU  MESMO  RECONHECIMENTO  DE  PADRÕ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240" y="189000"/>
            <a:ext cx="4032000" cy="2565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708280"/>
            <a:ext cx="96346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eurônio  constituído  de  DENTRITOS,  CONEXÕES  SINÁPTICAS  DE  ENTRADA  E  DE  SAÍDA  E  AXÔN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eurônio  biológico  como  um  dispositivo  elementar  do  sistema  nervoso  COM  MUITAS  ENTRADAS (impulsos  nervosos  transmitidos  através  das  conexões  sinápticas) E  UMA  SAÍDA  (impulso  nervoso  no  axôni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requência  média  de  impulsos  nervosos  em  um  intervalo  de  tempo  T  representa  a  integração  espacial-temporal  de  toda  a  atividade  de  entrada  na  árvore  dentrital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630440" y="5502240"/>
                <a:ext cx="62085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</m:d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anhos 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SOS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sinápti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ais   de   entrad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4248000" y="909720"/>
            <a:ext cx="5600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c0128"/>
                </a:solidFill>
                <a:uFillTx/>
                <a:latin typeface="Times New Roman"/>
              </a:rPr>
              <a:t>RNA   E   O  NEURÔNIO   BIOLÓGIC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1440" y="260280"/>
            <a:ext cx="96346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UNÇÕES  DE  ATIVAÇÃ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04880" y="1795320"/>
                <a:ext cx="8763120" cy="324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AR</m:t>
                        </m:r>
                        <m:r>
                          <m:t xml:space="preserve">⇒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monotônica    e   sem  efeitos   de  saturaçã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RAU  UNITÁRIO</m:t>
                        </m:r>
                        <m:r>
                          <m:t xml:space="preserve">⇒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→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se   v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9401040" cy="49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900" spc="-1" strike="noStrike" u="sng">
                <a:solidFill>
                  <a:srgbClr val="000000"/>
                </a:solidFill>
                <a:uFillTx/>
                <a:latin typeface="Times New Roman"/>
              </a:rPr>
              <a:t>UMA  RNA  É  UM  PROCESSADOR  DISTRIBUÍDO,  COM  UNIDADES  DE  PROCESSAMENTO  CONECTADAS,  E  QUE  POSSUI  A  CAPACIDADE  DE  ARMAZENAR  EXPERIÊNCIA  (CONHECIMENTO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26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imes New Roman"/>
              </a:rPr>
              <a:t>O conhecimento  é  adquirido  através  de  um  processo  de  treinamento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26"/>
              </a:spcBef>
              <a:buClr>
                <a:srgbClr val="fc012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imes New Roman"/>
              </a:rPr>
              <a:t>A  intensidade  das  conexões  entre  os  diferentes  neurônios  (PESOS  SINÁPTICOS)  são  usadas  para  armazenar  o  conhecimento.  Portanto,  as  modificações  ou  ajustes  dos  pesos  sinápticos  oferecem  um  método  tradicional  de  projeto  ou  treinamento  de redes  neurais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00160" y="115560"/>
            <a:ext cx="9601200" cy="65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Times New Roman"/>
              </a:rPr>
              <a:t>Não linearidade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Times New Roman"/>
              </a:rPr>
              <a:t>Importante  para  o  aprendizado  de  sistemas  inerentemente  não-lineare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Times New Roman"/>
              </a:rPr>
              <a:t>Mapeamento entrada-saíd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Times New Roman"/>
              </a:rPr>
              <a:t>Treinamento  supervisionado  a  partir  de  exemplos  do  sistema  real  que  será  identificad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Times New Roman"/>
              </a:rPr>
              <a:t>Adaptatividade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Times New Roman"/>
              </a:rPr>
              <a:t>Adpatar  os  pesos  diante  de  alterações  na  vizinhanç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Times New Roman"/>
              </a:rPr>
              <a:t>Capacidade de generalização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Times New Roman"/>
              </a:rPr>
              <a:t>Bom  desempenho para  amostras  de  dados  não  inseridas  no  processo  de  aprendizagem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3365f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MODELO DE UM NEURÔNIO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523880"/>
          <a:ext cx="990612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90612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11T21:28:08Z</dcterms:created>
  <dc:creator> </dc:creator>
  <dc:description/>
  <dc:language>en-US</dc:language>
  <cp:lastModifiedBy>cristiano</cp:lastModifiedBy>
  <cp:lastPrinted>2000-05-05T09:40:36Z</cp:lastPrinted>
  <dcterms:modified xsi:type="dcterms:W3CDTF">2004-10-21T21:46:56Z</dcterms:modified>
  <cp:revision>221</cp:revision>
  <dc:subject/>
  <dc:title>Treinamento</dc:title>
</cp:coreProperties>
</file>