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86374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6920" y="4134600"/>
            <a:ext cx="86374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276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6920" y="413460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2760" y="413460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7240" y="169056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920" y="169056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86920" y="413460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7240" y="413460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7920" y="413460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6920" y="1690560"/>
            <a:ext cx="863748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8637480" cy="4678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4214880" cy="4678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2760" y="1690560"/>
            <a:ext cx="4214880" cy="4678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2760" y="1690560"/>
            <a:ext cx="4214880" cy="4678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6920" y="413460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86920" y="1690560"/>
            <a:ext cx="863748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4214880" cy="4678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276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2760" y="413460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276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6920" y="4134600"/>
            <a:ext cx="86374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86374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6920" y="4134600"/>
            <a:ext cx="86374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276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6920" y="413460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2760" y="413460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9056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920" y="169056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6920" y="413460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413460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7920" y="4134600"/>
            <a:ext cx="278100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8637480" cy="4678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4214880" cy="4678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2760" y="1690560"/>
            <a:ext cx="4214880" cy="4678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2760" y="1690560"/>
            <a:ext cx="4214880" cy="4678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86920" y="413460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4214880" cy="4678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2760" y="413460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692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690560"/>
            <a:ext cx="42148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86920" y="4134600"/>
            <a:ext cx="8637480" cy="223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09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86920" y="1690560"/>
            <a:ext cx="8637480" cy="4678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2057400"/>
            <a:ext cx="9144000" cy="48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0920" y="3749760"/>
            <a:ext cx="86374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200" y="3429000"/>
            <a:ext cx="8637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 Black"/>
            </a:endParaRPr>
          </a:p>
          <a:p>
            <a:pPr lvl="1" marL="457200" algn="ctr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55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7320" y="1828800"/>
            <a:ext cx="8667720" cy="2209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DELAGEM EMPÍRICA DE UM SISTEMA DE DESPARAFINAÇÃO DE ÓLEO LUBRIFICANTE USANDO REDES NEURAIS ARTIFICIA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1004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100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050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65800" cy="334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1050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78200" y="3276720"/>
            <a:ext cx="446580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5680" y="45720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ICAÇÃO  DE  MODELO 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ONTO  DE  FLUIDEZ  DO  Ó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371600"/>
            <a:ext cx="80010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ariáveis de entrad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azão de carg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mperatura de carg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mperatura de alimentação do solvente (MIBK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azão de alimentação do solv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essão  no  filt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ível  da  carga  no  filt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ariável  de  saída  (ponto  de  fluidez  do  óle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dições  sempre  expressas  em  valores  intei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iferentes  valores  de  variáveis  de  entrada  associados  ao  mesmo  valor  de  ponto  de  fluide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718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80240" cy="576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886360"/>
            <a:ext cx="8839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BLEMA  DE  IDENTIFICAÇÃO  COMO  UM  PROBLEMA DE  RECONHECIMENTO  DE  PADRÕ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9200" y="1522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33520"/>
            <a:ext cx="800100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Rede  neural  “feedforward”  com  6  entradas  e  13  neurônios  na  camada  de  saí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Camada  intermediária  com  quantidade  de  neurônios  a  ser  testada  e  com  função de  ativação  sigmó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Função  de  ativação  linear  nos  neurônios  de  saí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Classificação  ou  padronização  dos  valores  de   fluidez  em   vetores  de  saí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5768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25520" y="3886200"/>
                <a:ext cx="326088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85800" y="563868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roximar  os  valores  obtidos  para  os  neurônios  de  saída.  O  mais  alto  valor considerado  como  a  classe  correspond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5768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146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~AUT005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347240" cy="2928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6800" y="358128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114800"/>
            <a:ext cx="80010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rcentual  de  classificações  corretas  de  50 %  para  as  amostras  de  treinamento  e  tes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3  neurônios  na camada  intermediária  e  2000  épo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75768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46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003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996320" cy="59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1003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75768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146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03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003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9596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600200"/>
            <a:ext cx="861084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OBJETO DO ESTU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Unidade de desparafinação de óleo lubrificante (RLAM – Bah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30477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ROCES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825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paração óleo-parafina em duas seções de filtros rotativos (operação em paralelo) e geração de uma corrente de parafina com 2 a 5 % de teor de óleo.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825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ês tipos de carga (DNL - Destilado Neutro Leve, DNM - Destilado Neutro Médio, DAO – Destilado de Óleo rico em Aromáticos).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523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LUXOGRAMA DO PROCES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76320"/>
            <a:ext cx="632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ISTEMA DE DESPARAFINAÇÃO DE ÓLEO LUBRIFIC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2133720"/>
            <a:ext cx="7543800" cy="4572000"/>
            <a:chOff x="685800" y="2133720"/>
            <a:chExt cx="7543800" cy="45720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685800" y="2133720"/>
              <a:ext cx="75438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flipV="1">
              <a:off x="4043880" y="5525640"/>
              <a:ext cx="1080" cy="46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33523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7000"/>
          </a:bodyPr>
          <a:p>
            <a:pPr marL="33264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TIV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825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ecessidade de estimativa e de controle em linha do teor de óleo na parafina e ponto de fluidez do óleo a jusante da seção dos filtros primários.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825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viabilidade de medição em linha desta variáveis de processo. Tempo morto elevado (análise laboratorial e ponto de amostragem).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990720"/>
            <a:ext cx="8458200" cy="19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senvolvimento de modelos utilizando redes neurais artificiais para inferir o teor de óleo  na parafina e  ponto  de  fluidez  do  óleo  na  descarga  dos  filtros  primár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0000"/>
          </a:bodyPr>
          <a:p>
            <a:pPr lvl="1" marL="771120" indent="-342720">
              <a:lnSpc>
                <a:spcPct val="100000"/>
              </a:lnSpc>
              <a:buClr>
                <a:srgbClr val="cc00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nálise preliminar a partir de dados históricos de operação (coleta de amostras na descarga da Unidade).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71120" indent="-342720" algn="just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leta de amostras na descarga de um dos filtros primários (eliminação de tempo morto).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71120" indent="-342720" algn="just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finição das variáveis de entrada para teor de óleo na parafina e ponto de fluidez do óleo: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lvl="2" marL="1457280" indent="-171360" algn="just">
              <a:lnSpc>
                <a:spcPct val="100000"/>
              </a:lnSpc>
              <a:spcBef>
                <a:spcPts val="312"/>
              </a:spcBef>
              <a:buClr>
                <a:srgbClr val="cc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azão de carga.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2" marL="1457280" indent="-171360" algn="just">
              <a:lnSpc>
                <a:spcPct val="100000"/>
              </a:lnSpc>
              <a:spcBef>
                <a:spcPts val="312"/>
              </a:spcBef>
              <a:buClr>
                <a:srgbClr val="cc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emperatura de carga.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2" marL="1457280" indent="-171360" algn="just">
              <a:lnSpc>
                <a:spcPct val="100000"/>
              </a:lnSpc>
              <a:spcBef>
                <a:spcPts val="312"/>
              </a:spcBef>
              <a:buClr>
                <a:srgbClr val="cc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emperatura de alimentação do solvente (MIBK).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2" marL="1457280" indent="-171360" algn="just">
              <a:lnSpc>
                <a:spcPct val="100000"/>
              </a:lnSpc>
              <a:spcBef>
                <a:spcPts val="312"/>
              </a:spcBef>
              <a:buClr>
                <a:srgbClr val="cc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azão de alimentação do solvente.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2" marL="1457280" indent="-171360" algn="just">
              <a:lnSpc>
                <a:spcPct val="100000"/>
              </a:lnSpc>
              <a:spcBef>
                <a:spcPts val="312"/>
              </a:spcBef>
              <a:buClr>
                <a:srgbClr val="cc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ssão  no  filtro.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2" marL="1457280" indent="-171360" algn="just">
              <a:lnSpc>
                <a:spcPct val="100000"/>
              </a:lnSpc>
              <a:spcBef>
                <a:spcPts val="312"/>
              </a:spcBef>
              <a:buClr>
                <a:srgbClr val="cc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ível  da  carga  no  filtro.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680" y="68580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" dur="1" fill="hold"/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52" dur="1" fill="hold"/>
                                  <p:tgtEl>
                                    <p:spTgt spid="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53" dur="1" fill="hold"/>
                                  <p:tgtEl>
                                    <p:spTgt spid="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54" dur="1" fill="hold"/>
                                  <p:tgtEl>
                                    <p:spTgt spid="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55" dur="1" fill="hold"/>
                                  <p:tgtEl>
                                    <p:spTgt spid="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56" dur="1" fill="hold"/>
                                  <p:tgtEl>
                                    <p:spTgt spid="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57" dur="1" fill="hold"/>
                                  <p:tgtEl>
                                    <p:spTgt spid="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58" dur="1" fill="hold"/>
                                  <p:tgtEl>
                                    <p:spTgt spid="9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  <p:animClr clrSpc="rgb">
                                <p:cBhvr>
                                  <p:cTn id="59" dur="1" fill="hold"/>
                                  <p:tgtEl>
                                    <p:spTgt spid="9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3886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lvl="1" marL="914400" indent="-457200" algn="just">
              <a:lnSpc>
                <a:spcPct val="120000"/>
              </a:lnSpc>
              <a:buClr>
                <a:srgbClr val="cc0000"/>
              </a:buClr>
              <a:buSzPct val="80000"/>
              <a:buFont typeface="Times New Roman"/>
              <a:buAutoNum type="arabicParenR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leta de dados de operação normal do processo. Variabilidade intrínseca que dispensa a necessidade de um experimento de  identificação.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680" y="15238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514600"/>
            <a:ext cx="84582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buClr>
                <a:srgbClr val="cc0000"/>
              </a:buClr>
              <a:buFont typeface="Times New Roman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dentificação de um modelo para cada tipo de carga (DNL, DNM, DA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lvl="1" marL="857160" indent="-285480" algn="just">
              <a:lnSpc>
                <a:spcPct val="100000"/>
              </a:lnSpc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Rede Neural com 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topologia “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feedforward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” com uma e  duas  camadas  intermediárias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857160" indent="-285480" algn="just">
              <a:lnSpc>
                <a:spcPct val="100000"/>
              </a:lnSpc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Normalização dos dados de entrada e de saída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857160" indent="-285480" algn="just">
              <a:lnSpc>
                <a:spcPct val="100000"/>
              </a:lnSpc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Amostras de treinamento e  teste geradas de forma randômica (229 pontos)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679400"/>
            <a:ext cx="8305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DELAGEM EMPÍRICA - 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676520"/>
            <a:ext cx="822960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480" rIns="411480" tIns="205920" bIns="20592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i="1" lang="en-US" sz="2200" spc="-1" strike="noStrike" u="sng">
                <a:solidFill>
                  <a:srgbClr val="cc0000"/>
                </a:solidFill>
                <a:uFillTx/>
                <a:latin typeface="Times New Roman"/>
              </a:rPr>
              <a:t>Resultados  para  o  Destilado  Neutro  Leve  (DN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114800"/>
                <a:tab algn="l" pos="8229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madas  intermediárias  com  4  e  11  neurôn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4114800"/>
                <a:tab algn="l" pos="8229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eficientes de correlaçã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-2858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ostra treinamento = 0,8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-2858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ostra teste = 0,8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-28584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114800"/>
                <a:tab algn="l" pos="8229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rro médio rel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-2858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ostra I = 13,4 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-2858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ostra II = 17,9 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1004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51400" cy="334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100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456080" cy="333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CLIM-NBK1</cp:lastModifiedBy>
  <cp:lastPrinted>2001-12-18T14:15:02Z</cp:lastPrinted>
  <dcterms:modified xsi:type="dcterms:W3CDTF">2004-10-22T17:25:03Z</dcterms:modified>
  <cp:revision>321</cp:revision>
  <dc:subject/>
  <dc:title>NEPP Núcleo de Energia -  Petróleo e Petroquímica</dc:title>
</cp:coreProperties>
</file>