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A1E-0B49-4A5B-A755-D0082CED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415-DC7C-4D82-9DB0-27C4B0AA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8C6-0102-4F78-9B68-C260D665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DCD-264B-43FF-9BF9-C7254C16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E64D-E99F-40B6-9A45-C277B6C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8073-7D0F-41D6-9E71-D7261EE9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39A3-96B6-4A2F-9A3C-43089589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C7A2-90CD-4220-A606-5437D3E3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1BE-A7C4-4F69-92BB-F795CE7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B745-CA06-4E78-BF25-B59AC7AE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1ED-7917-4A40-874D-6B6C978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1C4-C08D-4478-961F-B0E4CE9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BBF-7B82-42A3-91C2-0402A72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C751-F4BE-4D37-B2EB-1E6C616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9A5E-ABE1-4D16-A264-2906FDB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86B8-65D6-4626-BDA5-77C3CF7B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9B2-A063-4751-86C8-807C6CB4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327-FE49-4877-86C2-C69B77B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D2D-5997-470E-B72E-482A86B8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D62-DFE4-4097-9F58-7DA2A066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577-93F4-4B9C-ABF6-D596ECF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29D-726C-4B97-AD68-01FC145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7BD-9CA6-4226-B91B-643FCC9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8B8-FFE0-4B28-88AB-32DCD72F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41F-4BA4-4429-91BD-13B32181943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B85-C2C1-4A47-AE52-F23E7EE15E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609480"/>
            <a:ext cx="82296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WN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WORKSHOP NACIONAL SOBRE ANALISADORES DE PROCESSOS EM LINH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9760" y="5318280"/>
            <a:ext cx="28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Lucio Estr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Eng. Controle de proces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Millennium Chemi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320" y="434196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22 de Outubro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1905120"/>
            <a:ext cx="7696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O modelo desenvolvido para resinas produzidas na configuração 1 do reator, que abrange uma faixa maior de MI é apresentado a seguir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3260520" cy="4038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62560" y="2666880"/>
            <a:ext cx="3170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905120"/>
            <a:ext cx="7696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 tabela de sensibilidades abaixo demonstra que as variáveis mais importantes para o modelo foram a rotação do parafuso da extrusora e a pressão diferencial do separa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5280" y="3200400"/>
          <a:ext cx="784872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00400"/>
                    <a:ext cx="78487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1905120"/>
            <a:ext cx="7696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Os resultados após a instalação do modelo on-line são apresentados a segui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514600"/>
          <a:ext cx="66294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14600"/>
                    <a:ext cx="66294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458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905120"/>
            <a:ext cx="7696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sultado obtido com a modelagem do MI no rea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7458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905120"/>
            <a:ext cx="6553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sultado obtido com a modelagem da densidade no rea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458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5200" y="1192320"/>
            <a:ext cx="26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RESULTADOS OB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1905120"/>
            <a:ext cx="6553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dução de dispersão para resinas de inje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2438280"/>
          <a:ext cx="739152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3915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5200" y="1192320"/>
            <a:ext cx="26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RESULTADOS OB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1905120"/>
            <a:ext cx="6553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dução de dispersão para resinas de Rotomold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2378160"/>
          <a:ext cx="739152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78160"/>
                    <a:ext cx="739152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5200" y="1192320"/>
            <a:ext cx="26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RESULTADOS OB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1981080"/>
            <a:ext cx="7315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Investimento –$15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dução de 66% da freqüência de análises de melt index, resultando na economia de R$ 330K/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dução de produto fora de especificação, principalmente durante as transições em 3000 t/ano, com um ganho de R$ 1,2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Melhoria da consistência lote a lote, com redução da dispersão de 30 a 50%, dependendo da família de pro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umento da produção anual em cerca de 2000 t, com faturamento adicional de R$ 1,6 milhões/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4480" y="1192320"/>
            <a:ext cx="15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CONCLU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828800"/>
            <a:ext cx="7315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 predição on-line de melt index e densidade permitiu uma redução acentuada na dispersão dos produtos da Polite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Como a indústria de transformação opera cada vez mais com equipamentos de alta produtividade, nos quais paradas para regulagem torna-se um fator de grande perda, a consistência de propriedades lote a lote é uma variável de grande importância no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 segurança obtida com a predição on-line de MI permitiu um aumento de produção significativo, haja vista que durante as transições, a carga da planta era reduz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Cabe ressaltar que somente a planta de polietileno linear executa mais de 700 transições de produtos por 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Este projeto também foi aplicado com sucesso para as duas unidades de alta pressão para produção PEBD/EV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21840" y="2274840"/>
            <a:ext cx="262008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Processo Polit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MI&amp;Dens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Objetivos / M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Principais Dificul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Model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Resultados Ob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21120" y="1600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3366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343400"/>
            <a:ext cx="1447920" cy="4572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TRU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3"/>
            <a:endCxn id="138" idx="1"/>
          </p:cNvCxnSpPr>
          <p:nvPr/>
        </p:nvCxnSpPr>
        <p:spPr>
          <a:xfrm>
            <a:off x="5866920" y="355716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343400" y="3176640"/>
            <a:ext cx="1523880" cy="7621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DSORVE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3176640"/>
            <a:ext cx="1447920" cy="7621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PA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39760" y="3176640"/>
            <a:ext cx="1447920" cy="7621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BSORVE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3"/>
            <a:endCxn id="141" idx="1"/>
          </p:cNvCxnSpPr>
          <p:nvPr/>
        </p:nvCxnSpPr>
        <p:spPr>
          <a:xfrm>
            <a:off x="2587680" y="3557160"/>
            <a:ext cx="357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1" idx="3"/>
            <a:endCxn id="137" idx="1"/>
          </p:cNvCxnSpPr>
          <p:nvPr/>
        </p:nvCxnSpPr>
        <p:spPr>
          <a:xfrm>
            <a:off x="4087800" y="3557160"/>
            <a:ext cx="255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5" idx="0"/>
          </p:cNvCxnSpPr>
          <p:nvPr/>
        </p:nvCxnSpPr>
        <p:spPr>
          <a:xfrm flipV="1" rot="10800000">
            <a:off x="7276320" y="3938400"/>
            <a:ext cx="1080" cy="40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7391520" y="1066680"/>
            <a:ext cx="1447560" cy="7621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TRI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2133720"/>
            <a:ext cx="1752480" cy="7617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SOLV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5" idx="3"/>
            <a:endCxn id="144" idx="3"/>
          </p:cNvCxnSpPr>
          <p:nvPr/>
        </p:nvCxnSpPr>
        <p:spPr>
          <a:xfrm flipV="1">
            <a:off x="8001000" y="1447560"/>
            <a:ext cx="838800" cy="3124800"/>
          </a:xfrm>
          <a:prstGeom prst="bentConnector3">
            <a:avLst>
              <a:gd name="adj1" fmla="val 1272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5" idx="3"/>
          </p:cNvCxnSpPr>
          <p:nvPr/>
        </p:nvCxnSpPr>
        <p:spPr>
          <a:xfrm rot="5400000">
            <a:off x="5923800" y="323640"/>
            <a:ext cx="1448640" cy="2934720"/>
          </a:xfrm>
          <a:prstGeom prst="bentConnector4">
            <a:avLst>
              <a:gd name="adj1" fmla="val -15784"/>
              <a:gd name="adj2" fmla="val 623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4" idx="2"/>
            <a:endCxn id="149" idx="0"/>
          </p:cNvCxnSpPr>
          <p:nvPr/>
        </p:nvCxnSpPr>
        <p:spPr>
          <a:xfrm flipV="1" rot="10800000">
            <a:off x="8114760" y="1828440"/>
            <a:ext cx="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39" idx="0"/>
          </p:cNvCxnSpPr>
          <p:nvPr/>
        </p:nvCxnSpPr>
        <p:spPr>
          <a:xfrm flipV="1" rot="10800000">
            <a:off x="1863000" y="2513520"/>
            <a:ext cx="1566000" cy="662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057400" y="5562720"/>
            <a:ext cx="1219320" cy="3808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UT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1"/>
            <a:endCxn id="139" idx="2"/>
          </p:cNvCxnSpPr>
          <p:nvPr/>
        </p:nvCxnSpPr>
        <p:spPr>
          <a:xfrm rot="10800000">
            <a:off x="1863000" y="3938040"/>
            <a:ext cx="194400" cy="18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057400" y="6019920"/>
            <a:ext cx="1219320" cy="3808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CT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3" idx="1"/>
            <a:endCxn id="139" idx="2"/>
          </p:cNvCxnSpPr>
          <p:nvPr/>
        </p:nvCxnSpPr>
        <p:spPr>
          <a:xfrm rot="10800000">
            <a:off x="1863000" y="3938040"/>
            <a:ext cx="194400" cy="22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45" idx="3"/>
          </p:cNvCxnSpPr>
          <p:nvPr/>
        </p:nvCxnSpPr>
        <p:spPr>
          <a:xfrm flipV="1" rot="16200000">
            <a:off x="5897520" y="1797120"/>
            <a:ext cx="662760" cy="209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944800" y="3176640"/>
            <a:ext cx="1143000" cy="7621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2362320"/>
            <a:ext cx="1143000" cy="6094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I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471920"/>
            <a:ext cx="1447560" cy="304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TALIS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0"/>
            <a:endCxn id="141" idx="2"/>
          </p:cNvCxnSpPr>
          <p:nvPr/>
        </p:nvCxnSpPr>
        <p:spPr>
          <a:xfrm flipH="1" flipV="1" rot="5400000">
            <a:off x="2920320" y="3875400"/>
            <a:ext cx="533880" cy="65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572000" y="5562720"/>
            <a:ext cx="1504800" cy="733320"/>
          </a:xfrm>
          <a:prstGeom prst="borderCallout2">
            <a:avLst>
              <a:gd name="adj1" fmla="val 18750"/>
              <a:gd name="adj2" fmla="val -8333"/>
              <a:gd name="adj3" fmla="val 15449"/>
              <a:gd name="adj4" fmla="val -27532"/>
              <a:gd name="adj5" fmla="val -221879"/>
              <a:gd name="adj6" fmla="val -508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delos para MI, Densidade e Convers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343400"/>
            <a:ext cx="1733760" cy="307080"/>
          </a:xfrm>
          <a:prstGeom prst="borderCallout2">
            <a:avLst>
              <a:gd name="adj1" fmla="val 18750"/>
              <a:gd name="adj2" fmla="val -8333"/>
              <a:gd name="adj3" fmla="val 36365"/>
              <a:gd name="adj4" fmla="val 117763"/>
              <a:gd name="adj5" fmla="val -162759"/>
              <a:gd name="adj6" fmla="val 1317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delos para M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852200" y="530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105520"/>
            <a:ext cx="838080" cy="3808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419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6280" y="157320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PROCESSO POLIT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2920" y="119232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8080" y="11923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INTRODUÇÃO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6280" y="1801800"/>
            <a:ext cx="6651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Mel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Medida indireta do peso molecular do polímero, expresso em g/10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lacionado com as propriedades mecânicas do polietile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É analisado em laboratório a cada h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Dens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Densidade do polímero, expressa em g/cm</a:t>
            </a:r>
            <a:r>
              <a:rPr b="0" lang="pt-BR" sz="16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Junto com o MI define a aplicação final do polietile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É função da concentração de comonôm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É analisado em laboratório a cada 2 ho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4480" y="119232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7696440" cy="166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Predição de MI, com modelo baseado nas variáveis da extrus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Predição instantânea de MI, com modelo baseado nas variáveis do rea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Predição instantânea de Densidade, com modelo baseado nas variáveis do rea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4287960"/>
            <a:ext cx="7696440" cy="166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dução da dispersão em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dução das análises de laboratório em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Otimização das transições (Redução de produto fora de especificaçã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3040" y="390672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E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3400" y="1192320"/>
            <a:ext cx="29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PRINCIPAIS DIFICUL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1905120"/>
            <a:ext cx="7696440" cy="37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s propriedades do polietileno são analisadas em laboratório, em uma freqüência muito menor que o tempo de residência do reator, as vezes com horas de atraso, além de serem funções não lineares das variáveis de processo, envolvendo reações complexas.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Impurezas, não medidas afetam significativamente as propriedades do polím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trasos das variáveis de processo dependentes da produ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Sistema multivariável, extremamente acopl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Modelos físicos são escassos comercialmente, são lentos para aplicações on-line e necessitam de muitos parâmetros experiment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Constante mudança de grade, gerando entre eles produtos fora de especific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5200" y="11923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905120"/>
            <a:ext cx="7696440" cy="20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 Politeno selecionou a solução baseada em redes neurais fornecida pela Pavilion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Para a modelagem, foram utilizados 7 meses de dados de processo e laboratório. As variáveis de processo foram amostradas a cada minuto, enquanto que o MI foi analisado a cada h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O sistema abaixo, consistindo de um separador de gás-polímero e a extrusora foi o objeto do estudo inicial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666880" y="4038480"/>
          <a:ext cx="4038840" cy="26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038480"/>
                    <a:ext cx="4038840" cy="26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905120"/>
            <a:ext cx="7696440" cy="40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Foram consideradas as seguintes variáveis como entradas do modelo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Diferencial de pressão do separa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otação do parafuso da extrus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mperagem do mo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Pressão da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Temperatura da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Os dados de processo e laboratório foram compilados em uma única base de tempo. A seguir, o conjunto foi submetido a uma limpeza, onde foram excluídas situações anormais de produção, paradas, problemas com transmissores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7324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plicação de redes neurais na modelagem de Melt Index de polietil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8080" y="11923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pt-BR" sz="1600" spc="-1" strike="noStrike" u="sng">
                <a:solidFill>
                  <a:srgbClr val="003366"/>
                </a:solidFill>
                <a:uFillTx/>
                <a:latin typeface="Arial"/>
              </a:rPr>
              <a:t>MODELAGEM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1905120"/>
            <a:ext cx="7696440" cy="32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A pressão diferencial do separador foi defasada em 10 minutos para compensar o atraso de transporte até a saída da extrus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Considerando as diferenças reológicas entre as resinas produzidas em configurações de reatores diferentes, decidimos construir dois modelo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sinas com 0,4 &lt; MI &lt; 60, produzidas na configuração 1 do reator, com distribuição estreita de peso molecu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Resinas com 0,2 &lt; MI &lt; 1,0 , produzidas na configuração 2 do reator, com distribuição larga de peso molecu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Foi utilizada como variável de saída o logaritmo natural do M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2:29:52Z</dcterms:created>
  <dc:creator>Lúcio Estrella</dc:creator>
  <dc:description/>
  <dc:language>en-US</dc:language>
  <cp:lastModifiedBy>Lúcio Estrella</cp:lastModifiedBy>
  <dcterms:modified xsi:type="dcterms:W3CDTF">2004-10-21T22:11:44Z</dcterms:modified>
  <cp:revision>16</cp:revision>
  <dc:subject/>
  <dc:title>Modelagem de propriedades de polietilenos através de redes neurais</dc:title>
</cp:coreProperties>
</file>