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036-235F-4DCE-843E-DDBCDF2D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7AA-087C-476B-AA17-25407DFA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B2E-1A14-482D-8AB5-2E417D7F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D9A-BBC3-48AF-82DD-5E39B5B3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BF79-814F-4FE0-9C6E-0247993A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E3D0-5751-4F38-AA97-24BAB5A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8F7D-71E7-42F8-B6A5-F1E00992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81F6-A9A3-4F37-9480-39D2F99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D504-5302-4CBD-8C99-FBFC91D4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B46A-8C57-4CD2-839F-FF9E69C3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4B0F-C62E-4014-855F-B30CB33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A50-32A3-4271-95E7-537E01D8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2291-69BE-487B-A803-F50C0FB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9AAF-A288-40E9-ADC1-B52CC03B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3B2A-84FD-4309-9EF9-A056FECF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33FD-8D6E-4632-B276-7F0DC053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970D-B24E-4238-BDB3-6C1E61C3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9BA-5719-42C5-BA49-F5D3BC62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93B-DE50-4E11-BD29-BCE90806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854-169E-4941-A37C-AA897D46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D69-CF86-47E7-BE9A-F7302A5C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3BE-A94F-4666-9401-F27FC17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8F3-DD9A-4260-8736-195F27D6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747-2354-4516-A673-0012034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D0AA-DB55-41A7-8617-FD1EFFB7F5F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7EA5-3797-493A-ABB5-1F91EF205E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nalisadores na COPE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581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271  Analisadores Instal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13  Técnicos para Manutenção / Calibraç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01  Químico (Supervisã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stalação de novos Analisado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5909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438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Previsto em SP -5985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2767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07 Analisadores de CO (Fornos da UP-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01 Analisador de CO2 (Fornos UP-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800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Previsto em SP Efluente Leg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5562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01 Analisadores de pH (Efluente Fin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stalação de novos Analisado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5909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438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Possibilida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200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MeOH Cocr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962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MeOH propeno polímero/químico UP-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648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Viscosidade UP-1 / UP-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541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Viscosidade UTE (RA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609588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CS</a:t>
            </a:r>
            <a:r>
              <a:rPr b="0" lang="pt-BR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Isopre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stalação de novos Analisado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25909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438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Possibilida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3200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CO / CO2 Etileno de Retor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962520"/>
            <a:ext cx="693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 / S </a:t>
            </a:r>
            <a:r>
              <a:rPr b="0" lang="pt-BR" sz="2400" spc="-1" strike="noStrike" baseline="-25000">
                <a:solidFill>
                  <a:srgbClr val="ffffcc"/>
                </a:solidFill>
                <a:latin typeface="Times New Roman"/>
              </a:rPr>
              <a:t>total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Nafta Dessulfurizada (A-40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64832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pt-BR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O Secadores U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541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Sulfeto - Efluente Final S-40-6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6095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Composição / Reformado Leve e Pesado A-45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stalação de novos Analisado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25909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2438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Possibilida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3200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nxofre (BTX) A-3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3962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Gás de Flare (Composiçã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46483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nalisadores no Efluente final (Fenol, Sólidos em suspensã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nalisadores na COPE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3581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180  Analisadores em Operaç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91  Fora de Operaç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5486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14  Analisadores/Técn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-457200" y="838080"/>
          <a:ext cx="10363320" cy="64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838080"/>
                    <a:ext cx="1036332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cc66"/>
                </a:solidFill>
                <a:latin typeface="Times New Roman"/>
              </a:rPr>
              <a:t>Analisadores na COPENE</a:t>
            </a: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 97 e 200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27360" y="2832120"/>
          <a:ext cx="6102360" cy="4016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7360" y="2832120"/>
                    <a:ext cx="61023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267080" y="2819520"/>
            <a:ext cx="2971800" cy="1218960"/>
          </a:xfrm>
          <a:prstGeom prst="wedgeEllipseCallout">
            <a:avLst>
              <a:gd name="adj1" fmla="val -50638"/>
              <a:gd name="adj2" fmla="val 5586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vamp 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omáticos 199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2286000" cy="1066680"/>
          </a:xfrm>
          <a:prstGeom prst="wedgeEllipseCallout">
            <a:avLst>
              <a:gd name="adj1" fmla="val 5763"/>
              <a:gd name="adj2" fmla="val 95833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vam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-3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447920"/>
            <a:ext cx="2438280" cy="9144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rno 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2286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nalisadores na COPENE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419120"/>
          <a:ext cx="6097680" cy="401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19120"/>
                    <a:ext cx="609768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-533520" y="-76320"/>
          <a:ext cx="11506320" cy="716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33520" y="-76320"/>
                    <a:ext cx="1150632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nalisadores Fora de Operaç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Projeto Inadequado/ pH/Condutividade Fornos UP-2 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(2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751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quipamentos Inadequados / O2/CO Fornos UP-2 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(18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5211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Necessário recondicionamento / Cromatógrafos (A-5100 (1); A-1100 (1); A-4100 (1); A-5300 (2)) PHT-003; NOx; O2 (A-2350/A-350) 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(1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021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lto Custo de Manutenção / TOC (FA-4120; Cond. UP-2) 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5791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Baixo FO/Elevado HH manutenção / Óleo de Quench UP-1/UP-2 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nalisadores Fora de Operaç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4703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Sistema de Amostragem Inadequado / pH FA-4117, Cond A-4 900, Fundo DA-1207, Fundo DA-1404/1408, PVR Nnafta leve DA-101 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quipamento Obsoleto / O2 Fornos UP-1 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(1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105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Equipamento Inadequado / CO+H Fornos Aromáticos/Caldeiras  </a:t>
            </a:r>
            <a:r>
              <a:rPr b="0" lang="pt-BR" sz="2400" spc="-1" strike="noStrike">
                <a:solidFill>
                  <a:srgbClr val="ff9933"/>
                </a:solidFill>
                <a:latin typeface="Times New Roman"/>
              </a:rPr>
              <a:t>(1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nalisadores Fora de Operaç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Sistema Inativo / Ozonização UTA /Caldeira C </a:t>
            </a:r>
            <a:r>
              <a:rPr b="1" lang="pt-BR" sz="2400" spc="-1" strike="noStrike">
                <a:solidFill>
                  <a:srgbClr val="ff9933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8195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Solicitação da Operação / PHT-001 (CF-5201A); CI-104 (Condensado p/Cemap) </a:t>
            </a:r>
            <a:r>
              <a:rPr b="1" lang="pt-BR" sz="2400" spc="-1" strike="noStrike">
                <a:solidFill>
                  <a:srgbClr val="ff9933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114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Nunca Operou / Densidade GB-6601 / CS2 Isopreno/H2S Topo DA-4203 </a:t>
            </a:r>
            <a:r>
              <a:rPr b="1" lang="pt-BR" sz="2400" spc="-1" strike="noStrike">
                <a:solidFill>
                  <a:srgbClr val="ff9933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5257800"/>
            <a:ext cx="1981440" cy="7621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9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stalação de novos Analisado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5909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2438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Instalados / 2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3276720"/>
            <a:ext cx="6934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nálise de Copera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Carga A-650 (S-65-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MeOH (Propeno Químico UP-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MeOH (Propeno Polímero UP-2) *Em andam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stalação de novos Analisado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5909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438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Previsto em SP (Lab/U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3276720"/>
            <a:ext cx="6934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Butino II Fundo DA-5208 (S-520-3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CN Carga DA-5206 (S-520-48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XMEB Fundo DA-2557 (S-255-1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Gás de reciclo A-650 (S-65-0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Gás de reciclo A-450 (S-45-0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12:33:16Z</dcterms:created>
  <dc:creator>COPENE Petroquímica do Nordeste S.A</dc:creator>
  <dc:description/>
  <dc:language>en-US</dc:language>
  <cp:lastModifiedBy>Márcio Borges</cp:lastModifiedBy>
  <cp:lastPrinted>2000-09-05T15:20:26Z</cp:lastPrinted>
  <dcterms:modified xsi:type="dcterms:W3CDTF">2004-10-19T17:58:04Z</dcterms:modified>
  <cp:revision>13</cp:revision>
  <dc:subject/>
  <dc:title>Analisadores na COPENE</dc:title>
</cp:coreProperties>
</file>