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80A-13B5-43C3-A931-F16D85EC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6AD-EE6D-44A8-8CED-CC063DD1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9EF-A7F4-49A2-90FB-713FE9A3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2C6-B827-445A-9BFA-19198CBA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AA50-A4E5-45A1-9022-DD7CE3B8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AD83-FC40-48E5-8FD2-C61E447D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C8BE-6E46-4334-9F20-C08DF293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8E2F-71CD-429B-B995-6E6017C7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6D3D-DAB6-44FC-AD76-A748379D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E042-2295-448F-8764-D091F5E2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2D5-F268-46B8-BEDA-479A6D9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6D7-C254-4D15-B428-F148CFA0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7334-1A25-456C-9AF5-BA06D7A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483D-4A74-4689-B3AA-3F7FFD1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D8AD-0C90-47C1-91EB-15EA475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A584-D0C3-4BFF-BBB5-54F26D2C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2551-82B5-43D1-A4D4-17424ADB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FD5-AD97-4F75-B37B-1119F869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5F0-6FED-4A21-ADAE-0DDC122A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E1E-BE00-4935-AA75-5152073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1B8-342C-4ABF-8912-70E9D5D7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BAE-EC9E-498B-854B-9F197D2A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6D8-839D-4A21-BE74-05EC75D6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900-91C6-4E86-9885-FA8055C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586728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F95-F1F1-4933-B21F-306485A2C4D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09920" y="6171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09920" y="5486040"/>
            <a:ext cx="2117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999-30EB-41D3-8BA8-5E162323BC5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ataSheet.xls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ab-2004.xls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44014.xls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rojConcAnalisGeral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1052280"/>
            <a:ext cx="8310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cc66"/>
                </a:solidFill>
                <a:latin typeface="Arial"/>
              </a:rPr>
              <a:t>WNAP – Salvador  20/out/04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95640" y="2565360"/>
            <a:ext cx="52308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alisadores de Proces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4437000"/>
            <a:ext cx="5761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árcio Bo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imes New Roman"/>
              </a:rPr>
              <a:t>marcio.borges@braskem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Tel 71 632 558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talh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ar conceitual no ca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quisição/especificação de materi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finição do sistema de amostr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scussão com 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missão de si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oca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pectos 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Especific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talhamento do analis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cisão do equip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erentes do 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lassificação de á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ansmissão do s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ulta a outros usuá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specção Tecn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quisi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2781360"/>
            <a:ext cx="7425000" cy="511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ra direta / concorrê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quisi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700280"/>
          <a:ext cx="8424720" cy="46911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ntag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vantag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iaridade com equipamento (manutenção, desig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trição de tecnologia, redução de inov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einamento reduz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nor competição para o negóc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stomização de equipam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raso de tecnolog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hor relaciona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da de contato com outros fornece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nor prazo para decisão de comp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dução de inventário de sobressal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o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miliarização do fornecedor com o seu proces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quisi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quisição de sistem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alisadores não operam sozinho, fazem parte de um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istema de amostr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istema de aquisição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mpre comprar um analisador como um sistema e não como um item isol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 de acei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quisi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ecer Téc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volvimento dos téc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acionamento com fornec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c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i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arant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stal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ervisão na Instal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ignar pessoal treinado para acompanh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atação de pessoal especi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tilidades requer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talações elét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ases de uti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drões de calib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stal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issionamento / Star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quisição de peças sobressa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einamento com fornec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ompanhamento do fornec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864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o de Validação (1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heck da performance contra as especificações do fornece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ostra de calibração para check dos fatores de resposta de uma média de 6 anál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heck a linearidade no range especif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864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o de Validação (2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heck da performance contra um método de laboratório certifi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mostra selecionada (padrão) com concentração similar ao do processo a ser analis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ínimo de seis análises para cada 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análises do padrão no analisador de processo devem ser intercaladas com análises do 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alisadores funcion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orque existem tantos analisadores sem funcionar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isão geral de como fazer e manter analisadores funcion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o os analisadores funcionam na Brask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864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o de Validação (2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mpre analisar três vezes e usar o último resul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r teste de Dixon para eliminar outl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r F-test para avaliar precisão do método de laboratório (comparar com históri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alid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8640" y="1981080"/>
            <a:ext cx="8001000" cy="3679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esso de Validação (3</a:t>
            </a:r>
            <a:r>
              <a:rPr b="0" lang="pt-BR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as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Usar o teste t-student para avaliar variância entre os méto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eralmente intervalo de confiança de 9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 as médias não são significativamente diferentes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Analisador Valid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M D37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ção da Equ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e tipo de formação deve ser requerid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trumen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letrô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í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ção da Equ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ntos técnicos são necessár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pende do número de analis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ntos analisadores por técnic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pende da capacitação de cada 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981080"/>
          <a:ext cx="8351640" cy="4181760"/>
        </p:xfrm>
        <a:graphic>
          <a:graphicData uri="http://schemas.openxmlformats.org/drawingml/2006/table">
            <a:tbl>
              <a:tblPr/>
              <a:tblGrid>
                <a:gridCol w="2784600"/>
                <a:gridCol w="2782800"/>
                <a:gridCol w="2784240"/>
              </a:tblGrid>
              <a:tr h="73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assif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po de Analisa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H/sem/analisa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, cond, oxigên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x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G, IV, Umidade,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io-Ambie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acidade, Nox, SO2, Combu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priedades físi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ns, Calorim, Viscosíme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reinamento da equi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tivação, Assistência, Inspi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confundir experiência com ha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ódulos (instrumentação, eletrônica, química, informática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uita prática em campo (on-jo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lanejamento de manute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geral, a instrumentação tradicional pratica apenas manutenção não planejada (ou pós fal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nalisadores precisam de manutenção planejada, calibrações freqüentes e regis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arantir fornecimento de padrões de calib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lítica de sobressa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onentes de um sistema sempre fal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sta de sobressal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obressalentes crí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cilidade na aquis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inhamento entre as partes (técnicos e fornecedo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avaliação contín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fia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u não confio neste analisador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alisadores de monitoramento  com FO &lt;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nalisadores de controle de malha com FO &lt; 98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gurança/Meio ambiente com FO &lt; 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garantir a confiabilidade do analisad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lano de manutenção adeq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companhamento dos regis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trole estatístico </a:t>
            </a:r>
            <a:r>
              <a:rPr b="0" lang="pt-BR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EP cru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nuten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dicadores de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rcentual de cumprimento de manutenção planej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mo d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umo de sobressa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ator operacional – Índice de disponi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16904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óp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39160" cy="2901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ustificativa para aquis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specificação e compra de analis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e Instal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lidação de analis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nutenção e confiabil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aso Braskem/Insumos Bá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 / 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de apl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Et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/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677440" y="1695600"/>
            <a:ext cx="647640" cy="1087560"/>
            <a:chOff x="8677440" y="1695600"/>
            <a:chExt cx="647640" cy="1087560"/>
          </a:xfrm>
        </p:grpSpPr>
        <p:sp>
          <p:nvSpPr>
            <p:cNvPr id="151" name=""/>
            <p:cNvSpPr/>
            <p:nvPr/>
          </p:nvSpPr>
          <p:spPr>
            <a:xfrm>
              <a:off x="8677440" y="16956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77440" y="20559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pt-BR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77440" y="2414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O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743280" y="2465280"/>
            <a:ext cx="432000" cy="1728720"/>
          </a:xfrm>
          <a:prstGeom prst="flowChartTermina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8920" y="3041640"/>
            <a:ext cx="432000" cy="180036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31129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67280" y="26082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9280" y="6066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9280" y="2104560"/>
            <a:ext cx="1008000" cy="3601080"/>
            <a:chOff x="3959280" y="2104560"/>
            <a:chExt cx="1008000" cy="3601080"/>
          </a:xfrm>
        </p:grpSpPr>
        <p:sp>
          <p:nvSpPr>
            <p:cNvPr id="160" name=""/>
            <p:cNvSpPr/>
            <p:nvPr/>
          </p:nvSpPr>
          <p:spPr>
            <a:xfrm>
              <a:off x="3959280" y="4265640"/>
              <a:ext cx="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35640" y="2465280"/>
              <a:ext cx="431640" cy="17287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959280" y="21045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75280" y="3833640"/>
              <a:ext cx="36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51280" y="21049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51280" y="4265640"/>
              <a:ext cx="0" cy="144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3640" y="3833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280" y="4408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319640" y="1744560"/>
            <a:ext cx="936720" cy="3589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NaO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614920" y="1673280"/>
            <a:ext cx="3529080" cy="4032360"/>
            <a:chOff x="5614920" y="1673280"/>
            <a:chExt cx="3529080" cy="4032360"/>
          </a:xfrm>
        </p:grpSpPr>
        <p:sp>
          <p:nvSpPr>
            <p:cNvPr id="170" name=""/>
            <p:cNvSpPr/>
            <p:nvPr/>
          </p:nvSpPr>
          <p:spPr>
            <a:xfrm>
              <a:off x="6480000" y="2825640"/>
              <a:ext cx="432000" cy="17287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43640" y="2825640"/>
              <a:ext cx="648000" cy="792360"/>
            </a:xfrm>
            <a:prstGeom prst="flowChartSummingJunction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96360" y="2752560"/>
              <a:ext cx="431640" cy="172908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4920" y="2608200"/>
              <a:ext cx="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4920" y="4842000"/>
              <a:ext cx="0" cy="35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14920" y="520056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191280" y="3833280"/>
              <a:ext cx="0" cy="136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91280" y="38336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6000" y="455292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12000" y="3184560"/>
              <a:ext cx="50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1640" y="3184560"/>
              <a:ext cx="5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712360" y="1673280"/>
              <a:ext cx="0" cy="107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12360" y="4481640"/>
              <a:ext cx="0" cy="12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280360" y="1960560"/>
              <a:ext cx="0" cy="12240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2249640"/>
              <a:ext cx="0" cy="57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72360" y="1817640"/>
              <a:ext cx="503280" cy="432000"/>
            </a:xfrm>
            <a:prstGeom prst="flowChartMagneticTap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1640" y="188928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775640" y="1960560"/>
              <a:ext cx="504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6000" y="4697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91640" y="3184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40720" y="4913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14920" y="52005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pt-BR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12000" y="31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19640" y="1744560"/>
              <a:ext cx="432000" cy="358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0920" y="1700280"/>
            <a:ext cx="3274920" cy="2262240"/>
            <a:chOff x="250920" y="1700280"/>
            <a:chExt cx="3274920" cy="2262240"/>
          </a:xfrm>
        </p:grpSpPr>
        <p:sp>
          <p:nvSpPr>
            <p:cNvPr id="195" name=""/>
            <p:cNvSpPr/>
            <p:nvPr/>
          </p:nvSpPr>
          <p:spPr>
            <a:xfrm rot="10800000">
              <a:off x="2087640" y="2852640"/>
              <a:ext cx="792000" cy="1008000"/>
            </a:xfrm>
            <a:prstGeom prst="flowChartOffpageConnec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9640" y="3571920"/>
              <a:ext cx="100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280" y="35942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N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22560" y="2779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30560" y="29955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O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32000" y="335592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9280" y="213192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50920" y="1700280"/>
              <a:ext cx="2268360" cy="799920"/>
              <a:chOff x="250920" y="1700280"/>
              <a:chExt cx="2268360" cy="799920"/>
            </a:xfrm>
          </p:grpSpPr>
          <p:sp>
            <p:nvSpPr>
              <p:cNvPr id="203" name=""/>
              <p:cNvSpPr/>
              <p:nvPr/>
            </p:nvSpPr>
            <p:spPr>
              <a:xfrm>
                <a:off x="250920" y="1727280"/>
                <a:ext cx="865080" cy="3585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Vap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0560" y="2131920"/>
                <a:ext cx="17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22200" y="17002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p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98560" y="170028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11280" y="2131920"/>
                <a:ext cx="71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Times New Roman"/>
                  </a:rPr>
                  <a:t>Sili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4000" y="3527280"/>
              <a:ext cx="792000" cy="358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Naf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0" y="2565360"/>
            <a:ext cx="2305080" cy="773280"/>
            <a:chOff x="0" y="2565360"/>
            <a:chExt cx="2305080" cy="773280"/>
          </a:xfrm>
        </p:grpSpPr>
        <p:sp>
          <p:nvSpPr>
            <p:cNvPr id="210" name=""/>
            <p:cNvSpPr/>
            <p:nvPr/>
          </p:nvSpPr>
          <p:spPr>
            <a:xfrm>
              <a:off x="0" y="2565360"/>
              <a:ext cx="865440" cy="358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FuelG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0000" y="297036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71640" y="261000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alorímet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60720" y="2970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De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19280" y="4265640"/>
            <a:ext cx="4031640" cy="2455920"/>
            <a:chOff x="719280" y="4265640"/>
            <a:chExt cx="4031640" cy="2455920"/>
          </a:xfrm>
        </p:grpSpPr>
        <p:sp>
          <p:nvSpPr>
            <p:cNvPr id="215" name=""/>
            <p:cNvSpPr/>
            <p:nvPr/>
          </p:nvSpPr>
          <p:spPr>
            <a:xfrm>
              <a:off x="2014560" y="5200560"/>
              <a:ext cx="1079640" cy="863640"/>
            </a:xfrm>
            <a:prstGeom prst="flowChartMagneticDrum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095280" y="5705640"/>
              <a:ext cx="165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03640" y="4336920"/>
              <a:ext cx="502920" cy="432000"/>
            </a:xfrm>
            <a:prstGeom prst="flowChartMagneticTap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55640" y="4481640"/>
              <a:ext cx="64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0920" y="476892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3640" y="472428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63640" y="4724280"/>
              <a:ext cx="0" cy="165744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6353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p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9280" y="4265640"/>
              <a:ext cx="936360" cy="358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SO</a:t>
              </a: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3640" y="638172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 / 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5408640" cy="1016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osição da equi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9640" y="3427560"/>
            <a:ext cx="7992720" cy="2287440"/>
            <a:chOff x="539640" y="3427560"/>
            <a:chExt cx="7992720" cy="2287440"/>
          </a:xfrm>
        </p:grpSpPr>
        <p:cxnSp>
          <p:nvCxnSpPr>
            <p:cNvPr id="228" name="_s94225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849280" y="2962080"/>
              <a:ext cx="480960" cy="3110040"/>
            </a:xfrm>
            <a:prstGeom prst="bentConnector3">
              <a:avLst>
                <a:gd name="adj1" fmla="val 237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94220"/>
            <p:cNvCxnSpPr>
              <a:stCxn id="232" idx="0"/>
              <a:endCxn id="230" idx="2"/>
            </p:cNvCxnSpPr>
            <p:nvPr/>
          </p:nvCxnSpPr>
          <p:spPr>
            <a:xfrm flipV="1" rot="16200000">
              <a:off x="4813920" y="3997440"/>
              <a:ext cx="480960" cy="1039320"/>
            </a:xfrm>
            <a:prstGeom prst="bentConnector3">
              <a:avLst>
                <a:gd name="adj1" fmla="val 237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94219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3776760" y="3999240"/>
              <a:ext cx="480960" cy="1036080"/>
            </a:xfrm>
            <a:prstGeom prst="bentConnector3">
              <a:avLst>
                <a:gd name="adj1" fmla="val 237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94218"/>
            <p:cNvCxnSpPr>
              <a:stCxn id="236" idx="0"/>
              <a:endCxn id="230" idx="2"/>
            </p:cNvCxnSpPr>
            <p:nvPr/>
          </p:nvCxnSpPr>
          <p:spPr>
            <a:xfrm flipH="1" flipV="1" rot="5400000">
              <a:off x="2741400" y="2963880"/>
              <a:ext cx="480960" cy="3106800"/>
            </a:xfrm>
            <a:prstGeom prst="bentConnector3">
              <a:avLst>
                <a:gd name="adj1" fmla="val 237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94214"/>
            <p:cNvSpPr/>
            <p:nvPr/>
          </p:nvSpPr>
          <p:spPr>
            <a:xfrm>
              <a:off x="3498120" y="3427560"/>
              <a:ext cx="2073960" cy="8492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Químico Industrial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_s94215"/>
            <p:cNvSpPr/>
            <p:nvPr/>
          </p:nvSpPr>
          <p:spPr>
            <a:xfrm>
              <a:off x="539640" y="4757400"/>
              <a:ext cx="1775520" cy="9576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Tec Químic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0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_s94216"/>
            <p:cNvSpPr/>
            <p:nvPr/>
          </p:nvSpPr>
          <p:spPr>
            <a:xfrm>
              <a:off x="2611800" y="4757400"/>
              <a:ext cx="1775520" cy="9576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Tec Instrumentaçã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0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_s94217"/>
            <p:cNvSpPr/>
            <p:nvPr/>
          </p:nvSpPr>
          <p:spPr>
            <a:xfrm>
              <a:off x="4683960" y="4757400"/>
              <a:ext cx="1775880" cy="9576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Téc Eletrônic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0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_s94224"/>
            <p:cNvSpPr/>
            <p:nvPr/>
          </p:nvSpPr>
          <p:spPr>
            <a:xfrm>
              <a:off x="6756840" y="4757400"/>
              <a:ext cx="1775520" cy="9576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1480" rIns="141480" tIns="70920" bIns="70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Tec Engenhar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ffffff"/>
                  </a:solidFill>
                  <a:latin typeface="Times New Roman"/>
                </a:rPr>
                <a:t>0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 / 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Quantidade de equipa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71 insta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00 em ope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71 desativados (falha de especificação, falha de instalação, falha de projeto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erspectiva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60 novos equip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 / 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ipo de equipa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19000" y="2852640"/>
            <a:ext cx="3321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omatógraf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T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licome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xigê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du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2852640"/>
            <a:ext cx="3321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,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bustí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x, S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aloríme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nsitome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aso Braskem / Insumos Bás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necedores (Parceir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9000" y="2852640"/>
            <a:ext cx="3321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emens Appl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na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rvom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ettler Tol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m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and Combu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alisadores funcionam desde que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ormação de pessoal especializ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ndência fu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anuais de equipa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nalytical Instrumntation, Sherman R.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Métodos AS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169040" cy="5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Justificativ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2924280"/>
            <a:ext cx="8039160" cy="2759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169040" cy="51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Legislação </a:t>
            </a: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(licença operacional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2923920"/>
            <a:ext cx="8039160" cy="3190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igência de órgãos ambient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EMS (Continuos Emissions Monitoring Systems)  -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SA (40 CFR 60 e 40 CFR 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Exatidão, repetibilidade e disponibil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trole de Efluentes Industrias (TOC, 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Águas subterrâneas (futuro próximo) – (espectroscop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Seguranç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de Pro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ar nível de contaminantes no processo (Explosões, Incênd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gurança Pess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imite de exposição (OSH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or de oxigênio e CO no 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Process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nitoramento do comportamento do proces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nitoramnto de carga e produto (%) (ciclo long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Índice de reação ou de sepa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idade do produ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álise dos contaminantes (ppm/pp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trole de Processo (controle de mal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Índice de severidade, eficiência de reação (ciclo cur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Produçã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mento de produ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minuição de produto off-spe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timização de processo (usar ao máximo a capacidade dos equipament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conomia de vapor/energia/combustí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ição do escopo (conceitu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nalidade da med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onentes a ser mensur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ange de medi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ecisão requer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  <a:hlinkClick r:id="rId1"/>
              </a:rPr>
              <a:t>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12:00Z</dcterms:created>
  <dc:creator>Usuario</dc:creator>
  <dc:description/>
  <dc:language>en-US</dc:language>
  <cp:lastModifiedBy>TECLIM-NBK1</cp:lastModifiedBy>
  <dcterms:modified xsi:type="dcterms:W3CDTF">2004-10-20T20:00:38Z</dcterms:modified>
  <cp:revision>22</cp:revision>
  <dc:subject/>
  <dc:title>WNAP – Salvador 20, out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