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B0A76B-B606-4EDE-B262-BE2FFC2B10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B4023AB-0D34-494F-BE6F-3CCC1D8407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452600" y="79524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7280" y="4586040"/>
            <a:ext cx="50497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667-7AC5-4A85-8199-6CEE36B0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250440"/>
            <a:ext cx="80391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084-5712-4851-AC0C-19DB42E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0000" y="76176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25044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00000" y="325044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293-4726-4B8A-8117-9590DAF9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258840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8880" y="761760"/>
            <a:ext cx="258840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6880" y="761760"/>
            <a:ext cx="258840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250440"/>
            <a:ext cx="258840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8880" y="3250440"/>
            <a:ext cx="258840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6880" y="3250440"/>
            <a:ext cx="258840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9BA-A06D-44BC-BF0D-87DF334D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131-03FE-4B8C-99DC-8A5D7BA9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326-15A2-4589-8D97-5D13B11B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39229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00000" y="761760"/>
            <a:ext cx="39229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893-5A34-4792-864A-6B10737F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438-ABAF-4A1D-9A0D-78EAD259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7627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280-A161-4C9B-8D89-7E8259A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0000" y="761760"/>
            <a:ext cx="39229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25044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D19-6CAE-4B4A-9B1C-EF473DCA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39229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00000" y="76176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0" y="325044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AE1-270E-482D-9212-5A75331D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0" y="761760"/>
            <a:ext cx="39229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250440"/>
            <a:ext cx="80391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B89-35FA-47C7-B549-F983A4EA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914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4" marL="18288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0" y="6457680"/>
            <a:ext cx="3096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3ED-B59C-4165-9BB8-18422BF2ED81}" type="slidenum">
              <a:rPr b="1" i="1" lang="en-US" sz="10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666880"/>
            <a:ext cx="8440560" cy="838440"/>
            <a:chOff x="0" y="2666880"/>
            <a:chExt cx="8440560" cy="838440"/>
          </a:xfrm>
        </p:grpSpPr>
        <p:sp>
          <p:nvSpPr>
            <p:cNvPr id="49" name=""/>
            <p:cNvSpPr/>
            <p:nvPr/>
          </p:nvSpPr>
          <p:spPr>
            <a:xfrm>
              <a:off x="0" y="2819520"/>
              <a:ext cx="7173000" cy="6318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7080" y="2666880"/>
              <a:ext cx="6963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etroquímica  Brasileira de Classe Mundial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23960" y="1631880"/>
            <a:ext cx="4768920" cy="133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52" name=""/>
          <p:cNvSpPr/>
          <p:nvPr/>
        </p:nvSpPr>
        <p:spPr>
          <a:xfrm>
            <a:off x="974160" y="5950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Tahoma"/>
              </a:rPr>
              <a:t>21/10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6120" y="5543640"/>
            <a:ext cx="32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uricio Moreno Sa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55600"/>
            <a:ext cx="8543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Cromatógrafos para controle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 otimização de process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ahoma"/>
              </a:rPr>
              <a:t>Olefina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Grande escala de produção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Grande incentivo econômico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téria prima: aprox. 70% dos CV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timização da produção é imperativa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cc"/>
                </a:solidFill>
                <a:latin typeface="Tahoma"/>
              </a:rPr>
              <a:t>Olefina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Controle Avançado e Otimização em linha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Não é mais vantagem competitiv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Quem não tiver está em grande desvantagem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efinas 1 &amp;2: Controle Avançado e Otimizaçã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762120"/>
            <a:ext cx="7702560" cy="57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9440" y="1917720"/>
            <a:ext cx="6908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4400" y="1917720"/>
            <a:ext cx="1011240" cy="2359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90880" y="2254320"/>
            <a:ext cx="1540080" cy="49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57480" y="5351400"/>
            <a:ext cx="2440080" cy="1139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97480" y="4565520"/>
            <a:ext cx="1605240" cy="163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30920" y="4773600"/>
            <a:ext cx="449280" cy="625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9440" y="2335320"/>
            <a:ext cx="690840" cy="1941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152880"/>
            <a:ext cx="1636560" cy="170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90880" y="2751120"/>
            <a:ext cx="1540080" cy="139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6280" y="2319480"/>
            <a:ext cx="384120" cy="352440"/>
          </a:xfrm>
          <a:custGeom>
            <a:avLst/>
            <a:gdLst/>
            <a:ahLst/>
            <a:rect l="l" t="t" r="r" b="b"/>
            <a:pathLst>
              <a:path w="242" h="222">
                <a:moveTo>
                  <a:pt x="0" y="222"/>
                </a:moveTo>
                <a:lnTo>
                  <a:pt x="242" y="171"/>
                </a:lnTo>
                <a:lnTo>
                  <a:pt x="242" y="60"/>
                </a:lnTo>
                <a:lnTo>
                  <a:pt x="0" y="0"/>
                </a:lnTo>
                <a:lnTo>
                  <a:pt x="0" y="222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51440" y="2928960"/>
            <a:ext cx="769680" cy="449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78520" y="3233880"/>
            <a:ext cx="304560" cy="833400"/>
          </a:xfrm>
          <a:custGeom>
            <a:avLst/>
            <a:gdLst/>
            <a:ahLst/>
            <a:rect l="l" t="t" r="r" b="b"/>
            <a:pathLst>
              <a:path w="19" h="52">
                <a:moveTo>
                  <a:pt x="3" y="0"/>
                </a:moveTo>
                <a:cubicBezTo>
                  <a:pt x="2" y="0"/>
                  <a:pt x="0" y="1"/>
                  <a:pt x="0" y="3"/>
                </a:cubicBezTo>
                <a:lnTo>
                  <a:pt x="0" y="49"/>
                </a:lnTo>
                <a:cubicBezTo>
                  <a:pt x="0" y="51"/>
                  <a:pt x="2" y="52"/>
                  <a:pt x="3" y="52"/>
                </a:cubicBezTo>
                <a:lnTo>
                  <a:pt x="16" y="52"/>
                </a:lnTo>
                <a:cubicBezTo>
                  <a:pt x="17" y="52"/>
                  <a:pt x="19" y="51"/>
                  <a:pt x="19" y="49"/>
                </a:cubicBezTo>
                <a:lnTo>
                  <a:pt x="19" y="3"/>
                </a:lnTo>
                <a:cubicBezTo>
                  <a:pt x="19" y="1"/>
                  <a:pt x="17" y="0"/>
                  <a:pt x="1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1360" y="3168720"/>
            <a:ext cx="1800" cy="465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81360" y="3602160"/>
            <a:ext cx="497160" cy="81000"/>
            <a:chOff x="4581360" y="3602160"/>
            <a:chExt cx="497160" cy="81000"/>
          </a:xfrm>
        </p:grpSpPr>
        <p:sp>
          <p:nvSpPr>
            <p:cNvPr id="214" name=""/>
            <p:cNvSpPr/>
            <p:nvPr/>
          </p:nvSpPr>
          <p:spPr>
            <a:xfrm>
              <a:off x="4581360" y="3633840"/>
              <a:ext cx="481320" cy="1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7520" y="36021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1" y="2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5238720" y="3007800"/>
            <a:ext cx="1440" cy="225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38720" y="4067280"/>
            <a:ext cx="1440" cy="3222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387680" y="2543040"/>
            <a:ext cx="433080" cy="320760"/>
            <a:chOff x="4387680" y="2543040"/>
            <a:chExt cx="433080" cy="320760"/>
          </a:xfrm>
        </p:grpSpPr>
        <p:sp>
          <p:nvSpPr>
            <p:cNvPr id="219" name=""/>
            <p:cNvSpPr/>
            <p:nvPr/>
          </p:nvSpPr>
          <p:spPr>
            <a:xfrm flipH="1">
              <a:off x="4420800" y="2543040"/>
              <a:ext cx="399960" cy="30492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87680" y="2751120"/>
              <a:ext cx="11304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41" y="0"/>
                  </a:moveTo>
                  <a:lnTo>
                    <a:pt x="0" y="71"/>
                  </a:lnTo>
                  <a:lnTo>
                    <a:pt x="71" y="41"/>
                  </a:lnTo>
                  <a:lnTo>
                    <a:pt x="41" y="4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07040" y="2655720"/>
            <a:ext cx="79200" cy="192240"/>
            <a:chOff x="5207040" y="2655720"/>
            <a:chExt cx="79200" cy="192240"/>
          </a:xfrm>
        </p:grpSpPr>
        <p:sp>
          <p:nvSpPr>
            <p:cNvPr id="222" name=""/>
            <p:cNvSpPr/>
            <p:nvPr/>
          </p:nvSpPr>
          <p:spPr>
            <a:xfrm>
              <a:off x="5254560" y="2655720"/>
              <a:ext cx="1800" cy="14472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07040" y="2735280"/>
              <a:ext cx="79200" cy="112680"/>
            </a:xfrm>
            <a:custGeom>
              <a:avLst/>
              <a:gdLst/>
              <a:ahLst/>
              <a:rect l="l" t="t" r="r" b="b"/>
              <a:pathLst>
                <a:path w="50" h="71">
                  <a:moveTo>
                    <a:pt x="0" y="0"/>
                  </a:moveTo>
                  <a:lnTo>
                    <a:pt x="30" y="71"/>
                  </a:lnTo>
                  <a:lnTo>
                    <a:pt x="50" y="0"/>
                  </a:lnTo>
                  <a:lnTo>
                    <a:pt x="3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902120" y="2398680"/>
            <a:ext cx="3366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5600" y="244620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2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22600" y="890640"/>
            <a:ext cx="3916440" cy="27288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372440" y="2479680"/>
            <a:ext cx="449280" cy="79200"/>
            <a:chOff x="7372440" y="2479680"/>
            <a:chExt cx="449280" cy="79200"/>
          </a:xfrm>
        </p:grpSpPr>
        <p:sp>
          <p:nvSpPr>
            <p:cNvPr id="228" name=""/>
            <p:cNvSpPr/>
            <p:nvPr/>
          </p:nvSpPr>
          <p:spPr>
            <a:xfrm>
              <a:off x="7372440" y="2511360"/>
              <a:ext cx="43344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42160" y="247968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50"/>
                  </a:moveTo>
                  <a:lnTo>
                    <a:pt x="50" y="20"/>
                  </a:lnTo>
                  <a:lnTo>
                    <a:pt x="0" y="0"/>
                  </a:lnTo>
                  <a:lnTo>
                    <a:pt x="20" y="2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394080" y="2351160"/>
            <a:ext cx="1555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66960" y="2398680"/>
            <a:ext cx="1233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UPERAÇÃO DE HIDROGÊN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04320" y="2494080"/>
            <a:ext cx="812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 DESMETANIZAÇÃ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9480" y="3168720"/>
            <a:ext cx="109188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1880" y="3409920"/>
            <a:ext cx="88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5120" y="3457440"/>
            <a:ext cx="62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ACIONAD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69640" y="3552840"/>
            <a:ext cx="52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 GASOLI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9160" y="2222640"/>
            <a:ext cx="849240" cy="1123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2400" y="3328920"/>
            <a:ext cx="496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34600" y="3360600"/>
            <a:ext cx="30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-41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27240" y="2286000"/>
            <a:ext cx="191880" cy="577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68440" y="2703600"/>
            <a:ext cx="192240" cy="577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27240" y="2719440"/>
            <a:ext cx="433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19120" y="2703600"/>
            <a:ext cx="6516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19120" y="2863800"/>
            <a:ext cx="49320" cy="1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60680" y="3201840"/>
            <a:ext cx="176040" cy="1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8960" y="2013120"/>
            <a:ext cx="5126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7280" y="2060640"/>
            <a:ext cx="32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ORN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01000" y="2046240"/>
            <a:ext cx="1025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98280" y="2076480"/>
            <a:ext cx="77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ACIONADORA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46800" y="218916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T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2880" y="2928960"/>
            <a:ext cx="946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1880" y="2976480"/>
            <a:ext cx="711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SETANIZAD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22600" y="1436760"/>
            <a:ext cx="3884400" cy="30456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19440" y="1452600"/>
            <a:ext cx="3674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75360" y="1500120"/>
            <a:ext cx="24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AXIMIZADOR   DE  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75360" y="1500120"/>
            <a:ext cx="24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XIMIZADOR   DE  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35280" y="906480"/>
            <a:ext cx="3771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97520" y="954000"/>
            <a:ext cx="112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TIM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5840" y="954000"/>
            <a:ext cx="112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OTIM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51360" y="6218280"/>
            <a:ext cx="3225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73760" y="6265800"/>
            <a:ext cx="14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86880" y="6330960"/>
            <a:ext cx="4968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964280" y="6378480"/>
            <a:ext cx="311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02720" y="4195800"/>
            <a:ext cx="561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79400" y="4243320"/>
            <a:ext cx="354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Prop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70680" y="2446200"/>
            <a:ext cx="433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48080" y="247824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t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22560" y="2960640"/>
            <a:ext cx="1315800" cy="79560"/>
            <a:chOff x="3922560" y="2960640"/>
            <a:chExt cx="1315800" cy="79560"/>
          </a:xfrm>
        </p:grpSpPr>
        <p:sp>
          <p:nvSpPr>
            <p:cNvPr id="269" name=""/>
            <p:cNvSpPr/>
            <p:nvPr/>
          </p:nvSpPr>
          <p:spPr>
            <a:xfrm flipH="1">
              <a:off x="3938400" y="3008160"/>
              <a:ext cx="129996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22560" y="2960640"/>
              <a:ext cx="81000" cy="795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51" y="0"/>
                  </a:moveTo>
                  <a:lnTo>
                    <a:pt x="0" y="30"/>
                  </a:lnTo>
                  <a:lnTo>
                    <a:pt x="51" y="50"/>
                  </a:lnTo>
                  <a:lnTo>
                    <a:pt x="31" y="3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463720" y="2206800"/>
            <a:ext cx="770040" cy="593640"/>
            <a:chOff x="5463720" y="2206800"/>
            <a:chExt cx="770040" cy="593640"/>
          </a:xfrm>
        </p:grpSpPr>
        <p:sp>
          <p:nvSpPr>
            <p:cNvPr id="272" name=""/>
            <p:cNvSpPr/>
            <p:nvPr/>
          </p:nvSpPr>
          <p:spPr>
            <a:xfrm flipH="1">
              <a:off x="5463720" y="2206800"/>
              <a:ext cx="770040" cy="5936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4080" y="2703600"/>
              <a:ext cx="79560" cy="968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10" y="0"/>
                  </a:moveTo>
                  <a:lnTo>
                    <a:pt x="0" y="61"/>
                  </a:lnTo>
                  <a:lnTo>
                    <a:pt x="50" y="41"/>
                  </a:lnTo>
                  <a:lnTo>
                    <a:pt x="2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378480" y="5207040"/>
            <a:ext cx="289080" cy="882720"/>
          </a:xfrm>
          <a:custGeom>
            <a:avLst/>
            <a:gdLst/>
            <a:ahLst/>
            <a:rect l="l" t="t" r="r" b="b"/>
            <a:pathLst>
              <a:path w="18" h="55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52"/>
                </a:lnTo>
                <a:cubicBezTo>
                  <a:pt x="0" y="54"/>
                  <a:pt x="1" y="55"/>
                  <a:pt x="3" y="55"/>
                </a:cubicBezTo>
                <a:lnTo>
                  <a:pt x="15" y="55"/>
                </a:lnTo>
                <a:cubicBezTo>
                  <a:pt x="17" y="55"/>
                  <a:pt x="18" y="54"/>
                  <a:pt x="18" y="52"/>
                </a:cubicBezTo>
                <a:lnTo>
                  <a:pt x="18" y="3"/>
                </a:lnTo>
                <a:cubicBezTo>
                  <a:pt x="18" y="1"/>
                  <a:pt x="17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37600" y="4629240"/>
            <a:ext cx="352440" cy="1508040"/>
          </a:xfrm>
          <a:custGeom>
            <a:avLst/>
            <a:gdLst/>
            <a:ahLst/>
            <a:rect l="l" t="t" r="r" b="b"/>
            <a:pathLst>
              <a:path w="22" h="94">
                <a:moveTo>
                  <a:pt x="4" y="0"/>
                </a:moveTo>
                <a:cubicBezTo>
                  <a:pt x="2" y="0"/>
                  <a:pt x="0" y="1"/>
                  <a:pt x="0" y="3"/>
                </a:cubicBezTo>
                <a:lnTo>
                  <a:pt x="0" y="90"/>
                </a:lnTo>
                <a:cubicBezTo>
                  <a:pt x="0" y="92"/>
                  <a:pt x="2" y="94"/>
                  <a:pt x="4" y="94"/>
                </a:cubicBezTo>
                <a:lnTo>
                  <a:pt x="18" y="94"/>
                </a:lnTo>
                <a:cubicBezTo>
                  <a:pt x="20" y="94"/>
                  <a:pt x="22" y="92"/>
                  <a:pt x="22" y="90"/>
                </a:cubicBezTo>
                <a:lnTo>
                  <a:pt x="22" y="3"/>
                </a:lnTo>
                <a:cubicBezTo>
                  <a:pt x="22" y="1"/>
                  <a:pt x="20" y="0"/>
                  <a:pt x="18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18240" y="5464080"/>
            <a:ext cx="88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00400" y="5511960"/>
            <a:ext cx="64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ACIONADOR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4360" y="5607000"/>
            <a:ext cx="57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 PROP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13640" y="6137280"/>
            <a:ext cx="1440" cy="1620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13640" y="6265800"/>
            <a:ext cx="449280" cy="81000"/>
            <a:chOff x="7613640" y="6265800"/>
            <a:chExt cx="449280" cy="81000"/>
          </a:xfrm>
        </p:grpSpPr>
        <p:sp>
          <p:nvSpPr>
            <p:cNvPr id="281" name=""/>
            <p:cNvSpPr/>
            <p:nvPr/>
          </p:nvSpPr>
          <p:spPr>
            <a:xfrm>
              <a:off x="7613640" y="6299280"/>
              <a:ext cx="433440" cy="1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81920" y="62658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1"/>
                  </a:lnTo>
                  <a:lnTo>
                    <a:pt x="0" y="0"/>
                  </a:lnTo>
                  <a:lnTo>
                    <a:pt x="21" y="2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V="1">
            <a:off x="6523200" y="4998960"/>
            <a:ext cx="1440" cy="2080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23200" y="6089760"/>
            <a:ext cx="1440" cy="22536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137280" y="6249960"/>
            <a:ext cx="385920" cy="81000"/>
            <a:chOff x="6137280" y="6249960"/>
            <a:chExt cx="385920" cy="81000"/>
          </a:xfrm>
        </p:grpSpPr>
        <p:sp>
          <p:nvSpPr>
            <p:cNvPr id="286" name=""/>
            <p:cNvSpPr/>
            <p:nvPr/>
          </p:nvSpPr>
          <p:spPr>
            <a:xfrm flipH="1">
              <a:off x="6153120" y="6299280"/>
              <a:ext cx="370080" cy="1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37280" y="6249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0"/>
                  </a:moveTo>
                  <a:lnTo>
                    <a:pt x="0" y="31"/>
                  </a:lnTo>
                  <a:lnTo>
                    <a:pt x="51" y="51"/>
                  </a:lnTo>
                  <a:lnTo>
                    <a:pt x="30" y="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281640" y="1917720"/>
            <a:ext cx="370080" cy="336600"/>
          </a:xfrm>
          <a:custGeom>
            <a:avLst/>
            <a:gdLst/>
            <a:ahLst/>
            <a:rect l="l" t="t" r="r" b="b"/>
            <a:pathLst>
              <a:path w="233" h="212">
                <a:moveTo>
                  <a:pt x="0" y="212"/>
                </a:moveTo>
                <a:lnTo>
                  <a:pt x="233" y="162"/>
                </a:lnTo>
                <a:lnTo>
                  <a:pt x="233" y="60"/>
                </a:lnTo>
                <a:lnTo>
                  <a:pt x="0" y="0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730920" y="2222640"/>
            <a:ext cx="225360" cy="223560"/>
            <a:chOff x="6730920" y="2222640"/>
            <a:chExt cx="225360" cy="223560"/>
          </a:xfrm>
        </p:grpSpPr>
        <p:sp>
          <p:nvSpPr>
            <p:cNvPr id="290" name=""/>
            <p:cNvSpPr/>
            <p:nvPr/>
          </p:nvSpPr>
          <p:spPr>
            <a:xfrm>
              <a:off x="6730920" y="2222640"/>
              <a:ext cx="192240" cy="19188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43600" y="235116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30"/>
                  </a:moveTo>
                  <a:lnTo>
                    <a:pt x="71" y="6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13320" y="1981080"/>
            <a:ext cx="3207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22760" y="20289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3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81640" y="2687760"/>
            <a:ext cx="449280" cy="625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92920" y="3328920"/>
            <a:ext cx="304560" cy="835200"/>
          </a:xfrm>
          <a:custGeom>
            <a:avLst/>
            <a:gdLst/>
            <a:ahLst/>
            <a:rect l="l" t="t" r="r" b="b"/>
            <a:pathLst>
              <a:path w="19" h="52">
                <a:moveTo>
                  <a:pt x="3" y="0"/>
                </a:moveTo>
                <a:cubicBezTo>
                  <a:pt x="2" y="0"/>
                  <a:pt x="0" y="1"/>
                  <a:pt x="0" y="3"/>
                </a:cubicBezTo>
                <a:lnTo>
                  <a:pt x="0" y="49"/>
                </a:lnTo>
                <a:cubicBezTo>
                  <a:pt x="0" y="51"/>
                  <a:pt x="2" y="52"/>
                  <a:pt x="3" y="52"/>
                </a:cubicBezTo>
                <a:lnTo>
                  <a:pt x="16" y="52"/>
                </a:lnTo>
                <a:cubicBezTo>
                  <a:pt x="17" y="52"/>
                  <a:pt x="19" y="51"/>
                  <a:pt x="19" y="49"/>
                </a:cubicBezTo>
                <a:lnTo>
                  <a:pt x="19" y="3"/>
                </a:lnTo>
                <a:cubicBezTo>
                  <a:pt x="19" y="1"/>
                  <a:pt x="17" y="0"/>
                  <a:pt x="16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2382840"/>
            <a:ext cx="368280" cy="1523880"/>
          </a:xfrm>
          <a:custGeom>
            <a:avLst/>
            <a:gdLst/>
            <a:ahLst/>
            <a:rect l="l" t="t" r="r" b="b"/>
            <a:pathLst>
              <a:path w="23" h="9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lnTo>
                  <a:pt x="0" y="91"/>
                </a:lnTo>
                <a:cubicBezTo>
                  <a:pt x="0" y="93"/>
                  <a:pt x="2" y="95"/>
                  <a:pt x="4" y="95"/>
                </a:cubicBezTo>
                <a:lnTo>
                  <a:pt x="19" y="95"/>
                </a:lnTo>
                <a:cubicBezTo>
                  <a:pt x="21" y="95"/>
                  <a:pt x="23" y="93"/>
                  <a:pt x="23" y="91"/>
                </a:cubicBezTo>
                <a:lnTo>
                  <a:pt x="23" y="4"/>
                </a:lnTo>
                <a:cubicBezTo>
                  <a:pt x="23" y="2"/>
                  <a:pt x="21" y="0"/>
                  <a:pt x="19" y="0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13360" y="2430360"/>
            <a:ext cx="865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1200" y="2478240"/>
            <a:ext cx="63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SOR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61320" y="2575080"/>
            <a:ext cx="441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ET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78480" y="2784600"/>
            <a:ext cx="255600" cy="384120"/>
          </a:xfrm>
          <a:custGeom>
            <a:avLst/>
            <a:gdLst/>
            <a:ahLst/>
            <a:rect l="l" t="t" r="r" b="b"/>
            <a:pathLst>
              <a:path w="16" h="24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1"/>
                </a:lnTo>
                <a:cubicBezTo>
                  <a:pt x="0" y="23"/>
                  <a:pt x="1" y="24"/>
                  <a:pt x="3" y="24"/>
                </a:cubicBezTo>
                <a:lnTo>
                  <a:pt x="14" y="24"/>
                </a:lnTo>
                <a:cubicBezTo>
                  <a:pt x="15" y="24"/>
                  <a:pt x="16" y="23"/>
                  <a:pt x="16" y="21"/>
                </a:cubicBezTo>
                <a:lnTo>
                  <a:pt x="16" y="3"/>
                </a:lnTo>
                <a:cubicBezTo>
                  <a:pt x="16" y="1"/>
                  <a:pt x="15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137280" y="2879640"/>
            <a:ext cx="1440" cy="433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153120" y="2863800"/>
            <a:ext cx="225360" cy="81000"/>
            <a:chOff x="6153120" y="2863800"/>
            <a:chExt cx="225360" cy="81000"/>
          </a:xfrm>
        </p:grpSpPr>
        <p:sp>
          <p:nvSpPr>
            <p:cNvPr id="303" name=""/>
            <p:cNvSpPr/>
            <p:nvPr/>
          </p:nvSpPr>
          <p:spPr>
            <a:xfrm>
              <a:off x="6153120" y="2895480"/>
              <a:ext cx="20952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97480" y="28638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0" y="2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651720" y="2832120"/>
            <a:ext cx="352440" cy="81000"/>
            <a:chOff x="6651720" y="2832120"/>
            <a:chExt cx="352440" cy="81000"/>
          </a:xfrm>
        </p:grpSpPr>
        <p:sp>
          <p:nvSpPr>
            <p:cNvPr id="306" name=""/>
            <p:cNvSpPr/>
            <p:nvPr/>
          </p:nvSpPr>
          <p:spPr>
            <a:xfrm>
              <a:off x="6651720" y="2863800"/>
              <a:ext cx="33660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23160" y="28321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1" y="2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667560" y="3956040"/>
            <a:ext cx="4158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45320" y="398628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t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7480" y="39862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523200" y="4965840"/>
            <a:ext cx="320400" cy="81000"/>
            <a:chOff x="6523200" y="4965840"/>
            <a:chExt cx="320400" cy="81000"/>
          </a:xfrm>
        </p:grpSpPr>
        <p:sp>
          <p:nvSpPr>
            <p:cNvPr id="312" name=""/>
            <p:cNvSpPr/>
            <p:nvPr/>
          </p:nvSpPr>
          <p:spPr>
            <a:xfrm>
              <a:off x="6523200" y="4998960"/>
              <a:ext cx="30456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62600" y="496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1"/>
                  </a:lnTo>
                  <a:lnTo>
                    <a:pt x="0" y="0"/>
                  </a:lnTo>
                  <a:lnTo>
                    <a:pt x="20" y="2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164360" y="3906720"/>
            <a:ext cx="79560" cy="209520"/>
            <a:chOff x="7164360" y="3906720"/>
            <a:chExt cx="79560" cy="209520"/>
          </a:xfrm>
        </p:grpSpPr>
        <p:sp>
          <p:nvSpPr>
            <p:cNvPr id="315" name=""/>
            <p:cNvSpPr/>
            <p:nvPr/>
          </p:nvSpPr>
          <p:spPr>
            <a:xfrm>
              <a:off x="7211880" y="3906720"/>
              <a:ext cx="1800" cy="19368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64360" y="4035600"/>
              <a:ext cx="7956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0" y="0"/>
                  </a:moveTo>
                  <a:lnTo>
                    <a:pt x="30" y="51"/>
                  </a:lnTo>
                  <a:lnTo>
                    <a:pt x="50" y="0"/>
                  </a:lnTo>
                  <a:lnTo>
                    <a:pt x="3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7613640" y="4323960"/>
            <a:ext cx="1440" cy="3049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613640" y="4308480"/>
            <a:ext cx="289080" cy="81000"/>
            <a:chOff x="7613640" y="4308480"/>
            <a:chExt cx="289080" cy="81000"/>
          </a:xfrm>
        </p:grpSpPr>
        <p:sp>
          <p:nvSpPr>
            <p:cNvPr id="319" name=""/>
            <p:cNvSpPr/>
            <p:nvPr/>
          </p:nvSpPr>
          <p:spPr>
            <a:xfrm>
              <a:off x="7613640" y="4340160"/>
              <a:ext cx="27324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21720" y="43084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1" y="2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249720" y="3168720"/>
            <a:ext cx="352440" cy="338040"/>
          </a:xfrm>
          <a:custGeom>
            <a:avLst/>
            <a:gdLst/>
            <a:ahLst/>
            <a:rect l="l" t="t" r="r" b="b"/>
            <a:pathLst>
              <a:path w="222" h="213">
                <a:moveTo>
                  <a:pt x="0" y="213"/>
                </a:moveTo>
                <a:lnTo>
                  <a:pt x="222" y="162"/>
                </a:lnTo>
                <a:lnTo>
                  <a:pt x="222" y="51"/>
                </a:lnTo>
                <a:lnTo>
                  <a:pt x="0" y="0"/>
                </a:lnTo>
                <a:lnTo>
                  <a:pt x="0" y="213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2080" y="3971880"/>
            <a:ext cx="289080" cy="817560"/>
          </a:xfrm>
          <a:custGeom>
            <a:avLst/>
            <a:gdLst/>
            <a:ahLst/>
            <a:rect l="l" t="t" r="r" b="b"/>
            <a:pathLst>
              <a:path w="18" h="51">
                <a:moveTo>
                  <a:pt x="3" y="0"/>
                </a:moveTo>
                <a:cubicBezTo>
                  <a:pt x="1" y="0"/>
                  <a:pt x="0" y="2"/>
                  <a:pt x="0" y="3"/>
                </a:cubicBezTo>
                <a:lnTo>
                  <a:pt x="0" y="48"/>
                </a:lnTo>
                <a:cubicBezTo>
                  <a:pt x="0" y="50"/>
                  <a:pt x="1" y="51"/>
                  <a:pt x="3" y="51"/>
                </a:cubicBezTo>
                <a:lnTo>
                  <a:pt x="15" y="51"/>
                </a:lnTo>
                <a:cubicBezTo>
                  <a:pt x="17" y="51"/>
                  <a:pt x="18" y="50"/>
                  <a:pt x="18" y="48"/>
                </a:cubicBezTo>
                <a:lnTo>
                  <a:pt x="18" y="3"/>
                </a:lnTo>
                <a:cubicBezTo>
                  <a:pt x="18" y="2"/>
                  <a:pt x="17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3586320"/>
            <a:ext cx="288720" cy="819000"/>
          </a:xfrm>
          <a:custGeom>
            <a:avLst/>
            <a:gdLst/>
            <a:ahLst/>
            <a:rect l="l" t="t" r="r" b="b"/>
            <a:pathLst>
              <a:path w="18" h="51">
                <a:moveTo>
                  <a:pt x="3" y="0"/>
                </a:moveTo>
                <a:cubicBezTo>
                  <a:pt x="2" y="0"/>
                  <a:pt x="0" y="2"/>
                  <a:pt x="0" y="3"/>
                </a:cubicBezTo>
                <a:lnTo>
                  <a:pt x="0" y="48"/>
                </a:lnTo>
                <a:cubicBezTo>
                  <a:pt x="0" y="50"/>
                  <a:pt x="2" y="51"/>
                  <a:pt x="3" y="51"/>
                </a:cubicBezTo>
                <a:lnTo>
                  <a:pt x="15" y="51"/>
                </a:lnTo>
                <a:cubicBezTo>
                  <a:pt x="17" y="51"/>
                  <a:pt x="18" y="50"/>
                  <a:pt x="18" y="48"/>
                </a:cubicBezTo>
                <a:lnTo>
                  <a:pt x="18" y="3"/>
                </a:lnTo>
                <a:cubicBezTo>
                  <a:pt x="18" y="2"/>
                  <a:pt x="17" y="0"/>
                  <a:pt x="15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57480" y="4805280"/>
            <a:ext cx="81000" cy="209520"/>
            <a:chOff x="2157480" y="4805280"/>
            <a:chExt cx="81000" cy="209520"/>
          </a:xfrm>
        </p:grpSpPr>
        <p:sp>
          <p:nvSpPr>
            <p:cNvPr id="325" name=""/>
            <p:cNvSpPr/>
            <p:nvPr/>
          </p:nvSpPr>
          <p:spPr>
            <a:xfrm>
              <a:off x="2206800" y="4805280"/>
              <a:ext cx="1440" cy="19368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57480" y="49338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0"/>
                  </a:moveTo>
                  <a:lnTo>
                    <a:pt x="31" y="51"/>
                  </a:lnTo>
                  <a:lnTo>
                    <a:pt x="51" y="0"/>
                  </a:lnTo>
                  <a:lnTo>
                    <a:pt x="3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703600" y="4421160"/>
            <a:ext cx="81000" cy="208080"/>
            <a:chOff x="2703600" y="4421160"/>
            <a:chExt cx="81000" cy="208080"/>
          </a:xfrm>
        </p:grpSpPr>
        <p:sp>
          <p:nvSpPr>
            <p:cNvPr id="328" name=""/>
            <p:cNvSpPr/>
            <p:nvPr/>
          </p:nvSpPr>
          <p:spPr>
            <a:xfrm>
              <a:off x="2751120" y="4421160"/>
              <a:ext cx="1440" cy="1922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3600" y="4549680"/>
              <a:ext cx="81000" cy="795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0" y="0"/>
                  </a:moveTo>
                  <a:lnTo>
                    <a:pt x="30" y="50"/>
                  </a:lnTo>
                  <a:lnTo>
                    <a:pt x="51" y="0"/>
                  </a:lnTo>
                  <a:lnTo>
                    <a:pt x="3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V="1">
            <a:off x="2206800" y="3746520"/>
            <a:ext cx="1440" cy="22536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22640" y="3762360"/>
            <a:ext cx="38412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35280" y="3378240"/>
            <a:ext cx="1440" cy="2080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751120" y="3362400"/>
            <a:ext cx="514440" cy="79200"/>
            <a:chOff x="2751120" y="3362400"/>
            <a:chExt cx="514440" cy="79200"/>
          </a:xfrm>
        </p:grpSpPr>
        <p:sp>
          <p:nvSpPr>
            <p:cNvPr id="334" name=""/>
            <p:cNvSpPr/>
            <p:nvPr/>
          </p:nvSpPr>
          <p:spPr>
            <a:xfrm>
              <a:off x="2751120" y="3394080"/>
              <a:ext cx="498600" cy="1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84560" y="3362400"/>
              <a:ext cx="81000" cy="792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0" y="50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0" y="2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flipV="1">
            <a:off x="3489480" y="3168360"/>
            <a:ext cx="1440" cy="6516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43040" y="2913120"/>
            <a:ext cx="11559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66600" y="2959200"/>
            <a:ext cx="883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PRESSOR DE GÁ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97840" y="3056040"/>
            <a:ext cx="42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  CAR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11320" y="3811680"/>
            <a:ext cx="9795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1760" y="3841920"/>
            <a:ext cx="744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RRE DE QUEN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6760" y="4660920"/>
            <a:ext cx="658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3840" y="4692600"/>
            <a:ext cx="32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96920" y="4983120"/>
            <a:ext cx="67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20760" y="501336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Óle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0360" y="512604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bustí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19160" y="4870440"/>
            <a:ext cx="84924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2400" y="5961240"/>
            <a:ext cx="496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18760" y="5992920"/>
            <a:ext cx="30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-41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27240" y="4950000"/>
            <a:ext cx="191880" cy="561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68440" y="5367240"/>
            <a:ext cx="192240" cy="577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27240" y="5367240"/>
            <a:ext cx="4334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19120" y="5367240"/>
            <a:ext cx="65160" cy="1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9120" y="5511960"/>
            <a:ext cx="4932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0680" y="5848200"/>
            <a:ext cx="176040" cy="1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27240" y="3506760"/>
            <a:ext cx="1440" cy="117144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480" y="5062680"/>
            <a:ext cx="32076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06480" y="2414520"/>
            <a:ext cx="320760" cy="1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36720" y="3201840"/>
            <a:ext cx="1440" cy="264636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836720" y="4437000"/>
            <a:ext cx="225360" cy="79560"/>
            <a:chOff x="1836720" y="4437000"/>
            <a:chExt cx="225360" cy="79560"/>
          </a:xfrm>
        </p:grpSpPr>
        <p:sp>
          <p:nvSpPr>
            <p:cNvPr id="361" name=""/>
            <p:cNvSpPr/>
            <p:nvPr/>
          </p:nvSpPr>
          <p:spPr>
            <a:xfrm>
              <a:off x="1836720" y="4468680"/>
              <a:ext cx="20952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81080" y="4437000"/>
              <a:ext cx="81000" cy="795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0" y="50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0" y="2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02920" y="1515960"/>
            <a:ext cx="1236960" cy="144720"/>
            <a:chOff x="1402920" y="1515960"/>
            <a:chExt cx="1236960" cy="144720"/>
          </a:xfrm>
        </p:grpSpPr>
        <p:sp>
          <p:nvSpPr>
            <p:cNvPr id="364" name=""/>
            <p:cNvSpPr/>
            <p:nvPr/>
          </p:nvSpPr>
          <p:spPr>
            <a:xfrm flipH="1">
              <a:off x="1402920" y="1581120"/>
              <a:ext cx="11876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11360" y="151596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91"/>
                  </a:moveTo>
                  <a:lnTo>
                    <a:pt x="81" y="41"/>
                  </a:lnTo>
                  <a:lnTo>
                    <a:pt x="0" y="0"/>
                  </a:lnTo>
                  <a:lnTo>
                    <a:pt x="30" y="4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324080" y="1581120"/>
            <a:ext cx="144360" cy="609480"/>
            <a:chOff x="1324080" y="1581120"/>
            <a:chExt cx="144360" cy="609480"/>
          </a:xfrm>
        </p:grpSpPr>
        <p:sp>
          <p:nvSpPr>
            <p:cNvPr id="367" name=""/>
            <p:cNvSpPr/>
            <p:nvPr/>
          </p:nvSpPr>
          <p:spPr>
            <a:xfrm>
              <a:off x="1403280" y="1581120"/>
              <a:ext cx="1800" cy="5605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24080" y="2062080"/>
              <a:ext cx="144360" cy="12852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0"/>
                  </a:moveTo>
                  <a:lnTo>
                    <a:pt x="50" y="81"/>
                  </a:lnTo>
                  <a:lnTo>
                    <a:pt x="91" y="0"/>
                  </a:lnTo>
                  <a:lnTo>
                    <a:pt x="5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33880" y="1741320"/>
            <a:ext cx="160200" cy="1043280"/>
            <a:chOff x="3233880" y="1741320"/>
            <a:chExt cx="160200" cy="1043280"/>
          </a:xfrm>
        </p:grpSpPr>
        <p:sp>
          <p:nvSpPr>
            <p:cNvPr id="370" name=""/>
            <p:cNvSpPr/>
            <p:nvPr/>
          </p:nvSpPr>
          <p:spPr>
            <a:xfrm>
              <a:off x="3313080" y="1789200"/>
              <a:ext cx="1800" cy="946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9720" y="1741320"/>
              <a:ext cx="144360" cy="1288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91" y="81"/>
                  </a:moveTo>
                  <a:lnTo>
                    <a:pt x="40" y="0"/>
                  </a:lnTo>
                  <a:lnTo>
                    <a:pt x="0" y="81"/>
                  </a:lnTo>
                  <a:lnTo>
                    <a:pt x="40" y="50"/>
                  </a:lnTo>
                  <a:lnTo>
                    <a:pt x="91" y="8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33880" y="2655720"/>
              <a:ext cx="144360" cy="1288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0"/>
                  </a:moveTo>
                  <a:lnTo>
                    <a:pt x="50" y="81"/>
                  </a:lnTo>
                  <a:lnTo>
                    <a:pt x="91" y="0"/>
                  </a:lnTo>
                  <a:lnTo>
                    <a:pt x="5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581360" y="1741320"/>
            <a:ext cx="160560" cy="544680"/>
            <a:chOff x="4581360" y="1741320"/>
            <a:chExt cx="160560" cy="544680"/>
          </a:xfrm>
        </p:grpSpPr>
        <p:sp>
          <p:nvSpPr>
            <p:cNvPr id="374" name=""/>
            <p:cNvSpPr/>
            <p:nvPr/>
          </p:nvSpPr>
          <p:spPr>
            <a:xfrm>
              <a:off x="4660920" y="1789200"/>
              <a:ext cx="1440" cy="4492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97560" y="1741320"/>
              <a:ext cx="144360" cy="1288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91" y="81"/>
                  </a:moveTo>
                  <a:lnTo>
                    <a:pt x="40" y="0"/>
                  </a:lnTo>
                  <a:lnTo>
                    <a:pt x="0" y="81"/>
                  </a:lnTo>
                  <a:lnTo>
                    <a:pt x="40" y="50"/>
                  </a:lnTo>
                  <a:lnTo>
                    <a:pt x="91" y="8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81360" y="2157480"/>
              <a:ext cx="144720" cy="12852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0"/>
                  </a:moveTo>
                  <a:lnTo>
                    <a:pt x="50" y="81"/>
                  </a:lnTo>
                  <a:lnTo>
                    <a:pt x="91" y="0"/>
                  </a:lnTo>
                  <a:lnTo>
                    <a:pt x="5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523200" y="1500120"/>
            <a:ext cx="239400" cy="144360"/>
            <a:chOff x="6523200" y="1500120"/>
            <a:chExt cx="239400" cy="144360"/>
          </a:xfrm>
        </p:grpSpPr>
        <p:sp>
          <p:nvSpPr>
            <p:cNvPr id="378" name=""/>
            <p:cNvSpPr/>
            <p:nvPr/>
          </p:nvSpPr>
          <p:spPr>
            <a:xfrm>
              <a:off x="6570720" y="1581120"/>
              <a:ext cx="1918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23200" y="150012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81" y="0"/>
                  </a:moveTo>
                  <a:lnTo>
                    <a:pt x="0" y="51"/>
                  </a:lnTo>
                  <a:lnTo>
                    <a:pt x="81" y="91"/>
                  </a:lnTo>
                  <a:lnTo>
                    <a:pt x="50" y="5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683400" y="1581120"/>
            <a:ext cx="144360" cy="304920"/>
            <a:chOff x="6683400" y="1581120"/>
            <a:chExt cx="144360" cy="304920"/>
          </a:xfrm>
        </p:grpSpPr>
        <p:sp>
          <p:nvSpPr>
            <p:cNvPr id="381" name=""/>
            <p:cNvSpPr/>
            <p:nvPr/>
          </p:nvSpPr>
          <p:spPr>
            <a:xfrm>
              <a:off x="6762600" y="1581120"/>
              <a:ext cx="1800" cy="2556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83400" y="1757520"/>
              <a:ext cx="144360" cy="12852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0"/>
                  </a:moveTo>
                  <a:lnTo>
                    <a:pt x="50" y="81"/>
                  </a:lnTo>
                  <a:lnTo>
                    <a:pt x="91" y="0"/>
                  </a:lnTo>
                  <a:lnTo>
                    <a:pt x="5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516560" y="1147680"/>
            <a:ext cx="160200" cy="289080"/>
            <a:chOff x="4516560" y="1147680"/>
            <a:chExt cx="160200" cy="289080"/>
          </a:xfrm>
        </p:grpSpPr>
        <p:sp>
          <p:nvSpPr>
            <p:cNvPr id="384" name=""/>
            <p:cNvSpPr/>
            <p:nvPr/>
          </p:nvSpPr>
          <p:spPr>
            <a:xfrm>
              <a:off x="4597560" y="1195560"/>
              <a:ext cx="1440" cy="1918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2400" y="1147680"/>
              <a:ext cx="144360" cy="127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91" y="80"/>
                  </a:moveTo>
                  <a:lnTo>
                    <a:pt x="41" y="0"/>
                  </a:lnTo>
                  <a:lnTo>
                    <a:pt x="0" y="80"/>
                  </a:lnTo>
                  <a:lnTo>
                    <a:pt x="41" y="50"/>
                  </a:lnTo>
                  <a:lnTo>
                    <a:pt x="91" y="8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16560" y="1308240"/>
              <a:ext cx="144360" cy="12852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0"/>
                  </a:moveTo>
                  <a:lnTo>
                    <a:pt x="51" y="81"/>
                  </a:lnTo>
                  <a:lnTo>
                    <a:pt x="91" y="0"/>
                  </a:lnTo>
                  <a:lnTo>
                    <a:pt x="5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70160" y="6121440"/>
            <a:ext cx="288720" cy="320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8880" y="5816520"/>
            <a:ext cx="20386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86480" y="5864400"/>
            <a:ext cx="1674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0c0c0"/>
                </a:solidFill>
                <a:latin typeface="Arial"/>
              </a:rPr>
              <a:t>CONTROLADOR PREDITIVO MULTIVARIÁ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86480" y="5864400"/>
            <a:ext cx="1674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ADOR PREDITIVO MULTIVARIÁ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62680" y="5432400"/>
            <a:ext cx="11556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80480" y="5479920"/>
            <a:ext cx="878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SPROPANIZADOR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67280" y="3778200"/>
            <a:ext cx="10746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640" y="3825720"/>
            <a:ext cx="77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SMETANIZAD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38720" y="4389480"/>
            <a:ext cx="46512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27760" y="4854600"/>
            <a:ext cx="255600" cy="384120"/>
          </a:xfrm>
          <a:custGeom>
            <a:avLst/>
            <a:gdLst/>
            <a:ahLst/>
            <a:rect l="l" t="t" r="r" b="b"/>
            <a:pathLst>
              <a:path w="16" h="24">
                <a:moveTo>
                  <a:pt x="3" y="0"/>
                </a:moveTo>
                <a:cubicBezTo>
                  <a:pt x="1" y="0"/>
                  <a:pt x="0" y="2"/>
                  <a:pt x="0" y="3"/>
                </a:cubicBezTo>
                <a:lnTo>
                  <a:pt x="0" y="22"/>
                </a:lnTo>
                <a:cubicBezTo>
                  <a:pt x="0" y="23"/>
                  <a:pt x="1" y="24"/>
                  <a:pt x="3" y="24"/>
                </a:cubicBezTo>
                <a:lnTo>
                  <a:pt x="14" y="24"/>
                </a:lnTo>
                <a:cubicBezTo>
                  <a:pt x="15" y="24"/>
                  <a:pt x="16" y="23"/>
                  <a:pt x="16" y="22"/>
                </a:cubicBezTo>
                <a:lnTo>
                  <a:pt x="16" y="3"/>
                </a:lnTo>
                <a:cubicBezTo>
                  <a:pt x="16" y="2"/>
                  <a:pt x="15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101000" y="4917960"/>
            <a:ext cx="352440" cy="81000"/>
            <a:chOff x="7101000" y="4917960"/>
            <a:chExt cx="352440" cy="81000"/>
          </a:xfrm>
        </p:grpSpPr>
        <p:sp>
          <p:nvSpPr>
            <p:cNvPr id="398" name=""/>
            <p:cNvSpPr/>
            <p:nvPr/>
          </p:nvSpPr>
          <p:spPr>
            <a:xfrm>
              <a:off x="7101000" y="4950000"/>
              <a:ext cx="336600" cy="1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72440" y="4917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1" y="2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703840" y="3538440"/>
            <a:ext cx="289080" cy="79560"/>
            <a:chOff x="5703840" y="3538440"/>
            <a:chExt cx="289080" cy="79560"/>
          </a:xfrm>
        </p:grpSpPr>
        <p:sp>
          <p:nvSpPr>
            <p:cNvPr id="401" name=""/>
            <p:cNvSpPr/>
            <p:nvPr/>
          </p:nvSpPr>
          <p:spPr>
            <a:xfrm>
              <a:off x="5703840" y="3570120"/>
              <a:ext cx="27324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13360" y="353844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50"/>
                  </a:moveTo>
                  <a:lnTo>
                    <a:pt x="50" y="20"/>
                  </a:lnTo>
                  <a:lnTo>
                    <a:pt x="0" y="0"/>
                  </a:lnTo>
                  <a:lnTo>
                    <a:pt x="20" y="2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137280" y="5367240"/>
            <a:ext cx="225360" cy="81000"/>
            <a:chOff x="6137280" y="5367240"/>
            <a:chExt cx="225360" cy="81000"/>
          </a:xfrm>
        </p:grpSpPr>
        <p:sp>
          <p:nvSpPr>
            <p:cNvPr id="404" name=""/>
            <p:cNvSpPr/>
            <p:nvPr/>
          </p:nvSpPr>
          <p:spPr>
            <a:xfrm>
              <a:off x="6137280" y="5398920"/>
              <a:ext cx="208080" cy="1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1640" y="53672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51"/>
                  </a:moveTo>
                  <a:lnTo>
                    <a:pt x="51" y="20"/>
                  </a:lnTo>
                  <a:lnTo>
                    <a:pt x="0" y="0"/>
                  </a:lnTo>
                  <a:lnTo>
                    <a:pt x="20" y="2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flipV="1">
            <a:off x="5703840" y="3570120"/>
            <a:ext cx="1800" cy="81936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137280" y="4164120"/>
            <a:ext cx="1440" cy="1234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70160" y="5769000"/>
            <a:ext cx="288720" cy="320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58880" y="6186600"/>
            <a:ext cx="785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36720" y="6234120"/>
            <a:ext cx="56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0c0c0"/>
                </a:solidFill>
                <a:latin typeface="Arial"/>
              </a:rPr>
              <a:t>NÃO INCLUÍ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36720" y="6234120"/>
            <a:ext cx="56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ÃO INCLUÍ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3880" y="4484520"/>
            <a:ext cx="88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69000" y="4532400"/>
            <a:ext cx="63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SOR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10680" y="4629240"/>
            <a:ext cx="2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P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58880" y="5416560"/>
            <a:ext cx="203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86480" y="5446800"/>
            <a:ext cx="1674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0c0c0"/>
                </a:solidFill>
                <a:latin typeface="Arial"/>
              </a:rPr>
              <a:t>CONTROLADOR PREDITIVO MULTIVARIÁ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34560" y="5559480"/>
            <a:ext cx="564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0c0c0"/>
                </a:solidFill>
                <a:latin typeface="Arial"/>
              </a:rPr>
              <a:t>JÁ INSTAL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34560" y="5559480"/>
            <a:ext cx="564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JÁ INSTAL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1960" y="5181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ahoma"/>
              </a:rPr>
              <a:t>Olefinas: Analisador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cima de 200 componentes/planta são analisados em linha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cima de 30 analisadores para controle/planta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ahoma"/>
              </a:rPr>
              <a:t>Olefinas: controle de composiçã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ahoma"/>
              </a:rPr>
              <a:t>Aplicaçõ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Combustão dos forno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9144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Poder calorífico do gás combustí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9144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Oxigênio do gás da combustã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Severidade dos fornos de piróli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Composição de topo e fundo das colunas de destilaçã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romátic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Não possui escala de produçã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Desvantagem em escala em relação aos competidores internacionai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Vantagem por diversidade de produto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romátic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ahoma"/>
              </a:rPr>
              <a:t>Controle Avançado a ser implementado nos sistemas de maiores benefício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ahoma"/>
              </a:rPr>
              <a:t>Controle Preditivo Multivariá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ahoma"/>
              </a:rPr>
              <a:t>Otimização em Linha 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Grande incentivo (grande dinamismo do mercado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Avaliação após controle avançad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Poucas implantações em outras planta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romáticos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Controle Avançad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542960" y="1106640"/>
            <a:ext cx="6321600" cy="7984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0760" y="3583080"/>
            <a:ext cx="1087560" cy="54756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14720" y="3619440"/>
            <a:ext cx="220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629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25680" y="3619440"/>
            <a:ext cx="351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74280" y="362916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14720" y="3765600"/>
            <a:ext cx="8730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92120" y="377496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Fracion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14720" y="3909960"/>
            <a:ext cx="714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0960" y="391968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 Naf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9520" y="3583080"/>
            <a:ext cx="1087560" cy="547560"/>
          </a:xfrm>
          <a:prstGeom prst="rect">
            <a:avLst/>
          </a:prstGeom>
          <a:solidFill>
            <a:srgbClr val="99cc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4920" y="3619440"/>
            <a:ext cx="110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9840" y="36291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29040" y="3619440"/>
            <a:ext cx="604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91680" y="362916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400/4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14920" y="3765600"/>
            <a:ext cx="6476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0080" y="3774960"/>
            <a:ext cx="62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Refo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14920" y="3909960"/>
            <a:ext cx="655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78280" y="39196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Catalí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19720" y="3583080"/>
            <a:ext cx="1087560" cy="54756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3320" y="3619440"/>
            <a:ext cx="111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48600" y="36291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27800" y="3619440"/>
            <a:ext cx="6998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94760" y="362916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500(RE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3320" y="3765600"/>
            <a:ext cx="7732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1720" y="37749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Extraçã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3320" y="3909960"/>
            <a:ext cx="7653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3880" y="391968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Aromá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19920" y="3583080"/>
            <a:ext cx="1085760" cy="547560"/>
          </a:xfrm>
          <a:prstGeom prst="rect">
            <a:avLst/>
          </a:prstGeom>
          <a:solidFill>
            <a:srgbClr val="99cc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3520" y="361944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3629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48520" y="3619440"/>
            <a:ext cx="422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01800" y="362916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2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13520" y="3765600"/>
            <a:ext cx="8733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90920" y="377496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Fracion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13520" y="3909960"/>
            <a:ext cx="83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8760" y="391968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 Aromá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206880" y="3836880"/>
            <a:ext cx="531720" cy="92160"/>
            <a:chOff x="3206880" y="3836880"/>
            <a:chExt cx="531720" cy="92160"/>
          </a:xfrm>
        </p:grpSpPr>
        <p:sp>
          <p:nvSpPr>
            <p:cNvPr id="467" name=""/>
            <p:cNvSpPr/>
            <p:nvPr/>
          </p:nvSpPr>
          <p:spPr>
            <a:xfrm>
              <a:off x="3206880" y="3865680"/>
              <a:ext cx="474480" cy="19080"/>
            </a:xfrm>
            <a:custGeom>
              <a:avLst/>
              <a:gdLst/>
              <a:ahLst/>
              <a:rect l="l" t="t" r="r" b="b"/>
              <a:pathLst>
                <a:path w="299" h="12">
                  <a:moveTo>
                    <a:pt x="0" y="0"/>
                  </a:moveTo>
                  <a:lnTo>
                    <a:pt x="0" y="11"/>
                  </a:lnTo>
                  <a:lnTo>
                    <a:pt x="299" y="12"/>
                  </a:lnTo>
                  <a:lnTo>
                    <a:pt x="29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43200" y="3836880"/>
              <a:ext cx="95400" cy="9216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58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805280" y="3836880"/>
            <a:ext cx="531720" cy="92160"/>
            <a:chOff x="4805280" y="3836880"/>
            <a:chExt cx="531720" cy="92160"/>
          </a:xfrm>
        </p:grpSpPr>
        <p:sp>
          <p:nvSpPr>
            <p:cNvPr id="470" name=""/>
            <p:cNvSpPr/>
            <p:nvPr/>
          </p:nvSpPr>
          <p:spPr>
            <a:xfrm>
              <a:off x="4805280" y="3865680"/>
              <a:ext cx="476280" cy="19080"/>
            </a:xfrm>
            <a:custGeom>
              <a:avLst/>
              <a:gdLst/>
              <a:ahLst/>
              <a:rect l="l" t="t" r="r" b="b"/>
              <a:pathLst>
                <a:path w="300" h="12">
                  <a:moveTo>
                    <a:pt x="0" y="0"/>
                  </a:moveTo>
                  <a:lnTo>
                    <a:pt x="0" y="11"/>
                  </a:lnTo>
                  <a:lnTo>
                    <a:pt x="300" y="12"/>
                  </a:lnTo>
                  <a:lnTo>
                    <a:pt x="30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43400" y="38368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405480" y="3836880"/>
            <a:ext cx="531720" cy="92160"/>
            <a:chOff x="6405480" y="3836880"/>
            <a:chExt cx="531720" cy="92160"/>
          </a:xfrm>
        </p:grpSpPr>
        <p:sp>
          <p:nvSpPr>
            <p:cNvPr id="473" name=""/>
            <p:cNvSpPr/>
            <p:nvPr/>
          </p:nvSpPr>
          <p:spPr>
            <a:xfrm>
              <a:off x="6405480" y="3865680"/>
              <a:ext cx="476280" cy="19080"/>
            </a:xfrm>
            <a:custGeom>
              <a:avLst/>
              <a:gdLst/>
              <a:ahLst/>
              <a:rect l="l" t="t" r="r" b="b"/>
              <a:pathLst>
                <a:path w="300" h="12">
                  <a:moveTo>
                    <a:pt x="0" y="0"/>
                  </a:moveTo>
                  <a:lnTo>
                    <a:pt x="0" y="11"/>
                  </a:lnTo>
                  <a:lnTo>
                    <a:pt x="300" y="12"/>
                  </a:lnTo>
                  <a:lnTo>
                    <a:pt x="30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43600" y="38368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152800" y="5180040"/>
            <a:ext cx="1087200" cy="5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14720" y="5216400"/>
            <a:ext cx="378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46760" y="522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52520" y="5216400"/>
            <a:ext cx="7509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22720" y="52261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4100/4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14720" y="5361120"/>
            <a:ext cx="525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13640" y="537048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Et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09720" y="5361120"/>
            <a:ext cx="111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5000" y="53704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20960" y="4591080"/>
            <a:ext cx="1089000" cy="54432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14920" y="4637160"/>
            <a:ext cx="2188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54520" y="4646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24440" y="4637160"/>
            <a:ext cx="3506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73040" y="464652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14920" y="4781520"/>
            <a:ext cx="610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73240" y="4791240"/>
            <a:ext cx="59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PG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19520" y="5180040"/>
            <a:ext cx="1087560" cy="54612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14920" y="5216400"/>
            <a:ext cx="218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54520" y="5226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24440" y="5216400"/>
            <a:ext cx="4237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77720" y="522612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2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14920" y="5361120"/>
            <a:ext cx="647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75040" y="53704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PG 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19720" y="4591080"/>
            <a:ext cx="1087560" cy="54432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3320" y="4927680"/>
            <a:ext cx="38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45360" y="49370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51480" y="4591080"/>
            <a:ext cx="750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21680" y="460044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2500/3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3320" y="4782960"/>
            <a:ext cx="844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4960" y="4792680"/>
            <a:ext cx="81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Extraçã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3320" y="4957920"/>
            <a:ext cx="801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85320" y="49672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Aromá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19720" y="2351160"/>
            <a:ext cx="1087560" cy="54612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13320" y="2387520"/>
            <a:ext cx="220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52920" y="2397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24640" y="2387520"/>
            <a:ext cx="4237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77920" y="239724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6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13320" y="2532240"/>
            <a:ext cx="6699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77760" y="254160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Unid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3320" y="2678040"/>
            <a:ext cx="677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75600" y="26877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MST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46920" y="2325600"/>
            <a:ext cx="1085760" cy="54612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13520" y="2387520"/>
            <a:ext cx="2192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53120" y="2397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23040" y="2387520"/>
            <a:ext cx="4222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75600" y="239724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550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3520" y="2532240"/>
            <a:ext cx="8733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90920" y="254160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Fracion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3520" y="2678040"/>
            <a:ext cx="9097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91640" y="2687760"/>
            <a:ext cx="87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 Aromáticos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95840" y="1407960"/>
            <a:ext cx="1087200" cy="54468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0880" y="1444680"/>
            <a:ext cx="2192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30480" y="1454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02200" y="1444680"/>
            <a:ext cx="4586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56200" y="1454040"/>
            <a:ext cx="44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550 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90880" y="1589040"/>
            <a:ext cx="8733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8280" y="160020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Fracion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90880" y="1735200"/>
            <a:ext cx="29232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35520" y="1744560"/>
            <a:ext cx="28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75280" y="1735200"/>
            <a:ext cx="4665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5640" y="1744560"/>
            <a:ext cx="44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Xile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19720" y="1407960"/>
            <a:ext cx="1087560" cy="544680"/>
          </a:xfrm>
          <a:prstGeom prst="rect">
            <a:avLst/>
          </a:prstGeom>
          <a:solidFill>
            <a:srgbClr val="99cc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3320" y="1444680"/>
            <a:ext cx="2206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52920" y="1454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24640" y="1444680"/>
            <a:ext cx="3506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73240" y="145404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7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3320" y="1589040"/>
            <a:ext cx="7794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4240" y="16002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Separa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3320" y="1735200"/>
            <a:ext cx="4240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64440" y="174456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 P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3280" y="1735200"/>
            <a:ext cx="3654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4000" y="1744560"/>
            <a:ext cx="34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Xil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46920" y="1433520"/>
            <a:ext cx="1085760" cy="544680"/>
          </a:xfrm>
          <a:prstGeom prst="rect">
            <a:avLst/>
          </a:prstGeom>
          <a:solidFill>
            <a:srgbClr val="99cc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3520" y="1444680"/>
            <a:ext cx="2192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53120" y="1454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23040" y="1444680"/>
            <a:ext cx="3492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71640" y="145404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3520" y="1589040"/>
            <a:ext cx="851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12800" y="160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Isomeriza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3520" y="1735200"/>
            <a:ext cx="3286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059240" y="1744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37520" y="1735200"/>
            <a:ext cx="4665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37880" y="1744560"/>
            <a:ext cx="44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Xile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52800" y="4591080"/>
            <a:ext cx="1087200" cy="544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14720" y="4637160"/>
            <a:ext cx="378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46760" y="4646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52520" y="4637160"/>
            <a:ext cx="7509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2720" y="46465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1100/1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14720" y="4781520"/>
            <a:ext cx="525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13640" y="479124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Et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09720" y="4781520"/>
            <a:ext cx="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560" y="4791240"/>
            <a:ext cx="7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8002440" y="3836880"/>
            <a:ext cx="459000" cy="92160"/>
            <a:chOff x="8002440" y="3836880"/>
            <a:chExt cx="459000" cy="92160"/>
          </a:xfrm>
        </p:grpSpPr>
        <p:sp>
          <p:nvSpPr>
            <p:cNvPr id="568" name=""/>
            <p:cNvSpPr/>
            <p:nvPr/>
          </p:nvSpPr>
          <p:spPr>
            <a:xfrm>
              <a:off x="8002440" y="3865680"/>
              <a:ext cx="401760" cy="19080"/>
            </a:xfrm>
            <a:custGeom>
              <a:avLst/>
              <a:gdLst/>
              <a:ahLst/>
              <a:rect l="l" t="t" r="r" b="b"/>
              <a:pathLst>
                <a:path w="253" h="12">
                  <a:moveTo>
                    <a:pt x="0" y="0"/>
                  </a:moveTo>
                  <a:lnTo>
                    <a:pt x="0" y="11"/>
                  </a:lnTo>
                  <a:lnTo>
                    <a:pt x="253" y="12"/>
                  </a:lnTo>
                  <a:lnTo>
                    <a:pt x="25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66040" y="3836880"/>
              <a:ext cx="95400" cy="9216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58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280280" y="3222720"/>
            <a:ext cx="95400" cy="360360"/>
            <a:chOff x="7280280" y="3222720"/>
            <a:chExt cx="95400" cy="360360"/>
          </a:xfrm>
        </p:grpSpPr>
        <p:sp>
          <p:nvSpPr>
            <p:cNvPr id="571" name=""/>
            <p:cNvSpPr/>
            <p:nvPr/>
          </p:nvSpPr>
          <p:spPr>
            <a:xfrm>
              <a:off x="7308720" y="327672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193"/>
                  </a:moveTo>
                  <a:lnTo>
                    <a:pt x="12" y="193"/>
                  </a:lnTo>
                  <a:lnTo>
                    <a:pt x="13" y="0"/>
                  </a:lnTo>
                  <a:lnTo>
                    <a:pt x="2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80280" y="322272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100920" y="3166920"/>
            <a:ext cx="1217520" cy="92160"/>
            <a:chOff x="6100920" y="3166920"/>
            <a:chExt cx="1217520" cy="92160"/>
          </a:xfrm>
        </p:grpSpPr>
        <p:sp>
          <p:nvSpPr>
            <p:cNvPr id="574" name=""/>
            <p:cNvSpPr/>
            <p:nvPr/>
          </p:nvSpPr>
          <p:spPr>
            <a:xfrm>
              <a:off x="6156360" y="3213000"/>
              <a:ext cx="1162080" cy="20880"/>
            </a:xfrm>
            <a:custGeom>
              <a:avLst/>
              <a:gdLst/>
              <a:ahLst/>
              <a:rect l="l" t="t" r="r" b="b"/>
              <a:pathLst>
                <a:path w="732" h="13">
                  <a:moveTo>
                    <a:pt x="732" y="11"/>
                  </a:moveTo>
                  <a:lnTo>
                    <a:pt x="732" y="0"/>
                  </a:lnTo>
                  <a:lnTo>
                    <a:pt x="0" y="1"/>
                  </a:lnTo>
                  <a:lnTo>
                    <a:pt x="0" y="13"/>
                  </a:lnTo>
                  <a:lnTo>
                    <a:pt x="7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00920" y="316692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0" y="35"/>
                  </a:lnTo>
                  <a:lnTo>
                    <a:pt x="59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062760" y="2932200"/>
            <a:ext cx="93600" cy="290520"/>
            <a:chOff x="6062760" y="2932200"/>
            <a:chExt cx="93600" cy="290520"/>
          </a:xfrm>
        </p:grpSpPr>
        <p:sp>
          <p:nvSpPr>
            <p:cNvPr id="577" name=""/>
            <p:cNvSpPr/>
            <p:nvPr/>
          </p:nvSpPr>
          <p:spPr>
            <a:xfrm>
              <a:off x="6091200" y="2986200"/>
              <a:ext cx="20520" cy="236520"/>
            </a:xfrm>
            <a:custGeom>
              <a:avLst/>
              <a:gdLst/>
              <a:ahLst/>
              <a:rect l="l" t="t" r="r" b="b"/>
              <a:pathLst>
                <a:path w="13" h="149">
                  <a:moveTo>
                    <a:pt x="0" y="149"/>
                  </a:moveTo>
                  <a:lnTo>
                    <a:pt x="11" y="149"/>
                  </a:lnTo>
                  <a:lnTo>
                    <a:pt x="13" y="0"/>
                  </a:lnTo>
                  <a:lnTo>
                    <a:pt x="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62760" y="293220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852720" y="1914480"/>
            <a:ext cx="95400" cy="1668600"/>
            <a:chOff x="3852720" y="1914480"/>
            <a:chExt cx="95400" cy="1668600"/>
          </a:xfrm>
        </p:grpSpPr>
        <p:sp>
          <p:nvSpPr>
            <p:cNvPr id="580" name=""/>
            <p:cNvSpPr/>
            <p:nvPr/>
          </p:nvSpPr>
          <p:spPr>
            <a:xfrm>
              <a:off x="3881520" y="1969920"/>
              <a:ext cx="20520" cy="1613160"/>
            </a:xfrm>
            <a:custGeom>
              <a:avLst/>
              <a:gdLst/>
              <a:ahLst/>
              <a:rect l="l" t="t" r="r" b="b"/>
              <a:pathLst>
                <a:path w="13" h="1016">
                  <a:moveTo>
                    <a:pt x="0" y="1016"/>
                  </a:moveTo>
                  <a:lnTo>
                    <a:pt x="12" y="1016"/>
                  </a:lnTo>
                  <a:lnTo>
                    <a:pt x="13" y="0"/>
                  </a:lnTo>
                  <a:lnTo>
                    <a:pt x="1" y="0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52720" y="191448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975360" y="3367080"/>
            <a:ext cx="96840" cy="216000"/>
            <a:chOff x="6975360" y="3367080"/>
            <a:chExt cx="96840" cy="216000"/>
          </a:xfrm>
        </p:grpSpPr>
        <p:sp>
          <p:nvSpPr>
            <p:cNvPr id="583" name=""/>
            <p:cNvSpPr/>
            <p:nvPr/>
          </p:nvSpPr>
          <p:spPr>
            <a:xfrm>
              <a:off x="7004160" y="3422520"/>
              <a:ext cx="20520" cy="160560"/>
            </a:xfrm>
            <a:custGeom>
              <a:avLst/>
              <a:gdLst/>
              <a:ahLst/>
              <a:rect l="l" t="t" r="r" b="b"/>
              <a:pathLst>
                <a:path w="13" h="101">
                  <a:moveTo>
                    <a:pt x="0" y="101"/>
                  </a:moveTo>
                  <a:lnTo>
                    <a:pt x="12" y="101"/>
                  </a:lnTo>
                  <a:lnTo>
                    <a:pt x="13" y="0"/>
                  </a:lnTo>
                  <a:lnTo>
                    <a:pt x="1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75360" y="336708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1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348080" y="3313080"/>
            <a:ext cx="2665440" cy="90360"/>
            <a:chOff x="4348080" y="3313080"/>
            <a:chExt cx="2665440" cy="90360"/>
          </a:xfrm>
        </p:grpSpPr>
        <p:sp>
          <p:nvSpPr>
            <p:cNvPr id="586" name=""/>
            <p:cNvSpPr/>
            <p:nvPr/>
          </p:nvSpPr>
          <p:spPr>
            <a:xfrm>
              <a:off x="4405320" y="3357720"/>
              <a:ext cx="2608200" cy="20520"/>
            </a:xfrm>
            <a:custGeom>
              <a:avLst/>
              <a:gdLst/>
              <a:ahLst/>
              <a:rect l="l" t="t" r="r" b="b"/>
              <a:pathLst>
                <a:path w="1643" h="13">
                  <a:moveTo>
                    <a:pt x="1643" y="12"/>
                  </a:moveTo>
                  <a:lnTo>
                    <a:pt x="1643" y="0"/>
                  </a:lnTo>
                  <a:lnTo>
                    <a:pt x="0" y="2"/>
                  </a:lnTo>
                  <a:lnTo>
                    <a:pt x="0" y="13"/>
                  </a:lnTo>
                  <a:lnTo>
                    <a:pt x="164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48080" y="331308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0"/>
                  </a:moveTo>
                  <a:lnTo>
                    <a:pt x="0" y="34"/>
                  </a:lnTo>
                  <a:lnTo>
                    <a:pt x="60" y="57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309920" y="1914480"/>
            <a:ext cx="95400" cy="1452600"/>
            <a:chOff x="4309920" y="1914480"/>
            <a:chExt cx="95400" cy="1452600"/>
          </a:xfrm>
        </p:grpSpPr>
        <p:sp>
          <p:nvSpPr>
            <p:cNvPr id="589" name=""/>
            <p:cNvSpPr/>
            <p:nvPr/>
          </p:nvSpPr>
          <p:spPr>
            <a:xfrm>
              <a:off x="4338720" y="1969920"/>
              <a:ext cx="20520" cy="1397160"/>
            </a:xfrm>
            <a:custGeom>
              <a:avLst/>
              <a:gdLst/>
              <a:ahLst/>
              <a:rect l="l" t="t" r="r" b="b"/>
              <a:pathLst>
                <a:path w="13" h="880">
                  <a:moveTo>
                    <a:pt x="0" y="880"/>
                  </a:moveTo>
                  <a:lnTo>
                    <a:pt x="12" y="880"/>
                  </a:lnTo>
                  <a:lnTo>
                    <a:pt x="13" y="0"/>
                  </a:lnTo>
                  <a:lnTo>
                    <a:pt x="1" y="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09920" y="191448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881600" y="1662120"/>
            <a:ext cx="455400" cy="90360"/>
            <a:chOff x="4881600" y="1662120"/>
            <a:chExt cx="455400" cy="90360"/>
          </a:xfrm>
        </p:grpSpPr>
        <p:sp>
          <p:nvSpPr>
            <p:cNvPr id="592" name=""/>
            <p:cNvSpPr/>
            <p:nvPr/>
          </p:nvSpPr>
          <p:spPr>
            <a:xfrm>
              <a:off x="4881600" y="1689120"/>
              <a:ext cx="399960" cy="20520"/>
            </a:xfrm>
            <a:custGeom>
              <a:avLst/>
              <a:gdLst/>
              <a:ahLst/>
              <a:rect l="l" t="t" r="r" b="b"/>
              <a:pathLst>
                <a:path w="252" h="13">
                  <a:moveTo>
                    <a:pt x="0" y="0"/>
                  </a:moveTo>
                  <a:lnTo>
                    <a:pt x="0" y="12"/>
                  </a:lnTo>
                  <a:lnTo>
                    <a:pt x="252" y="13"/>
                  </a:lnTo>
                  <a:lnTo>
                    <a:pt x="25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43400" y="166212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57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405480" y="1662120"/>
            <a:ext cx="531720" cy="90360"/>
            <a:chOff x="6405480" y="1662120"/>
            <a:chExt cx="531720" cy="90360"/>
          </a:xfrm>
        </p:grpSpPr>
        <p:sp>
          <p:nvSpPr>
            <p:cNvPr id="595" name=""/>
            <p:cNvSpPr/>
            <p:nvPr/>
          </p:nvSpPr>
          <p:spPr>
            <a:xfrm>
              <a:off x="6405480" y="1689120"/>
              <a:ext cx="476280" cy="20520"/>
            </a:xfrm>
            <a:custGeom>
              <a:avLst/>
              <a:gdLst/>
              <a:ahLst/>
              <a:rect l="l" t="t" r="r" b="b"/>
              <a:pathLst>
                <a:path w="300" h="13">
                  <a:moveTo>
                    <a:pt x="0" y="0"/>
                  </a:moveTo>
                  <a:lnTo>
                    <a:pt x="0" y="12"/>
                  </a:lnTo>
                  <a:lnTo>
                    <a:pt x="300" y="13"/>
                  </a:lnTo>
                  <a:lnTo>
                    <a:pt x="30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43600" y="166212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57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405480" y="2604960"/>
            <a:ext cx="531720" cy="90720"/>
            <a:chOff x="6405480" y="2604960"/>
            <a:chExt cx="531720" cy="90720"/>
          </a:xfrm>
        </p:grpSpPr>
        <p:sp>
          <p:nvSpPr>
            <p:cNvPr id="598" name=""/>
            <p:cNvSpPr/>
            <p:nvPr/>
          </p:nvSpPr>
          <p:spPr>
            <a:xfrm>
              <a:off x="6405480" y="2631960"/>
              <a:ext cx="476280" cy="20880"/>
            </a:xfrm>
            <a:custGeom>
              <a:avLst/>
              <a:gdLst/>
              <a:ahLst/>
              <a:rect l="l" t="t" r="r" b="b"/>
              <a:pathLst>
                <a:path w="300" h="13">
                  <a:moveTo>
                    <a:pt x="0" y="0"/>
                  </a:moveTo>
                  <a:lnTo>
                    <a:pt x="0" y="11"/>
                  </a:lnTo>
                  <a:lnTo>
                    <a:pt x="300" y="13"/>
                  </a:lnTo>
                  <a:lnTo>
                    <a:pt x="30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43600" y="260496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57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356600" y="973080"/>
            <a:ext cx="95040" cy="434880"/>
            <a:chOff x="7356600" y="973080"/>
            <a:chExt cx="95040" cy="434880"/>
          </a:xfrm>
        </p:grpSpPr>
        <p:sp>
          <p:nvSpPr>
            <p:cNvPr id="601" name=""/>
            <p:cNvSpPr/>
            <p:nvPr/>
          </p:nvSpPr>
          <p:spPr>
            <a:xfrm>
              <a:off x="7386480" y="1027080"/>
              <a:ext cx="19080" cy="380880"/>
            </a:xfrm>
            <a:custGeom>
              <a:avLst/>
              <a:gdLst/>
              <a:ahLst/>
              <a:rect l="l" t="t" r="r" b="b"/>
              <a:pathLst>
                <a:path w="12" h="240">
                  <a:moveTo>
                    <a:pt x="0" y="240"/>
                  </a:moveTo>
                  <a:lnTo>
                    <a:pt x="11" y="240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56600" y="973080"/>
              <a:ext cx="95040" cy="90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195800" y="917640"/>
            <a:ext cx="3198600" cy="90360"/>
            <a:chOff x="4195800" y="917640"/>
            <a:chExt cx="3198600" cy="90360"/>
          </a:xfrm>
        </p:grpSpPr>
        <p:sp>
          <p:nvSpPr>
            <p:cNvPr id="604" name=""/>
            <p:cNvSpPr/>
            <p:nvPr/>
          </p:nvSpPr>
          <p:spPr>
            <a:xfrm>
              <a:off x="4251240" y="963720"/>
              <a:ext cx="3143160" cy="19080"/>
            </a:xfrm>
            <a:custGeom>
              <a:avLst/>
              <a:gdLst/>
              <a:ahLst/>
              <a:rect l="l" t="t" r="r" b="b"/>
              <a:pathLst>
                <a:path w="1980" h="12">
                  <a:moveTo>
                    <a:pt x="1980" y="11"/>
                  </a:moveTo>
                  <a:lnTo>
                    <a:pt x="1980" y="0"/>
                  </a:lnTo>
                  <a:lnTo>
                    <a:pt x="0" y="1"/>
                  </a:lnTo>
                  <a:lnTo>
                    <a:pt x="0" y="12"/>
                  </a:lnTo>
                  <a:lnTo>
                    <a:pt x="19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95800" y="91764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0"/>
                  </a:moveTo>
                  <a:lnTo>
                    <a:pt x="0" y="35"/>
                  </a:lnTo>
                  <a:lnTo>
                    <a:pt x="59" y="5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140360" y="973080"/>
            <a:ext cx="93600" cy="434880"/>
            <a:chOff x="4140360" y="973080"/>
            <a:chExt cx="93600" cy="434880"/>
          </a:xfrm>
        </p:grpSpPr>
        <p:sp>
          <p:nvSpPr>
            <p:cNvPr id="607" name=""/>
            <p:cNvSpPr/>
            <p:nvPr/>
          </p:nvSpPr>
          <p:spPr>
            <a:xfrm>
              <a:off x="4186080" y="973080"/>
              <a:ext cx="20880" cy="380880"/>
            </a:xfrm>
            <a:custGeom>
              <a:avLst/>
              <a:gdLst/>
              <a:ahLst/>
              <a:rect l="l" t="t" r="r" b="b"/>
              <a:pathLst>
                <a:path w="13" h="240">
                  <a:moveTo>
                    <a:pt x="12" y="0"/>
                  </a:moveTo>
                  <a:lnTo>
                    <a:pt x="0" y="0"/>
                  </a:lnTo>
                  <a:lnTo>
                    <a:pt x="1" y="240"/>
                  </a:lnTo>
                  <a:lnTo>
                    <a:pt x="13" y="24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360" y="131760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0"/>
                  </a:moveTo>
                  <a:lnTo>
                    <a:pt x="35" y="57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834160" y="1117440"/>
            <a:ext cx="93600" cy="290520"/>
            <a:chOff x="5834160" y="1117440"/>
            <a:chExt cx="93600" cy="290520"/>
          </a:xfrm>
        </p:grpSpPr>
        <p:sp>
          <p:nvSpPr>
            <p:cNvPr id="610" name=""/>
            <p:cNvSpPr/>
            <p:nvPr/>
          </p:nvSpPr>
          <p:spPr>
            <a:xfrm>
              <a:off x="5862600" y="1171440"/>
              <a:ext cx="20520" cy="236520"/>
            </a:xfrm>
            <a:custGeom>
              <a:avLst/>
              <a:gdLst/>
              <a:ahLst/>
              <a:rect l="l" t="t" r="r" b="b"/>
              <a:pathLst>
                <a:path w="13" h="149">
                  <a:moveTo>
                    <a:pt x="0" y="149"/>
                  </a:moveTo>
                  <a:lnTo>
                    <a:pt x="11" y="149"/>
                  </a:lnTo>
                  <a:lnTo>
                    <a:pt x="13" y="0"/>
                  </a:lnTo>
                  <a:lnTo>
                    <a:pt x="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34160" y="111744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235240" y="4164120"/>
            <a:ext cx="93600" cy="436320"/>
            <a:chOff x="2235240" y="4164120"/>
            <a:chExt cx="93600" cy="436320"/>
          </a:xfrm>
        </p:grpSpPr>
        <p:sp>
          <p:nvSpPr>
            <p:cNvPr id="613" name=""/>
            <p:cNvSpPr/>
            <p:nvPr/>
          </p:nvSpPr>
          <p:spPr>
            <a:xfrm>
              <a:off x="2282760" y="4164120"/>
              <a:ext cx="19080" cy="380880"/>
            </a:xfrm>
            <a:custGeom>
              <a:avLst/>
              <a:gdLst/>
              <a:ahLst/>
              <a:rect l="l" t="t" r="r" b="b"/>
              <a:pathLst>
                <a:path w="12" h="240">
                  <a:moveTo>
                    <a:pt x="11" y="0"/>
                  </a:moveTo>
                  <a:lnTo>
                    <a:pt x="0" y="0"/>
                  </a:lnTo>
                  <a:lnTo>
                    <a:pt x="1" y="240"/>
                  </a:lnTo>
                  <a:lnTo>
                    <a:pt x="12" y="24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35240" y="451008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0"/>
                  </a:moveTo>
                  <a:lnTo>
                    <a:pt x="35" y="57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843280" y="4164120"/>
            <a:ext cx="96840" cy="436320"/>
            <a:chOff x="2843280" y="4164120"/>
            <a:chExt cx="96840" cy="436320"/>
          </a:xfrm>
        </p:grpSpPr>
        <p:sp>
          <p:nvSpPr>
            <p:cNvPr id="616" name=""/>
            <p:cNvSpPr/>
            <p:nvPr/>
          </p:nvSpPr>
          <p:spPr>
            <a:xfrm>
              <a:off x="2892600" y="4164120"/>
              <a:ext cx="18720" cy="380880"/>
            </a:xfrm>
            <a:custGeom>
              <a:avLst/>
              <a:gdLst/>
              <a:ahLst/>
              <a:rect l="l" t="t" r="r" b="b"/>
              <a:pathLst>
                <a:path w="12" h="240">
                  <a:moveTo>
                    <a:pt x="11" y="0"/>
                  </a:moveTo>
                  <a:lnTo>
                    <a:pt x="0" y="0"/>
                  </a:lnTo>
                  <a:lnTo>
                    <a:pt x="1" y="240"/>
                  </a:lnTo>
                  <a:lnTo>
                    <a:pt x="12" y="24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43280" y="451008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0" y="0"/>
                  </a:moveTo>
                  <a:lnTo>
                    <a:pt x="37" y="57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206880" y="4678200"/>
            <a:ext cx="531720" cy="90720"/>
            <a:chOff x="3206880" y="4678200"/>
            <a:chExt cx="531720" cy="90720"/>
          </a:xfrm>
        </p:grpSpPr>
        <p:sp>
          <p:nvSpPr>
            <p:cNvPr id="619" name=""/>
            <p:cNvSpPr/>
            <p:nvPr/>
          </p:nvSpPr>
          <p:spPr>
            <a:xfrm>
              <a:off x="3206880" y="4705200"/>
              <a:ext cx="474480" cy="20880"/>
            </a:xfrm>
            <a:custGeom>
              <a:avLst/>
              <a:gdLst/>
              <a:ahLst/>
              <a:rect l="l" t="t" r="r" b="b"/>
              <a:pathLst>
                <a:path w="299" h="13">
                  <a:moveTo>
                    <a:pt x="0" y="0"/>
                  </a:moveTo>
                  <a:lnTo>
                    <a:pt x="0" y="12"/>
                  </a:lnTo>
                  <a:lnTo>
                    <a:pt x="299" y="13"/>
                  </a:lnTo>
                  <a:lnTo>
                    <a:pt x="29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43200" y="4678200"/>
              <a:ext cx="95400" cy="90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57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206880" y="5288040"/>
            <a:ext cx="531720" cy="90360"/>
            <a:chOff x="3206880" y="5288040"/>
            <a:chExt cx="531720" cy="90360"/>
          </a:xfrm>
        </p:grpSpPr>
        <p:sp>
          <p:nvSpPr>
            <p:cNvPr id="622" name=""/>
            <p:cNvSpPr/>
            <p:nvPr/>
          </p:nvSpPr>
          <p:spPr>
            <a:xfrm>
              <a:off x="3206880" y="5315040"/>
              <a:ext cx="474480" cy="20520"/>
            </a:xfrm>
            <a:custGeom>
              <a:avLst/>
              <a:gdLst/>
              <a:ahLst/>
              <a:rect l="l" t="t" r="r" b="b"/>
              <a:pathLst>
                <a:path w="299" h="13">
                  <a:moveTo>
                    <a:pt x="0" y="0"/>
                  </a:moveTo>
                  <a:lnTo>
                    <a:pt x="0" y="12"/>
                  </a:lnTo>
                  <a:lnTo>
                    <a:pt x="299" y="13"/>
                  </a:lnTo>
                  <a:lnTo>
                    <a:pt x="29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3200" y="528804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57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05280" y="4678200"/>
            <a:ext cx="531720" cy="88920"/>
            <a:chOff x="4805280" y="4678200"/>
            <a:chExt cx="531720" cy="88920"/>
          </a:xfrm>
        </p:grpSpPr>
        <p:sp>
          <p:nvSpPr>
            <p:cNvPr id="625" name=""/>
            <p:cNvSpPr/>
            <p:nvPr/>
          </p:nvSpPr>
          <p:spPr>
            <a:xfrm>
              <a:off x="4805280" y="4705200"/>
              <a:ext cx="476280" cy="20880"/>
            </a:xfrm>
            <a:custGeom>
              <a:avLst/>
              <a:gdLst/>
              <a:ahLst/>
              <a:rect l="l" t="t" r="r" b="b"/>
              <a:pathLst>
                <a:path w="300" h="13">
                  <a:moveTo>
                    <a:pt x="0" y="0"/>
                  </a:moveTo>
                  <a:lnTo>
                    <a:pt x="0" y="12"/>
                  </a:lnTo>
                  <a:lnTo>
                    <a:pt x="300" y="13"/>
                  </a:lnTo>
                  <a:lnTo>
                    <a:pt x="30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43400" y="4678200"/>
              <a:ext cx="93600" cy="8892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0" y="56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05480" y="4853160"/>
            <a:ext cx="1065240" cy="90360"/>
            <a:chOff x="6405480" y="4853160"/>
            <a:chExt cx="1065240" cy="90360"/>
          </a:xfrm>
        </p:grpSpPr>
        <p:sp>
          <p:nvSpPr>
            <p:cNvPr id="628" name=""/>
            <p:cNvSpPr/>
            <p:nvPr/>
          </p:nvSpPr>
          <p:spPr>
            <a:xfrm>
              <a:off x="6405480" y="4879800"/>
              <a:ext cx="1008000" cy="20880"/>
            </a:xfrm>
            <a:custGeom>
              <a:avLst/>
              <a:gdLst/>
              <a:ahLst/>
              <a:rect l="l" t="t" r="r" b="b"/>
              <a:pathLst>
                <a:path w="635" h="13">
                  <a:moveTo>
                    <a:pt x="0" y="0"/>
                  </a:moveTo>
                  <a:lnTo>
                    <a:pt x="0" y="11"/>
                  </a:lnTo>
                  <a:lnTo>
                    <a:pt x="635" y="13"/>
                  </a:lnTo>
                  <a:lnTo>
                    <a:pt x="63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75680" y="4853160"/>
              <a:ext cx="9504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57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61200" y="2932200"/>
            <a:ext cx="95400" cy="290520"/>
            <a:chOff x="7261200" y="2932200"/>
            <a:chExt cx="95400" cy="290520"/>
          </a:xfrm>
        </p:grpSpPr>
        <p:sp>
          <p:nvSpPr>
            <p:cNvPr id="631" name=""/>
            <p:cNvSpPr/>
            <p:nvPr/>
          </p:nvSpPr>
          <p:spPr>
            <a:xfrm>
              <a:off x="7308720" y="2932200"/>
              <a:ext cx="20880" cy="234720"/>
            </a:xfrm>
            <a:custGeom>
              <a:avLst/>
              <a:gdLst/>
              <a:ahLst/>
              <a:rect l="l" t="t" r="r" b="b"/>
              <a:pathLst>
                <a:path w="13" h="148">
                  <a:moveTo>
                    <a:pt x="12" y="0"/>
                  </a:moveTo>
                  <a:lnTo>
                    <a:pt x="0" y="0"/>
                  </a:lnTo>
                  <a:lnTo>
                    <a:pt x="2" y="148"/>
                  </a:lnTo>
                  <a:lnTo>
                    <a:pt x="13" y="14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61200" y="3132000"/>
              <a:ext cx="95400" cy="90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0"/>
                  </a:moveTo>
                  <a:lnTo>
                    <a:pt x="36" y="5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8440" y="3186000"/>
            <a:ext cx="1143000" cy="90720"/>
            <a:chOff x="7318440" y="3186000"/>
            <a:chExt cx="1143000" cy="90720"/>
          </a:xfrm>
        </p:grpSpPr>
        <p:sp>
          <p:nvSpPr>
            <p:cNvPr id="634" name=""/>
            <p:cNvSpPr/>
            <p:nvPr/>
          </p:nvSpPr>
          <p:spPr>
            <a:xfrm>
              <a:off x="7318440" y="3213000"/>
              <a:ext cx="1085760" cy="20880"/>
            </a:xfrm>
            <a:custGeom>
              <a:avLst/>
              <a:gdLst/>
              <a:ahLst/>
              <a:rect l="l" t="t" r="r" b="b"/>
              <a:pathLst>
                <a:path w="684" h="13">
                  <a:moveTo>
                    <a:pt x="0" y="0"/>
                  </a:moveTo>
                  <a:lnTo>
                    <a:pt x="0" y="11"/>
                  </a:lnTo>
                  <a:lnTo>
                    <a:pt x="684" y="13"/>
                  </a:lnTo>
                  <a:lnTo>
                    <a:pt x="6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66040" y="3186000"/>
              <a:ext cx="95400" cy="90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57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80280" y="2131920"/>
            <a:ext cx="95400" cy="219240"/>
            <a:chOff x="7280280" y="2131920"/>
            <a:chExt cx="95400" cy="219240"/>
          </a:xfrm>
        </p:grpSpPr>
        <p:sp>
          <p:nvSpPr>
            <p:cNvPr id="637" name=""/>
            <p:cNvSpPr/>
            <p:nvPr/>
          </p:nvSpPr>
          <p:spPr>
            <a:xfrm>
              <a:off x="7308720" y="218772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103"/>
                  </a:moveTo>
                  <a:lnTo>
                    <a:pt x="12" y="103"/>
                  </a:lnTo>
                  <a:lnTo>
                    <a:pt x="13" y="0"/>
                  </a:lnTo>
                  <a:lnTo>
                    <a:pt x="2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80280" y="2131920"/>
              <a:ext cx="95400" cy="9216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60" y="58"/>
                  </a:moveTo>
                  <a:lnTo>
                    <a:pt x="24" y="0"/>
                  </a:lnTo>
                  <a:lnTo>
                    <a:pt x="0" y="58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796000" y="2077920"/>
            <a:ext cx="1522440" cy="90720"/>
            <a:chOff x="5796000" y="2077920"/>
            <a:chExt cx="1522440" cy="90720"/>
          </a:xfrm>
        </p:grpSpPr>
        <p:sp>
          <p:nvSpPr>
            <p:cNvPr id="640" name=""/>
            <p:cNvSpPr/>
            <p:nvPr/>
          </p:nvSpPr>
          <p:spPr>
            <a:xfrm>
              <a:off x="5851440" y="2124000"/>
              <a:ext cx="1467000" cy="19080"/>
            </a:xfrm>
            <a:custGeom>
              <a:avLst/>
              <a:gdLst/>
              <a:ahLst/>
              <a:rect l="l" t="t" r="r" b="b"/>
              <a:pathLst>
                <a:path w="924" h="12">
                  <a:moveTo>
                    <a:pt x="924" y="11"/>
                  </a:moveTo>
                  <a:lnTo>
                    <a:pt x="924" y="0"/>
                  </a:lnTo>
                  <a:lnTo>
                    <a:pt x="0" y="1"/>
                  </a:lnTo>
                  <a:lnTo>
                    <a:pt x="0" y="12"/>
                  </a:lnTo>
                  <a:lnTo>
                    <a:pt x="92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96000" y="207792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0"/>
                  </a:moveTo>
                  <a:lnTo>
                    <a:pt x="0" y="34"/>
                  </a:lnTo>
                  <a:lnTo>
                    <a:pt x="59" y="5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757840" y="1914480"/>
            <a:ext cx="93600" cy="217440"/>
            <a:chOff x="5757840" y="1914480"/>
            <a:chExt cx="93600" cy="217440"/>
          </a:xfrm>
        </p:grpSpPr>
        <p:sp>
          <p:nvSpPr>
            <p:cNvPr id="643" name=""/>
            <p:cNvSpPr/>
            <p:nvPr/>
          </p:nvSpPr>
          <p:spPr>
            <a:xfrm>
              <a:off x="5786280" y="1969920"/>
              <a:ext cx="19080" cy="16200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0" y="102"/>
                  </a:moveTo>
                  <a:lnTo>
                    <a:pt x="11" y="10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57840" y="191448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57"/>
                  </a:moveTo>
                  <a:lnTo>
                    <a:pt x="24" y="0"/>
                  </a:lnTo>
                  <a:lnTo>
                    <a:pt x="0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920880" y="5143680"/>
            <a:ext cx="1217520" cy="90360"/>
            <a:chOff x="920880" y="5143680"/>
            <a:chExt cx="1217520" cy="90360"/>
          </a:xfrm>
        </p:grpSpPr>
        <p:sp>
          <p:nvSpPr>
            <p:cNvPr id="646" name=""/>
            <p:cNvSpPr/>
            <p:nvPr/>
          </p:nvSpPr>
          <p:spPr>
            <a:xfrm>
              <a:off x="920880" y="5170320"/>
              <a:ext cx="1162080" cy="20880"/>
            </a:xfrm>
            <a:custGeom>
              <a:avLst/>
              <a:gdLst/>
              <a:ahLst/>
              <a:rect l="l" t="t" r="r" b="b"/>
              <a:pathLst>
                <a:path w="732" h="13">
                  <a:moveTo>
                    <a:pt x="0" y="0"/>
                  </a:moveTo>
                  <a:lnTo>
                    <a:pt x="0" y="11"/>
                  </a:lnTo>
                  <a:lnTo>
                    <a:pt x="732" y="13"/>
                  </a:lnTo>
                  <a:lnTo>
                    <a:pt x="7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44800" y="514368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57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149480" y="3656160"/>
            <a:ext cx="761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31960" y="3692520"/>
            <a:ext cx="3142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79120" y="370188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Naf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49480" y="4964040"/>
            <a:ext cx="7617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43080" y="4997520"/>
            <a:ext cx="314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90240" y="500688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Naf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72320" y="1117440"/>
            <a:ext cx="838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65920" y="1154160"/>
            <a:ext cx="1332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03000" y="116352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P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00920" y="1154160"/>
            <a:ext cx="3650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1280" y="1163520"/>
            <a:ext cx="34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Xil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02440" y="3003480"/>
            <a:ext cx="689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099280" y="3040200"/>
            <a:ext cx="4748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098920" y="304956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Tolu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002440" y="3873600"/>
            <a:ext cx="689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099280" y="3909960"/>
            <a:ext cx="517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98560" y="391968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Benz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002440" y="2604960"/>
            <a:ext cx="382680" cy="90720"/>
            <a:chOff x="8002440" y="2604960"/>
            <a:chExt cx="382680" cy="90720"/>
          </a:xfrm>
        </p:grpSpPr>
        <p:sp>
          <p:nvSpPr>
            <p:cNvPr id="666" name=""/>
            <p:cNvSpPr/>
            <p:nvPr/>
          </p:nvSpPr>
          <p:spPr>
            <a:xfrm>
              <a:off x="8002440" y="2631960"/>
              <a:ext cx="325440" cy="2088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0" y="0"/>
                  </a:moveTo>
                  <a:lnTo>
                    <a:pt x="0" y="11"/>
                  </a:lnTo>
                  <a:lnTo>
                    <a:pt x="205" y="13"/>
                  </a:lnTo>
                  <a:lnTo>
                    <a:pt x="20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290080" y="2604960"/>
              <a:ext cx="95040" cy="907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57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8002440" y="2422440"/>
            <a:ext cx="689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099280" y="2459160"/>
            <a:ext cx="517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98560" y="246852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Benz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013520" y="3357720"/>
            <a:ext cx="228600" cy="20520"/>
          </a:xfrm>
          <a:custGeom>
            <a:avLst/>
            <a:gdLst/>
            <a:ahLst/>
            <a:rect l="l" t="t" r="r" b="b"/>
            <a:pathLst>
              <a:path w="144" h="13">
                <a:moveTo>
                  <a:pt x="0" y="0"/>
                </a:moveTo>
                <a:lnTo>
                  <a:pt x="0" y="12"/>
                </a:lnTo>
                <a:lnTo>
                  <a:pt x="144" y="13"/>
                </a:lnTo>
                <a:lnTo>
                  <a:pt x="144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7394400" y="3330720"/>
            <a:ext cx="1067040" cy="91800"/>
            <a:chOff x="7394400" y="3330720"/>
            <a:chExt cx="1067040" cy="91800"/>
          </a:xfrm>
        </p:grpSpPr>
        <p:sp>
          <p:nvSpPr>
            <p:cNvPr id="673" name=""/>
            <p:cNvSpPr/>
            <p:nvPr/>
          </p:nvSpPr>
          <p:spPr>
            <a:xfrm>
              <a:off x="7394400" y="3357720"/>
              <a:ext cx="1009800" cy="20520"/>
            </a:xfrm>
            <a:custGeom>
              <a:avLst/>
              <a:gdLst/>
              <a:ahLst/>
              <a:rect l="l" t="t" r="r" b="b"/>
              <a:pathLst>
                <a:path w="636" h="13">
                  <a:moveTo>
                    <a:pt x="0" y="0"/>
                  </a:moveTo>
                  <a:lnTo>
                    <a:pt x="0" y="12"/>
                  </a:lnTo>
                  <a:lnTo>
                    <a:pt x="636" y="13"/>
                  </a:lnTo>
                  <a:lnTo>
                    <a:pt x="63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66040" y="3330720"/>
              <a:ext cx="95400" cy="9180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58"/>
                  </a:moveTo>
                  <a:lnTo>
                    <a:pt x="60" y="23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002440" y="3367080"/>
            <a:ext cx="689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099280" y="3402000"/>
            <a:ext cx="4302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99640" y="34113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0023"/>
                </a:solidFill>
                <a:latin typeface="Arial"/>
              </a:rPr>
              <a:t>Xile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400880" y="4156200"/>
            <a:ext cx="139680" cy="784080"/>
            <a:chOff x="7400880" y="4156200"/>
            <a:chExt cx="139680" cy="784080"/>
          </a:xfrm>
        </p:grpSpPr>
        <p:sp>
          <p:nvSpPr>
            <p:cNvPr id="679" name=""/>
            <p:cNvSpPr/>
            <p:nvPr/>
          </p:nvSpPr>
          <p:spPr>
            <a:xfrm>
              <a:off x="7458120" y="4290840"/>
              <a:ext cx="2232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00880" y="415620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88"/>
                  </a:moveTo>
                  <a:lnTo>
                    <a:pt x="43" y="0"/>
                  </a:lnTo>
                  <a:lnTo>
                    <a:pt x="0" y="88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5322960" y="5200560"/>
            <a:ext cx="1047600" cy="541440"/>
          </a:xfrm>
          <a:prstGeom prst="rect">
            <a:avLst/>
          </a:prstGeom>
          <a:solidFill>
            <a:srgbClr val="99cc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89080" y="52848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-5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91520" y="551988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cc"/>
                </a:solidFill>
                <a:latin typeface="Arial"/>
              </a:rPr>
              <a:t>Isopr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54600" y="5451480"/>
            <a:ext cx="174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19840" y="5024520"/>
            <a:ext cx="107640" cy="439560"/>
          </a:xfrm>
          <a:custGeom>
            <a:avLst/>
            <a:gdLst/>
            <a:ahLst/>
            <a:rect l="l" t="t" r="r" b="b"/>
            <a:pathLst>
              <a:path w="68" h="277">
                <a:moveTo>
                  <a:pt x="0" y="275"/>
                </a:moveTo>
                <a:lnTo>
                  <a:pt x="13" y="277"/>
                </a:lnTo>
                <a:lnTo>
                  <a:pt x="68" y="3"/>
                </a:lnTo>
                <a:lnTo>
                  <a:pt x="55" y="0"/>
                </a:lnTo>
                <a:lnTo>
                  <a:pt x="0" y="2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116680" y="4970520"/>
            <a:ext cx="174600" cy="114120"/>
            <a:chOff x="5116680" y="4970520"/>
            <a:chExt cx="174600" cy="114120"/>
          </a:xfrm>
        </p:grpSpPr>
        <p:sp>
          <p:nvSpPr>
            <p:cNvPr id="687" name=""/>
            <p:cNvSpPr/>
            <p:nvPr/>
          </p:nvSpPr>
          <p:spPr>
            <a:xfrm>
              <a:off x="5116680" y="5027760"/>
              <a:ext cx="6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78600" y="4970520"/>
              <a:ext cx="112680" cy="114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72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4854600" y="5016600"/>
            <a:ext cx="1746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19840" y="5024520"/>
            <a:ext cx="107640" cy="439560"/>
          </a:xfrm>
          <a:custGeom>
            <a:avLst/>
            <a:gdLst/>
            <a:ahLst/>
            <a:rect l="l" t="t" r="r" b="b"/>
            <a:pathLst>
              <a:path w="68" h="277">
                <a:moveTo>
                  <a:pt x="13" y="0"/>
                </a:moveTo>
                <a:lnTo>
                  <a:pt x="0" y="3"/>
                </a:lnTo>
                <a:lnTo>
                  <a:pt x="55" y="277"/>
                </a:lnTo>
                <a:lnTo>
                  <a:pt x="68" y="27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116680" y="5407200"/>
            <a:ext cx="174600" cy="114120"/>
            <a:chOff x="5116680" y="5407200"/>
            <a:chExt cx="174600" cy="114120"/>
          </a:xfrm>
        </p:grpSpPr>
        <p:sp>
          <p:nvSpPr>
            <p:cNvPr id="692" name=""/>
            <p:cNvSpPr/>
            <p:nvPr/>
          </p:nvSpPr>
          <p:spPr>
            <a:xfrm>
              <a:off x="5116680" y="5462640"/>
              <a:ext cx="6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78600" y="5407200"/>
              <a:ext cx="112680" cy="114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72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767120" y="5549760"/>
            <a:ext cx="532080" cy="87480"/>
            <a:chOff x="4767120" y="5549760"/>
            <a:chExt cx="532080" cy="87480"/>
          </a:xfrm>
        </p:grpSpPr>
        <p:sp>
          <p:nvSpPr>
            <p:cNvPr id="695" name=""/>
            <p:cNvSpPr/>
            <p:nvPr/>
          </p:nvSpPr>
          <p:spPr>
            <a:xfrm>
              <a:off x="4767120" y="5576760"/>
              <a:ext cx="476280" cy="20880"/>
            </a:xfrm>
            <a:custGeom>
              <a:avLst/>
              <a:gdLst/>
              <a:ahLst/>
              <a:rect l="l" t="t" r="r" b="b"/>
              <a:pathLst>
                <a:path w="300" h="13">
                  <a:moveTo>
                    <a:pt x="0" y="0"/>
                  </a:moveTo>
                  <a:lnTo>
                    <a:pt x="0" y="12"/>
                  </a:lnTo>
                  <a:lnTo>
                    <a:pt x="300" y="13"/>
                  </a:lnTo>
                  <a:lnTo>
                    <a:pt x="30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05240" y="5549760"/>
              <a:ext cx="9396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743280" y="5881680"/>
            <a:ext cx="1047960" cy="54144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95280" y="596592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-350/2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51000" y="620064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cc"/>
                </a:solidFill>
                <a:latin typeface="Arial"/>
              </a:rPr>
              <a:t>`Butadi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98960" y="5016600"/>
            <a:ext cx="349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548160" y="5929200"/>
            <a:ext cx="172800" cy="114480"/>
            <a:chOff x="3548160" y="5929200"/>
            <a:chExt cx="172800" cy="114480"/>
          </a:xfrm>
        </p:grpSpPr>
        <p:sp>
          <p:nvSpPr>
            <p:cNvPr id="702" name=""/>
            <p:cNvSpPr/>
            <p:nvPr/>
          </p:nvSpPr>
          <p:spPr>
            <a:xfrm>
              <a:off x="3548160" y="59850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10080" y="5929200"/>
              <a:ext cx="110880" cy="11448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0" y="72"/>
                  </a:moveTo>
                  <a:lnTo>
                    <a:pt x="70" y="35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3537000" y="5027760"/>
            <a:ext cx="22320" cy="9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98960" y="5451480"/>
            <a:ext cx="174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3373560" y="6191280"/>
            <a:ext cx="347400" cy="114120"/>
            <a:chOff x="3373560" y="6191280"/>
            <a:chExt cx="347400" cy="114120"/>
          </a:xfrm>
        </p:grpSpPr>
        <p:sp>
          <p:nvSpPr>
            <p:cNvPr id="707" name=""/>
            <p:cNvSpPr/>
            <p:nvPr/>
          </p:nvSpPr>
          <p:spPr>
            <a:xfrm>
              <a:off x="3373560" y="6246720"/>
              <a:ext cx="239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10080" y="6191280"/>
              <a:ext cx="110880" cy="11412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0" y="72"/>
                  </a:moveTo>
                  <a:lnTo>
                    <a:pt x="70" y="35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362400" y="5462640"/>
            <a:ext cx="223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91280" y="5881680"/>
            <a:ext cx="1047600" cy="54144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09080" y="59659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-5000/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679720" y="6200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T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767120" y="6159600"/>
            <a:ext cx="532080" cy="87120"/>
            <a:chOff x="4767120" y="6159600"/>
            <a:chExt cx="532080" cy="87120"/>
          </a:xfrm>
        </p:grpSpPr>
        <p:sp>
          <p:nvSpPr>
            <p:cNvPr id="714" name=""/>
            <p:cNvSpPr/>
            <p:nvPr/>
          </p:nvSpPr>
          <p:spPr>
            <a:xfrm>
              <a:off x="4767120" y="6186600"/>
              <a:ext cx="476280" cy="20520"/>
            </a:xfrm>
            <a:custGeom>
              <a:avLst/>
              <a:gdLst/>
              <a:ahLst/>
              <a:rect l="l" t="t" r="r" b="b"/>
              <a:pathLst>
                <a:path w="300" h="13">
                  <a:moveTo>
                    <a:pt x="0" y="0"/>
                  </a:moveTo>
                  <a:lnTo>
                    <a:pt x="0" y="12"/>
                  </a:lnTo>
                  <a:lnTo>
                    <a:pt x="300" y="13"/>
                  </a:lnTo>
                  <a:lnTo>
                    <a:pt x="30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05240" y="6159600"/>
              <a:ext cx="9396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59" y="23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84280" y="3594240"/>
            <a:ext cx="1087200" cy="54612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2000" y="3208320"/>
            <a:ext cx="12211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36360" y="327492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3480" y="3619440"/>
            <a:ext cx="349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82080" y="362916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A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2160" y="3765600"/>
            <a:ext cx="8733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9560" y="377496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Fracion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1800" y="3909960"/>
            <a:ext cx="988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15680" y="3919680"/>
            <a:ext cx="95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0e4"/>
                </a:solidFill>
                <a:latin typeface="Arial"/>
              </a:rPr>
              <a:t>de Condens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16080" y="3816360"/>
            <a:ext cx="261720" cy="114120"/>
            <a:chOff x="316080" y="3816360"/>
            <a:chExt cx="261720" cy="114120"/>
          </a:xfrm>
        </p:grpSpPr>
        <p:sp>
          <p:nvSpPr>
            <p:cNvPr id="726" name=""/>
            <p:cNvSpPr/>
            <p:nvPr/>
          </p:nvSpPr>
          <p:spPr>
            <a:xfrm>
              <a:off x="316080" y="3871800"/>
              <a:ext cx="152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5120" y="3816360"/>
              <a:ext cx="112680" cy="114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72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630440" y="3797280"/>
            <a:ext cx="507960" cy="122400"/>
            <a:chOff x="1630440" y="3797280"/>
            <a:chExt cx="507960" cy="122400"/>
          </a:xfrm>
        </p:grpSpPr>
        <p:sp>
          <p:nvSpPr>
            <p:cNvPr id="729" name=""/>
            <p:cNvSpPr/>
            <p:nvPr/>
          </p:nvSpPr>
          <p:spPr>
            <a:xfrm>
              <a:off x="1630440" y="3857760"/>
              <a:ext cx="390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17800" y="379728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76" y="38"/>
                  </a:lnTo>
                  <a:lnTo>
                    <a:pt x="0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6845400" y="5881680"/>
            <a:ext cx="1047600" cy="54144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209720" y="596592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-5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01720" y="620064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33cc"/>
                </a:solidFill>
                <a:latin typeface="Arial"/>
              </a:rPr>
              <a:t>But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553520" y="62006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335640" y="6091200"/>
            <a:ext cx="523800" cy="114480"/>
            <a:chOff x="6335640" y="6091200"/>
            <a:chExt cx="523800" cy="114480"/>
          </a:xfrm>
        </p:grpSpPr>
        <p:sp>
          <p:nvSpPr>
            <p:cNvPr id="736" name=""/>
            <p:cNvSpPr/>
            <p:nvPr/>
          </p:nvSpPr>
          <p:spPr>
            <a:xfrm>
              <a:off x="6335640" y="6146640"/>
              <a:ext cx="41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46760" y="6091200"/>
              <a:ext cx="112680" cy="11448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0" y="72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Aromáticos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Analisadores em linh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is de 200 componentes são analisados em linha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nhum controle de composição atualmente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Aromáticos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ntrole de composiçã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romatógrafos nos pontos de maior benefíci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ferências nos outros sistema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Tahoma"/>
              </a:rPr>
              <a:t>Consideraçõ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Tahoma"/>
              </a:rPr>
              <a:t>Estudo de viabilidade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Tahoma"/>
              </a:rPr>
              <a:t>Projeto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Tahoma"/>
              </a:rPr>
              <a:t>Manutenção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cc"/>
                </a:solidFill>
                <a:latin typeface="Tahoma"/>
              </a:rPr>
              <a:t>Controle de composição: observaçõ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33cc"/>
                </a:solidFill>
                <a:latin typeface="Tahoma"/>
              </a:rPr>
              <a:t>Motivação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33cc"/>
                </a:solidFill>
                <a:latin typeface="Tahoma"/>
              </a:rPr>
              <a:t>Estudo de viabilidade Técnico-econômica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33cc"/>
                </a:solidFill>
                <a:latin typeface="Tahoma"/>
              </a:rPr>
              <a:t>Projeto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33cc"/>
                </a:solidFill>
                <a:latin typeface="Tahoma"/>
              </a:rPr>
              <a:t>Manutenção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cc"/>
                </a:solidFill>
                <a:latin typeface="Tahoma"/>
              </a:rPr>
              <a:t>Motivação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Econômica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Controle direto da qualidade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Redução do custo dos analisadore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Aumento da confiabilidade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otivação Econômic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umento da produtividade das unidad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eração mais próxima do ponto ótim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eração mais próxima das restriçõ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ahoma"/>
              </a:rPr>
              <a:t>Operação mais próxima do ponto ótim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324000" y="2712960"/>
            <a:ext cx="4085640" cy="2300040"/>
            <a:chOff x="324000" y="2712960"/>
            <a:chExt cx="4085640" cy="2300040"/>
          </a:xfrm>
        </p:grpSpPr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1895400" y="2712960"/>
              <a:ext cx="2514240" cy="23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24000" y="3322440"/>
              <a:ext cx="990360" cy="762120"/>
            </a:xfrm>
            <a:prstGeom prst="wedgeRectCallout">
              <a:avLst>
                <a:gd name="adj1" fmla="val 154328"/>
                <a:gd name="adj2" fmla="val 18125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al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édi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t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341960" y="1549440"/>
            <a:ext cx="4190760" cy="3392280"/>
            <a:chOff x="4341960" y="1549440"/>
            <a:chExt cx="4190760" cy="3392280"/>
          </a:xfrm>
        </p:grpSpPr>
        <p:pic>
          <p:nvPicPr>
            <p:cNvPr id="753" name="" descr=""/>
            <p:cNvPicPr/>
            <p:nvPr/>
          </p:nvPicPr>
          <p:blipFill>
            <a:blip r:embed="rId3"/>
            <a:stretch/>
          </p:blipFill>
          <p:spPr>
            <a:xfrm>
              <a:off x="5865840" y="2692440"/>
              <a:ext cx="266688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4494240" y="3987720"/>
              <a:ext cx="990720" cy="762120"/>
            </a:xfrm>
            <a:prstGeom prst="wedgeRectCallout">
              <a:avLst>
                <a:gd name="adj1" fmla="val 150962"/>
                <a:gd name="adj2" fmla="val -7520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al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édi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t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56320" y="2378160"/>
              <a:ext cx="990720" cy="761760"/>
            </a:xfrm>
            <a:prstGeom prst="wedgeRectCallout">
              <a:avLst>
                <a:gd name="adj1" fmla="val -135736"/>
                <a:gd name="adj2" fmla="val 103541"/>
              </a:avLst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No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val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mé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41960" y="1549440"/>
              <a:ext cx="1828800" cy="1371600"/>
            </a:xfrm>
            <a:prstGeom prst="wedgeRectCallout">
              <a:avLst>
                <a:gd name="adj1" fmla="val 56337"/>
                <a:gd name="adj2" fmla="val 108680"/>
              </a:avLst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6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Benefício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Novo valo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alor atu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76320" y="76320"/>
            <a:ext cx="80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Operação mais próxima das restr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9078800">
            <a:off x="583920" y="4327920"/>
            <a:ext cx="4342680" cy="43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8504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8504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17480" y="4114800"/>
            <a:ext cx="534528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320040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37040" y="3733920"/>
            <a:ext cx="2577960" cy="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 rot="2232000">
            <a:off x="3111840" y="97200"/>
            <a:ext cx="5558040" cy="536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6" y="42"/>
                </a:moveTo>
                <a:arcTo wR="10800" hR="10800" stAng="-5704193" swAng="5491961"/>
                <a:lnTo>
                  <a:pt x="10800" y="10800"/>
                </a:lnTo>
                <a:close/>
              </a:path>
              <a:path fill="none" w="21600" h="21600">
                <a:moveTo>
                  <a:pt x="9846" y="42"/>
                </a:moveTo>
                <a:arcTo wR="10800" hR="10800" stAng="-5704193" swAng="549196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520" y="2208960"/>
            <a:ext cx="1676520" cy="1753200"/>
            <a:chOff x="1523520" y="2208960"/>
            <a:chExt cx="1676520" cy="1753200"/>
          </a:xfrm>
        </p:grpSpPr>
        <p:cxnSp>
          <p:nvCxnSpPr>
            <p:cNvPr id="764" name=""/>
            <p:cNvCxnSpPr/>
            <p:nvPr/>
          </p:nvCxnSpPr>
          <p:spPr>
            <a:xfrm flipV="1">
              <a:off x="1523520" y="2590200"/>
              <a:ext cx="305640" cy="1143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5" name=""/>
            <p:cNvCxnSpPr/>
            <p:nvPr/>
          </p:nvCxnSpPr>
          <p:spPr>
            <a:xfrm flipV="1">
              <a:off x="1905120" y="2361600"/>
              <a:ext cx="305280" cy="1143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6" name=""/>
            <p:cNvCxnSpPr/>
            <p:nvPr/>
          </p:nvCxnSpPr>
          <p:spPr>
            <a:xfrm flipV="1">
              <a:off x="2361960" y="2666160"/>
              <a:ext cx="153000" cy="129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7" name=""/>
            <p:cNvCxnSpPr/>
            <p:nvPr/>
          </p:nvCxnSpPr>
          <p:spPr>
            <a:xfrm flipH="1" flipV="1">
              <a:off x="2209320" y="2361600"/>
              <a:ext cx="153360" cy="160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8" name=""/>
            <p:cNvCxnSpPr/>
            <p:nvPr/>
          </p:nvCxnSpPr>
          <p:spPr>
            <a:xfrm flipH="1" flipV="1">
              <a:off x="2906640" y="2209320"/>
              <a:ext cx="76680" cy="152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9" name=""/>
            <p:cNvCxnSpPr/>
            <p:nvPr/>
          </p:nvCxnSpPr>
          <p:spPr>
            <a:xfrm flipH="1" flipV="1">
              <a:off x="2514600" y="2666160"/>
              <a:ext cx="76680" cy="68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0" name=""/>
            <p:cNvCxnSpPr/>
            <p:nvPr/>
          </p:nvCxnSpPr>
          <p:spPr>
            <a:xfrm flipH="1" flipV="1">
              <a:off x="1828800" y="2590560"/>
              <a:ext cx="7668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1" name=""/>
            <p:cNvCxnSpPr/>
            <p:nvPr/>
          </p:nvCxnSpPr>
          <p:spPr>
            <a:xfrm flipV="1">
              <a:off x="2590920" y="2208960"/>
              <a:ext cx="305280" cy="1143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2" name=""/>
            <p:cNvCxnSpPr/>
            <p:nvPr/>
          </p:nvCxnSpPr>
          <p:spPr>
            <a:xfrm flipV="1">
              <a:off x="2982600" y="2894760"/>
              <a:ext cx="153000" cy="83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3" name=""/>
            <p:cNvCxnSpPr/>
            <p:nvPr/>
          </p:nvCxnSpPr>
          <p:spPr>
            <a:xfrm flipH="1" flipV="1">
              <a:off x="3134880" y="2890440"/>
              <a:ext cx="65520" cy="99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774" name=""/>
          <p:cNvSpPr/>
          <p:nvPr/>
        </p:nvSpPr>
        <p:spPr>
          <a:xfrm flipV="1" rot="21433200">
            <a:off x="3097800" y="-56520"/>
            <a:ext cx="5286600" cy="513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93" y="22"/>
                </a:moveTo>
                <a:arcTo wR="10800" hR="10800" stAng="-5179255" swAng="2451241"/>
                <a:lnTo>
                  <a:pt x="10800" y="10800"/>
                </a:lnTo>
                <a:close/>
              </a:path>
              <a:path fill="none" w="21600" h="21600">
                <a:moveTo>
                  <a:pt x="11493" y="22"/>
                </a:moveTo>
                <a:arcTo wR="10800" hR="10800" stAng="-5179255" swAng="2451241"/>
              </a:path>
            </a:pathLst>
          </a:custGeom>
          <a:noFill/>
          <a:ln cap="rnd" w="2844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3200040" y="3337920"/>
            <a:ext cx="2514960" cy="624600"/>
            <a:chOff x="3200040" y="3337920"/>
            <a:chExt cx="2514960" cy="624600"/>
          </a:xfrm>
        </p:grpSpPr>
        <p:cxnSp>
          <p:nvCxnSpPr>
            <p:cNvPr id="776" name=""/>
            <p:cNvCxnSpPr/>
            <p:nvPr/>
          </p:nvCxnSpPr>
          <p:spPr>
            <a:xfrm flipV="1">
              <a:off x="3428640" y="3352320"/>
              <a:ext cx="229320" cy="534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77" name=""/>
            <p:cNvCxnSpPr/>
            <p:nvPr/>
          </p:nvCxnSpPr>
          <p:spPr>
            <a:xfrm flipH="1" flipV="1">
              <a:off x="4114800" y="3352320"/>
              <a:ext cx="76680" cy="534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78" name=""/>
            <p:cNvCxnSpPr/>
            <p:nvPr/>
          </p:nvCxnSpPr>
          <p:spPr>
            <a:xfrm flipH="1" flipV="1">
              <a:off x="3352680" y="3352320"/>
              <a:ext cx="76680" cy="534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79" name=""/>
            <p:cNvCxnSpPr/>
            <p:nvPr/>
          </p:nvCxnSpPr>
          <p:spPr>
            <a:xfrm flipH="1" flipV="1">
              <a:off x="3657600" y="3352320"/>
              <a:ext cx="76680" cy="61056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0" name=""/>
            <p:cNvCxnSpPr/>
            <p:nvPr/>
          </p:nvCxnSpPr>
          <p:spPr>
            <a:xfrm flipV="1">
              <a:off x="3885840" y="3504960"/>
              <a:ext cx="1080" cy="38160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1" name=""/>
            <p:cNvCxnSpPr/>
            <p:nvPr/>
          </p:nvCxnSpPr>
          <p:spPr>
            <a:xfrm flipV="1">
              <a:off x="3733560" y="3504960"/>
              <a:ext cx="153000" cy="45792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2" name=""/>
            <p:cNvCxnSpPr/>
            <p:nvPr/>
          </p:nvCxnSpPr>
          <p:spPr>
            <a:xfrm flipV="1">
              <a:off x="3885840" y="3352320"/>
              <a:ext cx="229320" cy="534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3" name=""/>
            <p:cNvCxnSpPr/>
            <p:nvPr/>
          </p:nvCxnSpPr>
          <p:spPr>
            <a:xfrm flipV="1">
              <a:off x="4189320" y="3428280"/>
              <a:ext cx="102240" cy="453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4" name=""/>
            <p:cNvCxnSpPr/>
            <p:nvPr/>
          </p:nvCxnSpPr>
          <p:spPr>
            <a:xfrm flipV="1">
              <a:off x="3200040" y="3352320"/>
              <a:ext cx="153000" cy="534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5" name=""/>
            <p:cNvCxnSpPr/>
            <p:nvPr/>
          </p:nvCxnSpPr>
          <p:spPr>
            <a:xfrm flipV="1">
              <a:off x="4514760" y="3419280"/>
              <a:ext cx="76680" cy="45792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6" name=""/>
            <p:cNvCxnSpPr/>
            <p:nvPr/>
          </p:nvCxnSpPr>
          <p:spPr>
            <a:xfrm flipV="1">
              <a:off x="4838760" y="3419280"/>
              <a:ext cx="76680" cy="45792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7" name=""/>
            <p:cNvCxnSpPr/>
            <p:nvPr/>
          </p:nvCxnSpPr>
          <p:spPr>
            <a:xfrm flipV="1">
              <a:off x="5162400" y="3414240"/>
              <a:ext cx="76680" cy="45792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8" name=""/>
            <p:cNvCxnSpPr/>
            <p:nvPr/>
          </p:nvCxnSpPr>
          <p:spPr>
            <a:xfrm flipH="1" flipV="1">
              <a:off x="5238360" y="3413880"/>
              <a:ext cx="248400" cy="453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89" name=""/>
            <p:cNvCxnSpPr/>
            <p:nvPr/>
          </p:nvCxnSpPr>
          <p:spPr>
            <a:xfrm flipH="1" flipV="1">
              <a:off x="4914360" y="3419280"/>
              <a:ext cx="248040" cy="45288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90" name=""/>
            <p:cNvCxnSpPr/>
            <p:nvPr/>
          </p:nvCxnSpPr>
          <p:spPr>
            <a:xfrm flipH="1" flipV="1">
              <a:off x="4590720" y="3419280"/>
              <a:ext cx="248400" cy="45288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91" name=""/>
            <p:cNvCxnSpPr/>
            <p:nvPr/>
          </p:nvCxnSpPr>
          <p:spPr>
            <a:xfrm flipH="1" flipV="1">
              <a:off x="4285440" y="3428280"/>
              <a:ext cx="229320" cy="45324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  <p:cxnSp>
          <p:nvCxnSpPr>
            <p:cNvPr id="792" name=""/>
            <p:cNvCxnSpPr/>
            <p:nvPr/>
          </p:nvCxnSpPr>
          <p:spPr>
            <a:xfrm flipV="1">
              <a:off x="5486040" y="3337920"/>
              <a:ext cx="229320" cy="533880"/>
            </a:xfrm>
            <a:prstGeom prst="straightConnector1">
              <a:avLst/>
            </a:prstGeom>
            <a:ln w="38160">
              <a:solidFill>
                <a:srgbClr val="ff0066"/>
              </a:solidFill>
              <a:miter/>
            </a:ln>
          </p:spPr>
        </p:cxnSp>
      </p:grpSp>
      <p:grpSp>
        <p:nvGrpSpPr>
          <p:cNvPr id="793" name=""/>
          <p:cNvGrpSpPr/>
          <p:nvPr/>
        </p:nvGrpSpPr>
        <p:grpSpPr>
          <a:xfrm>
            <a:off x="5715000" y="3352680"/>
            <a:ext cx="1676520" cy="1828800"/>
            <a:chOff x="5715000" y="3352680"/>
            <a:chExt cx="1676520" cy="1828800"/>
          </a:xfrm>
        </p:grpSpPr>
        <p:cxnSp>
          <p:nvCxnSpPr>
            <p:cNvPr id="794" name=""/>
            <p:cNvCxnSpPr/>
            <p:nvPr/>
          </p:nvCxnSpPr>
          <p:spPr>
            <a:xfrm flipV="1">
              <a:off x="6171840" y="4647600"/>
              <a:ext cx="229320" cy="533880"/>
            </a:xfrm>
            <a:prstGeom prst="straightConnector1">
              <a:avLst/>
            </a:prstGeom>
            <a:ln w="38160">
              <a:solidFill>
                <a:srgbClr val="0099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5715000" y="3352680"/>
              <a:ext cx="457200" cy="1828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00800" y="4648320"/>
              <a:ext cx="152280" cy="380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553080" y="4648320"/>
              <a:ext cx="76320" cy="380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29400" y="4648320"/>
              <a:ext cx="228600" cy="3045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6858000" y="4572000"/>
              <a:ext cx="76320" cy="380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34320" y="4572000"/>
              <a:ext cx="152280" cy="304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086600" y="4571640"/>
              <a:ext cx="76320" cy="304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62920" y="4572000"/>
              <a:ext cx="152280" cy="152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315200" y="4419720"/>
              <a:ext cx="76320" cy="3045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219320" y="2133720"/>
            <a:ext cx="2004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24160" y="2793960"/>
            <a:ext cx="24908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715000" y="3352680"/>
            <a:ext cx="228600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32080" y="1558800"/>
            <a:ext cx="136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36480" y="2195640"/>
            <a:ext cx="2335680" cy="3988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ＭＳ ゴシック"/>
              </a:rPr>
              <a:t>Objetiv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57840" y="2828880"/>
            <a:ext cx="2236680" cy="398880"/>
          </a:xfrm>
          <a:prstGeom prst="rect">
            <a:avLst/>
          </a:prstGeom>
          <a:noFill/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ＭＳ ゴシック"/>
              </a:rPr>
              <a:t>Objetivo d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72880" y="499752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strições do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2920" y="4251240"/>
            <a:ext cx="126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ＭＳ ゴシック"/>
              </a:rPr>
              <a:t>Set Point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ＭＳ ゴシック"/>
              </a:rPr>
              <a:t>O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9061400">
            <a:off x="7793280" y="3309840"/>
            <a:ext cx="962640" cy="5806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ＭＳ ゴシック"/>
              </a:rPr>
              <a:t>Id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ＭＳ ゴシック"/>
              </a:rPr>
              <a:t>Se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13849200">
            <a:off x="7405560" y="4503240"/>
            <a:ext cx="515880" cy="255600"/>
          </a:xfrm>
          <a:prstGeom prst="rightArrow">
            <a:avLst>
              <a:gd name="adj1" fmla="val 50000"/>
              <a:gd name="adj2" fmla="val 504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5638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61840" y="3657600"/>
            <a:ext cx="5684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5400000">
            <a:off x="457200" y="3979800"/>
            <a:ext cx="277560" cy="242640"/>
          </a:xfrm>
          <a:prstGeom prst="triangle">
            <a:avLst>
              <a:gd name="adj" fmla="val 50000"/>
            </a:avLst>
          </a:prstGeom>
          <a:solidFill>
            <a:srgbClr val="ccccff">
              <a:alpha val="50000"/>
            </a:srgbClr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720" bIns="36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13530000">
            <a:off x="7653960" y="3985200"/>
            <a:ext cx="277920" cy="244440"/>
          </a:xfrm>
          <a:prstGeom prst="triangle">
            <a:avLst>
              <a:gd name="adj" fmla="val 50000"/>
            </a:avLst>
          </a:prstGeom>
          <a:solidFill>
            <a:srgbClr val="00cc00">
              <a:alpha val="50000"/>
            </a:srgbClr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7440" bIns="37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cc"/>
                </a:solidFill>
                <a:latin typeface="Tahoma"/>
              </a:rPr>
              <a:t>Controle direto da qualidade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Inferência não é suficiente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0" y="947880"/>
            <a:ext cx="872496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69800" y="0"/>
            <a:ext cx="0" cy="2062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318960" y="1260360"/>
            <a:ext cx="2827440" cy="2024280"/>
          </a:xfrm>
          <a:prstGeom prst="rect">
            <a:avLst/>
          </a:prstGeom>
          <a:ln w="0">
            <a:noFill/>
          </a:ln>
        </p:spPr>
      </p:pic>
      <p:grpSp>
        <p:nvGrpSpPr>
          <p:cNvPr id="823" name=""/>
          <p:cNvGrpSpPr/>
          <p:nvPr/>
        </p:nvGrpSpPr>
        <p:grpSpPr>
          <a:xfrm>
            <a:off x="1448280" y="2209680"/>
            <a:ext cx="3047400" cy="1843200"/>
            <a:chOff x="1448280" y="2209680"/>
            <a:chExt cx="3047400" cy="1843200"/>
          </a:xfrm>
        </p:grpSpPr>
        <p:pic>
          <p:nvPicPr>
            <p:cNvPr id="824" name="" descr=""/>
            <p:cNvPicPr/>
            <p:nvPr/>
          </p:nvPicPr>
          <p:blipFill>
            <a:blip r:embed="rId3"/>
            <a:stretch/>
          </p:blipFill>
          <p:spPr>
            <a:xfrm>
              <a:off x="3200400" y="3124080"/>
              <a:ext cx="12952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1448280" y="2209680"/>
              <a:ext cx="2589840" cy="167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277080" y="3429000"/>
            <a:ext cx="3047400" cy="1675800"/>
            <a:chOff x="3277080" y="3429000"/>
            <a:chExt cx="3047400" cy="1675800"/>
          </a:xfrm>
        </p:grpSpPr>
        <p:sp>
          <p:nvSpPr>
            <p:cNvPr id="827" name=""/>
            <p:cNvSpPr/>
            <p:nvPr/>
          </p:nvSpPr>
          <p:spPr>
            <a:xfrm>
              <a:off x="3277080" y="3429000"/>
              <a:ext cx="25898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" descr=""/>
            <p:cNvPicPr/>
            <p:nvPr/>
          </p:nvPicPr>
          <p:blipFill>
            <a:blip r:embed="rId4"/>
            <a:stretch/>
          </p:blipFill>
          <p:spPr>
            <a:xfrm>
              <a:off x="5105520" y="4343400"/>
              <a:ext cx="1218960" cy="7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"/>
          <p:cNvGrpSpPr/>
          <p:nvPr/>
        </p:nvGrpSpPr>
        <p:grpSpPr>
          <a:xfrm>
            <a:off x="5029200" y="4419720"/>
            <a:ext cx="3030480" cy="1675800"/>
            <a:chOff x="5029200" y="4419720"/>
            <a:chExt cx="3030480" cy="1675800"/>
          </a:xfrm>
        </p:grpSpPr>
        <p:pic>
          <p:nvPicPr>
            <p:cNvPr id="830" name="" descr=""/>
            <p:cNvPicPr/>
            <p:nvPr/>
          </p:nvPicPr>
          <p:blipFill>
            <a:blip r:embed="rId5"/>
            <a:stretch/>
          </p:blipFill>
          <p:spPr>
            <a:xfrm>
              <a:off x="7620120" y="533412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5029200" y="4419720"/>
              <a:ext cx="25905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2" name="" descr=""/>
          <p:cNvPicPr/>
          <p:nvPr/>
        </p:nvPicPr>
        <p:blipFill>
          <a:blip r:embed="rId6"/>
          <a:srcRect l="11165" t="31294" r="4817" b="6989"/>
          <a:stretch/>
        </p:blipFill>
        <p:spPr>
          <a:xfrm>
            <a:off x="76320" y="3687840"/>
            <a:ext cx="3352680" cy="294156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901800" y="2362320"/>
            <a:ext cx="355680" cy="1523880"/>
          </a:xfrm>
          <a:custGeom>
            <a:avLst/>
            <a:gdLst/>
            <a:ahLst/>
            <a:rect l="l" t="t" r="r" b="b"/>
            <a:pathLst>
              <a:path w="224" h="960">
                <a:moveTo>
                  <a:pt x="152" y="960"/>
                </a:moveTo>
                <a:cubicBezTo>
                  <a:pt x="188" y="900"/>
                  <a:pt x="224" y="840"/>
                  <a:pt x="200" y="720"/>
                </a:cubicBezTo>
                <a:cubicBezTo>
                  <a:pt x="176" y="600"/>
                  <a:pt x="16" y="360"/>
                  <a:pt x="8" y="240"/>
                </a:cubicBezTo>
                <a:cubicBezTo>
                  <a:pt x="0" y="120"/>
                  <a:pt x="120" y="40"/>
                  <a:pt x="1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79520" y="901800"/>
            <a:ext cx="5761080" cy="1725480"/>
          </a:xfrm>
          <a:prstGeom prst="leftArrow">
            <a:avLst>
              <a:gd name="adj1" fmla="val 50000"/>
              <a:gd name="adj2" fmla="val 83471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$50,000/250kbs=US$0,20/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133720" y="4645080"/>
            <a:ext cx="5427720" cy="1784160"/>
          </a:xfrm>
          <a:prstGeom prst="rightArrow">
            <a:avLst>
              <a:gd name="adj1" fmla="val 50000"/>
              <a:gd name="adj2" fmla="val 76054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$0,50/100Mbs=US$0,00000001/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ahoma"/>
              </a:rPr>
              <a:t>Redução de custo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ahoma"/>
              </a:rPr>
              <a:t>Aumento de confiabilidade dos analisador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Inteligência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Auto-diagnóstic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248080" y="1244160"/>
            <a:ext cx="36162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As rotinas são repetidas todos os mes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Verifica  o transmissor 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Tahoma"/>
              </a:rPr>
              <a:t>escut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os equipamentos rotativo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500040" y="1317600"/>
            <a:ext cx="4572000" cy="3429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5011560" y="4489560"/>
            <a:ext cx="1697040" cy="1487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842" name=""/>
          <p:cNvSpPr/>
          <p:nvPr/>
        </p:nvSpPr>
        <p:spPr>
          <a:xfrm>
            <a:off x="4397400" y="2620800"/>
            <a:ext cx="127080" cy="2163960"/>
          </a:xfrm>
          <a:custGeom>
            <a:avLst/>
            <a:gdLst/>
            <a:ahLst/>
            <a:rect l="l" t="t" r="r" b="b"/>
            <a:pathLst>
              <a:path w="80" h="1363">
                <a:moveTo>
                  <a:pt x="80" y="1168"/>
                </a:moveTo>
                <a:cubicBezTo>
                  <a:pt x="49" y="1265"/>
                  <a:pt x="18" y="1363"/>
                  <a:pt x="9" y="1168"/>
                </a:cubicBezTo>
                <a:cubicBezTo>
                  <a:pt x="0" y="973"/>
                  <a:pt x="24" y="195"/>
                  <a:pt x="25" y="0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2633760"/>
            <a:ext cx="345960" cy="1992240"/>
          </a:xfrm>
          <a:custGeom>
            <a:avLst/>
            <a:gdLst/>
            <a:ahLst/>
            <a:rect l="l" t="t" r="r" b="b"/>
            <a:pathLst>
              <a:path w="218" h="1255">
                <a:moveTo>
                  <a:pt x="213" y="0"/>
                </a:moveTo>
                <a:cubicBezTo>
                  <a:pt x="215" y="429"/>
                  <a:pt x="218" y="859"/>
                  <a:pt x="213" y="1057"/>
                </a:cubicBezTo>
                <a:cubicBezTo>
                  <a:pt x="208" y="1255"/>
                  <a:pt x="216" y="1161"/>
                  <a:pt x="181" y="1191"/>
                </a:cubicBezTo>
                <a:cubicBezTo>
                  <a:pt x="146" y="1221"/>
                  <a:pt x="73" y="1230"/>
                  <a:pt x="0" y="1239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735360" y="3084480"/>
            <a:ext cx="76320" cy="1503360"/>
          </a:xfrm>
          <a:custGeom>
            <a:avLst/>
            <a:gdLst/>
            <a:ahLst/>
            <a:rect l="l" t="t" r="r" b="b"/>
            <a:pathLst>
              <a:path w="48" h="947">
                <a:moveTo>
                  <a:pt x="48" y="947"/>
                </a:moveTo>
                <a:cubicBezTo>
                  <a:pt x="48" y="947"/>
                  <a:pt x="24" y="473"/>
                  <a:pt x="0" y="0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73360" y="3110040"/>
            <a:ext cx="36720" cy="1352520"/>
          </a:xfrm>
          <a:custGeom>
            <a:avLst/>
            <a:gdLst/>
            <a:ahLst/>
            <a:rect l="l" t="t" r="r" b="b"/>
            <a:pathLst>
              <a:path w="23" h="852">
                <a:moveTo>
                  <a:pt x="0" y="0"/>
                </a:moveTo>
                <a:cubicBezTo>
                  <a:pt x="0" y="0"/>
                  <a:pt x="11" y="426"/>
                  <a:pt x="23" y="852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22520" y="1668600"/>
            <a:ext cx="50760" cy="2806560"/>
          </a:xfrm>
          <a:custGeom>
            <a:avLst/>
            <a:gdLst/>
            <a:ahLst/>
            <a:rect l="l" t="t" r="r" b="b"/>
            <a:pathLst>
              <a:path w="32" h="1768">
                <a:moveTo>
                  <a:pt x="0" y="1768"/>
                </a:moveTo>
                <a:cubicBezTo>
                  <a:pt x="0" y="1768"/>
                  <a:pt x="16" y="884"/>
                  <a:pt x="32" y="0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97160" y="1693800"/>
            <a:ext cx="38160" cy="638280"/>
          </a:xfrm>
          <a:custGeom>
            <a:avLst/>
            <a:gdLst/>
            <a:ahLst/>
            <a:rect l="l" t="t" r="r" b="b"/>
            <a:pathLst>
              <a:path w="24" h="402">
                <a:moveTo>
                  <a:pt x="0" y="0"/>
                </a:moveTo>
                <a:cubicBezTo>
                  <a:pt x="0" y="0"/>
                  <a:pt x="12" y="201"/>
                  <a:pt x="24" y="402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70240" y="1959120"/>
            <a:ext cx="614160" cy="2752560"/>
          </a:xfrm>
          <a:custGeom>
            <a:avLst/>
            <a:gdLst/>
            <a:ahLst/>
            <a:rect l="l" t="t" r="r" b="b"/>
            <a:pathLst>
              <a:path w="387" h="1734">
                <a:moveTo>
                  <a:pt x="387" y="220"/>
                </a:moveTo>
                <a:cubicBezTo>
                  <a:pt x="331" y="110"/>
                  <a:pt x="275" y="0"/>
                  <a:pt x="253" y="212"/>
                </a:cubicBezTo>
                <a:cubicBezTo>
                  <a:pt x="231" y="424"/>
                  <a:pt x="295" y="1246"/>
                  <a:pt x="253" y="1490"/>
                </a:cubicBezTo>
                <a:cubicBezTo>
                  <a:pt x="211" y="1734"/>
                  <a:pt x="105" y="1706"/>
                  <a:pt x="0" y="1679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57560" y="1944720"/>
            <a:ext cx="63360" cy="2530440"/>
          </a:xfrm>
          <a:custGeom>
            <a:avLst/>
            <a:gdLst/>
            <a:ahLst/>
            <a:rect l="l" t="t" r="r" b="b"/>
            <a:pathLst>
              <a:path w="40" h="1594">
                <a:moveTo>
                  <a:pt x="40" y="1594"/>
                </a:moveTo>
                <a:cubicBezTo>
                  <a:pt x="40" y="1594"/>
                  <a:pt x="20" y="797"/>
                  <a:pt x="0" y="0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4800" y="1969920"/>
            <a:ext cx="87120" cy="2291040"/>
          </a:xfrm>
          <a:custGeom>
            <a:avLst/>
            <a:gdLst/>
            <a:ahLst/>
            <a:rect l="l" t="t" r="r" b="b"/>
            <a:pathLst>
              <a:path w="55" h="1443">
                <a:moveTo>
                  <a:pt x="55" y="0"/>
                </a:moveTo>
                <a:cubicBezTo>
                  <a:pt x="32" y="601"/>
                  <a:pt x="9" y="1203"/>
                  <a:pt x="0" y="1443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506600" y="4336920"/>
            <a:ext cx="412560" cy="101880"/>
          </a:xfrm>
          <a:custGeom>
            <a:avLst/>
            <a:gdLst/>
            <a:ahLst/>
            <a:rect l="l" t="t" r="r" b="b"/>
            <a:pathLst>
              <a:path w="260" h="64">
                <a:moveTo>
                  <a:pt x="260" y="0"/>
                </a:moveTo>
                <a:cubicBezTo>
                  <a:pt x="246" y="23"/>
                  <a:pt x="232" y="46"/>
                  <a:pt x="189" y="55"/>
                </a:cubicBezTo>
                <a:cubicBezTo>
                  <a:pt x="146" y="64"/>
                  <a:pt x="73" y="59"/>
                  <a:pt x="0" y="55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1643040"/>
            <a:ext cx="12600" cy="2755800"/>
          </a:xfrm>
          <a:custGeom>
            <a:avLst/>
            <a:gdLst/>
            <a:ahLst/>
            <a:rect l="l" t="t" r="r" b="b"/>
            <a:pathLst>
              <a:path w="8" h="1736">
                <a:moveTo>
                  <a:pt x="0" y="1736"/>
                </a:moveTo>
                <a:cubicBezTo>
                  <a:pt x="0" y="1736"/>
                  <a:pt x="4" y="868"/>
                  <a:pt x="8" y="0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17560" y="1643040"/>
            <a:ext cx="237960" cy="2649600"/>
          </a:xfrm>
          <a:custGeom>
            <a:avLst/>
            <a:gdLst/>
            <a:ahLst/>
            <a:rect l="l" t="t" r="r" b="b"/>
            <a:pathLst>
              <a:path w="150" h="1669">
                <a:moveTo>
                  <a:pt x="150" y="0"/>
                </a:moveTo>
                <a:cubicBezTo>
                  <a:pt x="136" y="374"/>
                  <a:pt x="122" y="749"/>
                  <a:pt x="118" y="971"/>
                </a:cubicBezTo>
                <a:cubicBezTo>
                  <a:pt x="114" y="1193"/>
                  <a:pt x="126" y="1230"/>
                  <a:pt x="126" y="1334"/>
                </a:cubicBezTo>
                <a:cubicBezTo>
                  <a:pt x="126" y="1438"/>
                  <a:pt x="127" y="1540"/>
                  <a:pt x="118" y="1594"/>
                </a:cubicBezTo>
                <a:cubicBezTo>
                  <a:pt x="109" y="1648"/>
                  <a:pt x="91" y="1645"/>
                  <a:pt x="71" y="1657"/>
                </a:cubicBezTo>
                <a:cubicBezTo>
                  <a:pt x="51" y="1669"/>
                  <a:pt x="25" y="1667"/>
                  <a:pt x="0" y="1665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37160" y="3510000"/>
            <a:ext cx="193680" cy="1085760"/>
          </a:xfrm>
          <a:custGeom>
            <a:avLst/>
            <a:gdLst/>
            <a:ahLst/>
            <a:rect l="l" t="t" r="r" b="b"/>
            <a:pathLst>
              <a:path w="122" h="684">
                <a:moveTo>
                  <a:pt x="111" y="0"/>
                </a:moveTo>
                <a:cubicBezTo>
                  <a:pt x="116" y="221"/>
                  <a:pt x="122" y="442"/>
                  <a:pt x="119" y="552"/>
                </a:cubicBezTo>
                <a:cubicBezTo>
                  <a:pt x="116" y="662"/>
                  <a:pt x="115" y="642"/>
                  <a:pt x="95" y="663"/>
                </a:cubicBezTo>
                <a:cubicBezTo>
                  <a:pt x="75" y="684"/>
                  <a:pt x="37" y="681"/>
                  <a:pt x="0" y="679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46920" y="187200"/>
            <a:ext cx="1565280" cy="489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79800" y="3497400"/>
            <a:ext cx="535320" cy="1301760"/>
          </a:xfrm>
          <a:custGeom>
            <a:avLst/>
            <a:gdLst/>
            <a:ahLst/>
            <a:rect l="l" t="t" r="r" b="b"/>
            <a:pathLst>
              <a:path w="337" h="820">
                <a:moveTo>
                  <a:pt x="337" y="805"/>
                </a:moveTo>
                <a:cubicBezTo>
                  <a:pt x="283" y="811"/>
                  <a:pt x="230" y="817"/>
                  <a:pt x="179" y="797"/>
                </a:cubicBezTo>
                <a:cubicBezTo>
                  <a:pt x="128" y="777"/>
                  <a:pt x="58" y="820"/>
                  <a:pt x="29" y="687"/>
                </a:cubicBezTo>
                <a:cubicBezTo>
                  <a:pt x="0" y="554"/>
                  <a:pt x="2" y="277"/>
                  <a:pt x="5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ligênci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947880"/>
            <a:ext cx="872496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69800" y="0"/>
            <a:ext cx="0" cy="2062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500040" y="1305000"/>
            <a:ext cx="4572000" cy="3429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ahoma"/>
              </a:rPr>
              <a:t>Inteligência hoje: Plantas Pró-ativa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4896000" y="2795760"/>
            <a:ext cx="868320" cy="1927080"/>
          </a:xfrm>
          <a:custGeom>
            <a:avLst/>
            <a:gdLst/>
            <a:ahLst/>
            <a:rect l="l" t="t" r="r" b="b"/>
            <a:pathLst>
              <a:path w="555" h="702">
                <a:moveTo>
                  <a:pt x="3" y="0"/>
                </a:moveTo>
                <a:cubicBezTo>
                  <a:pt x="3" y="241"/>
                  <a:pt x="4" y="482"/>
                  <a:pt x="18" y="592"/>
                </a:cubicBezTo>
                <a:cubicBezTo>
                  <a:pt x="32" y="702"/>
                  <a:pt x="0" y="645"/>
                  <a:pt x="89" y="663"/>
                </a:cubicBezTo>
                <a:cubicBezTo>
                  <a:pt x="178" y="681"/>
                  <a:pt x="366" y="691"/>
                  <a:pt x="555" y="702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86240" y="2482920"/>
            <a:ext cx="1389240" cy="2379600"/>
          </a:xfrm>
          <a:custGeom>
            <a:avLst/>
            <a:gdLst/>
            <a:ahLst/>
            <a:rect l="l" t="t" r="r" b="b"/>
            <a:pathLst>
              <a:path w="804" h="1136">
                <a:moveTo>
                  <a:pt x="0" y="0"/>
                </a:moveTo>
                <a:cubicBezTo>
                  <a:pt x="11" y="90"/>
                  <a:pt x="22" y="181"/>
                  <a:pt x="23" y="307"/>
                </a:cubicBezTo>
                <a:cubicBezTo>
                  <a:pt x="24" y="433"/>
                  <a:pt x="4" y="637"/>
                  <a:pt x="8" y="757"/>
                </a:cubicBezTo>
                <a:cubicBezTo>
                  <a:pt x="12" y="877"/>
                  <a:pt x="15" y="974"/>
                  <a:pt x="47" y="1025"/>
                </a:cubicBezTo>
                <a:cubicBezTo>
                  <a:pt x="79" y="1076"/>
                  <a:pt x="71" y="1047"/>
                  <a:pt x="197" y="1065"/>
                </a:cubicBezTo>
                <a:cubicBezTo>
                  <a:pt x="323" y="1083"/>
                  <a:pt x="563" y="1109"/>
                  <a:pt x="804" y="1136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16480" y="3108240"/>
            <a:ext cx="2259000" cy="1854360"/>
          </a:xfrm>
          <a:custGeom>
            <a:avLst/>
            <a:gdLst/>
            <a:ahLst/>
            <a:rect l="l" t="t" r="r" b="b"/>
            <a:pathLst>
              <a:path w="1297" h="813">
                <a:moveTo>
                  <a:pt x="137" y="0"/>
                </a:moveTo>
                <a:cubicBezTo>
                  <a:pt x="132" y="246"/>
                  <a:pt x="128" y="492"/>
                  <a:pt x="137" y="608"/>
                </a:cubicBezTo>
                <a:cubicBezTo>
                  <a:pt x="146" y="724"/>
                  <a:pt x="0" y="661"/>
                  <a:pt x="193" y="695"/>
                </a:cubicBezTo>
                <a:cubicBezTo>
                  <a:pt x="386" y="729"/>
                  <a:pt x="841" y="771"/>
                  <a:pt x="1297" y="813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54240" y="1668600"/>
            <a:ext cx="4510080" cy="3595680"/>
          </a:xfrm>
          <a:custGeom>
            <a:avLst/>
            <a:gdLst/>
            <a:ahLst/>
            <a:rect l="l" t="t" r="r" b="b"/>
            <a:pathLst>
              <a:path w="2683" h="1988">
                <a:moveTo>
                  <a:pt x="0" y="0"/>
                </a:moveTo>
                <a:cubicBezTo>
                  <a:pt x="5" y="446"/>
                  <a:pt x="10" y="892"/>
                  <a:pt x="24" y="1144"/>
                </a:cubicBezTo>
                <a:cubicBezTo>
                  <a:pt x="38" y="1396"/>
                  <a:pt x="60" y="1424"/>
                  <a:pt x="87" y="1515"/>
                </a:cubicBezTo>
                <a:cubicBezTo>
                  <a:pt x="114" y="1606"/>
                  <a:pt x="100" y="1642"/>
                  <a:pt x="189" y="1689"/>
                </a:cubicBezTo>
                <a:cubicBezTo>
                  <a:pt x="278" y="1736"/>
                  <a:pt x="207" y="1749"/>
                  <a:pt x="623" y="1799"/>
                </a:cubicBezTo>
                <a:cubicBezTo>
                  <a:pt x="1039" y="1849"/>
                  <a:pt x="1861" y="1918"/>
                  <a:pt x="2683" y="1988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78000" y="1982880"/>
            <a:ext cx="3597480" cy="3192480"/>
          </a:xfrm>
          <a:custGeom>
            <a:avLst/>
            <a:gdLst/>
            <a:ahLst/>
            <a:rect l="l" t="t" r="r" b="b"/>
            <a:pathLst>
              <a:path w="2124" h="1704">
                <a:moveTo>
                  <a:pt x="18" y="0"/>
                </a:moveTo>
                <a:cubicBezTo>
                  <a:pt x="18" y="443"/>
                  <a:pt x="19" y="887"/>
                  <a:pt x="33" y="1120"/>
                </a:cubicBezTo>
                <a:cubicBezTo>
                  <a:pt x="47" y="1353"/>
                  <a:pt x="0" y="1325"/>
                  <a:pt x="104" y="1396"/>
                </a:cubicBezTo>
                <a:cubicBezTo>
                  <a:pt x="208" y="1467"/>
                  <a:pt x="320" y="1495"/>
                  <a:pt x="657" y="1546"/>
                </a:cubicBezTo>
                <a:cubicBezTo>
                  <a:pt x="994" y="1597"/>
                  <a:pt x="1559" y="1650"/>
                  <a:pt x="2124" y="1704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57440" y="1693800"/>
            <a:ext cx="2318040" cy="3355920"/>
          </a:xfrm>
          <a:custGeom>
            <a:avLst/>
            <a:gdLst/>
            <a:ahLst/>
            <a:rect l="l" t="t" r="r" b="b"/>
            <a:pathLst>
              <a:path w="1271" h="1799">
                <a:moveTo>
                  <a:pt x="9" y="0"/>
                </a:moveTo>
                <a:cubicBezTo>
                  <a:pt x="4" y="539"/>
                  <a:pt x="0" y="1079"/>
                  <a:pt x="1" y="1341"/>
                </a:cubicBezTo>
                <a:cubicBezTo>
                  <a:pt x="2" y="1603"/>
                  <a:pt x="3" y="1517"/>
                  <a:pt x="17" y="1570"/>
                </a:cubicBezTo>
                <a:cubicBezTo>
                  <a:pt x="31" y="1623"/>
                  <a:pt x="51" y="1637"/>
                  <a:pt x="88" y="1657"/>
                </a:cubicBezTo>
                <a:cubicBezTo>
                  <a:pt x="125" y="1677"/>
                  <a:pt x="40" y="1664"/>
                  <a:pt x="237" y="1688"/>
                </a:cubicBezTo>
                <a:cubicBezTo>
                  <a:pt x="434" y="1712"/>
                  <a:pt x="852" y="1755"/>
                  <a:pt x="1271" y="1799"/>
                </a:cubicBez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7362720" y="5234040"/>
            <a:ext cx="289080" cy="6555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4"/>
          <a:srcRect l="3644" t="2287" r="2875" b="4040"/>
          <a:stretch/>
        </p:blipFill>
        <p:spPr>
          <a:xfrm>
            <a:off x="7728120" y="5207040"/>
            <a:ext cx="572760" cy="40176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6946920" y="187200"/>
            <a:ext cx="1565280" cy="489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73640" y="4097160"/>
            <a:ext cx="327240" cy="32724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60240" y="5278320"/>
            <a:ext cx="42735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da os procedimentos da Pl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5"/>
          <a:stretch/>
        </p:blipFill>
        <p:spPr>
          <a:xfrm>
            <a:off x="5958000" y="4070520"/>
            <a:ext cx="1171440" cy="1581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nsideraçõe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Experiência pessoal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Indústria petroquímica de grande porte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cc"/>
                </a:solidFill>
                <a:latin typeface="Tahoma"/>
              </a:rPr>
              <a:t>Onde?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rcRect l="0" t="0" r="0" b="12533"/>
          <a:stretch/>
        </p:blipFill>
        <p:spPr>
          <a:xfrm>
            <a:off x="0" y="1050840"/>
            <a:ext cx="9155160" cy="580716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ahoma"/>
              </a:rPr>
              <a:t>Inteligência no instrumen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6" name=""/>
          <p:cNvSpPr/>
          <p:nvPr/>
        </p:nvSpPr>
        <p:spPr>
          <a:xfrm>
            <a:off x="4640400" y="6040440"/>
            <a:ext cx="288720" cy="3031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3400" y="1562040"/>
            <a:ext cx="3349800" cy="622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ja Pró-ativ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ahoma"/>
              </a:rPr>
              <a:t>Estudo de Viabilidade Técnico-Econômic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cc"/>
                </a:solidFill>
                <a:latin typeface="Tahoma"/>
              </a:rPr>
              <a:t>Buscar o mais simples (temperatura, pressão?)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cc"/>
                </a:solidFill>
                <a:latin typeface="Tahoma"/>
              </a:rPr>
              <a:t>Método KIS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33cc"/>
                </a:solidFill>
                <a:latin typeface="Tahoma"/>
              </a:rPr>
              <a:t>Confrontar com inferências em linha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cc"/>
                </a:solidFill>
                <a:latin typeface="Tahoma"/>
              </a:rPr>
              <a:t>Proje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Estrutura de controle robusta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Validação da variável de processo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90914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ntrole de composição direto na válvula: evita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6104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ahoma"/>
              </a:rPr>
              <a:t>Controle em cascata (p.e.): mais robust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1692360" y="1066680"/>
            <a:ext cx="5759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alidaçã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Valor máxim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Valor mínim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Velocidade de variaçã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ahoma"/>
              </a:rPr>
              <a:t>Controle baseado em sistemas amostrado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Tempo de amostragem dos cromatógrafo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Algoritmo de controle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empo de Amostrag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ção da dinâmica do processo em relação à variável manipulada e às perturbaçõ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de requerer novos analisador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romisso entre número de componentes e velocida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ahoma"/>
              </a:rPr>
              <a:t>Algoritmo de control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trolador não pode funcionar entre duas amostragen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Ação integral tende a desestabilizar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Algoritmo de controle com retençã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ahoma"/>
              </a:rPr>
              <a:t>Controlador PI com retenção (“hold”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2723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91280" y="1217520"/>
            <a:ext cx="300024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S$ 8 billion inv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S$ 5 billion sales/y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S$ 600 million exports/y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upplies 50% of Brazilia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7,000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25% of Bahia’s ICMS reven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2% of Bahia’s G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600" y="1500120"/>
            <a:ext cx="5562360" cy="443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727200" y="534960"/>
            <a:ext cx="89154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mplexo Petroquímico de Camaç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ahoma"/>
              </a:rPr>
              <a:t>Controlador PI com retenção (“hold”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128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utenção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nsiderar (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 utilizar!!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) custos de manutenção no EVTE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obressalente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alibração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epreciação (Quanto tempo?)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ncluin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isadores em linha em malha aberta são comun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esempenho satisfatório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so em malha fechada restrito para unidades de maior motivação econômica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iores custos de implantação, operação e manutenção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so de inferências desloca parte dos custos de implantação e de manutenção para engenhari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cc"/>
                </a:solidFill>
                <a:latin typeface="Tahoma"/>
              </a:rPr>
              <a:t>Agradecimentos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A Organização do WNAP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Especialmente ao prof. Ricardo Kalid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A todos você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cc"/>
                </a:solidFill>
                <a:latin typeface="Tahoma"/>
              </a:rPr>
              <a:t>Perguntas?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39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33cc"/>
                </a:solidFill>
                <a:latin typeface="Tahoma"/>
              </a:rPr>
              <a:t>Contatos: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33cc"/>
                </a:solidFill>
                <a:latin typeface="Tahoma"/>
              </a:rPr>
              <a:t>E-mail:mauricio.moreno@uol.com.b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33cc"/>
                </a:solidFill>
                <a:latin typeface="Tahoma"/>
              </a:rPr>
              <a:t>Fone: 8813-5922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73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adeia de Produção Petroquímica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039760" y="1484280"/>
            <a:ext cx="5627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65320" y="1677960"/>
            <a:ext cx="2214720" cy="8319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37240" y="1677960"/>
            <a:ext cx="2214360" cy="83196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07000" y="1677960"/>
            <a:ext cx="2214720" cy="8319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95560" y="1677960"/>
            <a:ext cx="2214360" cy="83196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1774800"/>
            <a:ext cx="126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82840" y="1773360"/>
            <a:ext cx="18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trochemi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54760" y="1773360"/>
            <a:ext cx="18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mediary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50240" y="1773360"/>
            <a:ext cx="132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80960" y="3828960"/>
            <a:ext cx="154656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pht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ens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6200" y="2835360"/>
            <a:ext cx="1792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rmopla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ethyl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propyl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iny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tic S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 Busi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rolact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4800" y="2841480"/>
            <a:ext cx="1717560" cy="29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lef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thyl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pyl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utadi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ro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nz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lu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araxyl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thoxyl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Fu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560" y="1274760"/>
            <a:ext cx="4335480" cy="4903920"/>
            <a:chOff x="763560" y="1274760"/>
            <a:chExt cx="4335480" cy="49039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63560" y="1274760"/>
              <a:ext cx="4335480" cy="49039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 flipV="1">
              <a:off x="788400" y="1429920"/>
              <a:ext cx="1221480" cy="210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4479120" y="1430280"/>
              <a:ext cx="593280" cy="20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8" idx="0"/>
              <a:endCxn id="79" idx="0"/>
            </p:cNvCxnSpPr>
            <p:nvPr/>
          </p:nvCxnSpPr>
          <p:spPr>
            <a:xfrm>
              <a:off x="2008800" y="1414080"/>
              <a:ext cx="24710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81" name=""/>
          <p:cNvSpPr/>
          <p:nvPr/>
        </p:nvSpPr>
        <p:spPr>
          <a:xfrm>
            <a:off x="506520" y="0"/>
            <a:ext cx="85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nidade de Petroquímicos Básicos e de 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2120" y="1298520"/>
            <a:ext cx="4181400" cy="470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Petrochemical Uni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Naphtha consumption : 4,5 million/y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upply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eam production :  1150 t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wer supply 2002:  215 M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Braskem 112 MWh and CHESF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3 MWH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90600" y="1824120"/>
            <a:ext cx="1419480" cy="1038240"/>
          </a:xfrm>
          <a:custGeom>
            <a:avLst/>
            <a:gdLst/>
            <a:ahLst/>
            <a:rect l="l" t="t" r="r" b="b"/>
            <a:pathLst>
              <a:path w="969" h="669">
                <a:moveTo>
                  <a:pt x="0" y="654"/>
                </a:moveTo>
                <a:lnTo>
                  <a:pt x="270" y="0"/>
                </a:lnTo>
                <a:lnTo>
                  <a:pt x="969" y="0"/>
                </a:lnTo>
                <a:lnTo>
                  <a:pt x="909" y="669"/>
                </a:lnTo>
                <a:lnTo>
                  <a:pt x="6" y="651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3800" y="1800360"/>
            <a:ext cx="1060560" cy="985680"/>
          </a:xfrm>
          <a:custGeom>
            <a:avLst/>
            <a:gdLst/>
            <a:ahLst/>
            <a:rect l="l" t="t" r="r" b="b"/>
            <a:pathLst>
              <a:path w="723" h="621">
                <a:moveTo>
                  <a:pt x="723" y="621"/>
                </a:moveTo>
                <a:lnTo>
                  <a:pt x="54" y="603"/>
                </a:lnTo>
                <a:lnTo>
                  <a:pt x="12" y="540"/>
                </a:lnTo>
                <a:lnTo>
                  <a:pt x="0" y="0"/>
                </a:lnTo>
                <a:lnTo>
                  <a:pt x="519" y="0"/>
                </a:lnTo>
                <a:lnTo>
                  <a:pt x="723" y="621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6480" y="2919240"/>
            <a:ext cx="1433520" cy="390600"/>
          </a:xfrm>
          <a:custGeom>
            <a:avLst/>
            <a:gdLst/>
            <a:ahLst/>
            <a:rect l="l" t="t" r="r" b="b"/>
            <a:pathLst>
              <a:path w="978" h="246">
                <a:moveTo>
                  <a:pt x="0" y="213"/>
                </a:moveTo>
                <a:lnTo>
                  <a:pt x="84" y="0"/>
                </a:lnTo>
                <a:lnTo>
                  <a:pt x="978" y="12"/>
                </a:lnTo>
                <a:lnTo>
                  <a:pt x="969" y="246"/>
                </a:lnTo>
                <a:lnTo>
                  <a:pt x="0" y="213"/>
                </a:lnTo>
                <a:close/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600" y="1519200"/>
            <a:ext cx="1014480" cy="285840"/>
          </a:xfrm>
          <a:custGeom>
            <a:avLst/>
            <a:gdLst/>
            <a:ahLst/>
            <a:rect l="l" t="t" r="r" b="b"/>
            <a:pathLst>
              <a:path w="693" h="180">
                <a:moveTo>
                  <a:pt x="0" y="174"/>
                </a:moveTo>
                <a:lnTo>
                  <a:pt x="72" y="12"/>
                </a:lnTo>
                <a:lnTo>
                  <a:pt x="693" y="0"/>
                </a:lnTo>
                <a:lnTo>
                  <a:pt x="690" y="180"/>
                </a:lnTo>
                <a:lnTo>
                  <a:pt x="0" y="174"/>
                </a:lnTo>
                <a:close/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3880" y="4869000"/>
            <a:ext cx="2346480" cy="12240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6320" y="49417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Olef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5600" y="532440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Aromá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6640" y="57006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uprimento de 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004160" y="5137200"/>
            <a:ext cx="2139840" cy="1123920"/>
          </a:xfrm>
          <a:prstGeom prst="flowChartPunchedTap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013280"/>
            <a:ext cx="2139840" cy="1123920"/>
          </a:xfrm>
          <a:prstGeom prst="flowChartPunchedTap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5440" y="2793960"/>
            <a:ext cx="1576440" cy="1104840"/>
          </a:xfrm>
          <a:prstGeom prst="flowChartPunchedTap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5440" y="1498680"/>
            <a:ext cx="1576440" cy="1104840"/>
          </a:xfrm>
          <a:prstGeom prst="flowChartPunchedTap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3920" y="1375560"/>
            <a:ext cx="40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dução de Olef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3920" y="2887560"/>
            <a:ext cx="3646440" cy="175284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lantas de Olefinas I /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53640" y="3213360"/>
            <a:ext cx="12664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py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6200" y="4502520"/>
            <a:ext cx="22647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ydrogen @99,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58960" y="5789880"/>
            <a:ext cx="22039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yrolysis Gaso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1480" y="5569200"/>
            <a:ext cx="129564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4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69400" y="5092920"/>
            <a:ext cx="2013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yrolysis residu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4462560" y="5138280"/>
            <a:ext cx="1016640" cy="16560"/>
          </a:xfrm>
          <a:prstGeom prst="bentConnector3">
            <a:avLst>
              <a:gd name="adj1" fmla="val 499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2"/>
            <a:endCxn id="101" idx="3"/>
          </p:cNvCxnSpPr>
          <p:nvPr/>
        </p:nvCxnSpPr>
        <p:spPr>
          <a:xfrm rot="5400000">
            <a:off x="3602880" y="4741560"/>
            <a:ext cx="616680" cy="413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0" y="2750760"/>
            <a:ext cx="2257560" cy="654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" bIns="72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ull Range Napht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96" idx="1"/>
          </p:cNvCxnSpPr>
          <p:nvPr/>
        </p:nvCxnSpPr>
        <p:spPr>
          <a:xfrm>
            <a:off x="2257200" y="3077640"/>
            <a:ext cx="37080" cy="686520"/>
          </a:xfrm>
          <a:prstGeom prst="bentConnector3">
            <a:avLst>
              <a:gd name="adj1" fmla="val 4705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240" y="4041000"/>
            <a:ext cx="1466280" cy="33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3"/>
            <a:endCxn id="96" idx="1"/>
          </p:cNvCxnSpPr>
          <p:nvPr/>
        </p:nvCxnSpPr>
        <p:spPr>
          <a:xfrm flipV="1">
            <a:off x="1690560" y="3763080"/>
            <a:ext cx="603720" cy="445320"/>
          </a:xfrm>
          <a:prstGeom prst="bentConnector3">
            <a:avLst>
              <a:gd name="adj1" fmla="val 50000"/>
            </a:avLst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V="1">
            <a:off x="6084720" y="3847680"/>
            <a:ext cx="392400" cy="12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095560"/>
            <a:ext cx="0" cy="3657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5753160"/>
            <a:ext cx="52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4514760"/>
            <a:ext cx="485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3314880"/>
            <a:ext cx="60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76760" y="209556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8240" y="1930680"/>
            <a:ext cx="10972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-52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nidade de Petroquímicos Básicos - Olef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lefins- Production Capacity (1.000 t/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1841400"/>
            <a:ext cx="1121040" cy="62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ROPYLE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58040" y="1841400"/>
            <a:ext cx="117000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UTAD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59600" y="436104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6200" y="3054240"/>
            <a:ext cx="15112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PETROFLEX/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45520" y="4103640"/>
            <a:ext cx="14619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PETROFLEX/R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5200" y="1830240"/>
            <a:ext cx="102384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THY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2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19360" y="3494160"/>
            <a:ext cx="12826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OXIT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5440" y="4276800"/>
            <a:ext cx="12333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E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2720" y="5005440"/>
            <a:ext cx="12765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CAN/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1560" y="2732040"/>
            <a:ext cx="44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19360" y="2786040"/>
            <a:ext cx="127800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POLIT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505240"/>
            <a:ext cx="1487520" cy="155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liethyl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iny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6080" y="1268280"/>
            <a:ext cx="5870520" cy="3373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LEF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063400" y="2556000"/>
            <a:ext cx="127620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POLI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1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76000" y="3216240"/>
            <a:ext cx="12747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ACRI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1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76000" y="3868560"/>
            <a:ext cx="12747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CIQU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060880" y="4633920"/>
            <a:ext cx="12765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5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53120" y="2276640"/>
            <a:ext cx="0" cy="20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30560" y="1641600"/>
            <a:ext cx="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22760" y="1617840"/>
            <a:ext cx="0" cy="2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53120" y="1617840"/>
            <a:ext cx="0" cy="2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30560" y="2276640"/>
            <a:ext cx="0" cy="29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5760" y="376884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3400" y="453240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2240" y="524340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35240" y="304164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2280"/>
            <a:ext cx="30240" cy="31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10160" y="277668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8600" y="346860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4560" y="411480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10160" y="489420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61040" y="326232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046120" y="5429160"/>
            <a:ext cx="12747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1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10160" y="565776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romáticos - Produção (1.000 t/a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61840" y="1217520"/>
            <a:ext cx="8035560" cy="4847040"/>
            <a:chOff x="861840" y="1217520"/>
            <a:chExt cx="8035560" cy="4847040"/>
          </a:xfrm>
        </p:grpSpPr>
        <p:sp>
          <p:nvSpPr>
            <p:cNvPr id="153" name=""/>
            <p:cNvSpPr/>
            <p:nvPr/>
          </p:nvSpPr>
          <p:spPr>
            <a:xfrm>
              <a:off x="1811160" y="1217520"/>
              <a:ext cx="6963120" cy="337320"/>
            </a:xfrm>
            <a:prstGeom prst="flowChart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ROMA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3800" y="2392200"/>
              <a:ext cx="112500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-XYL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74040" y="2392200"/>
              <a:ext cx="1125360" cy="64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ENZ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75040" y="2376360"/>
              <a:ext cx="112536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-XYL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7720" y="2824200"/>
              <a:ext cx="0" cy="241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54636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9120" y="3230640"/>
              <a:ext cx="1406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RASK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9120" y="4143240"/>
              <a:ext cx="1406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RHODIA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0" y="443700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040" y="2392200"/>
              <a:ext cx="112536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LU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36720" y="2889360"/>
              <a:ext cx="0" cy="30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53280" y="3930480"/>
              <a:ext cx="1406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DE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8480" y="3062160"/>
              <a:ext cx="1406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RASK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37080" y="4807080"/>
              <a:ext cx="140688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ED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13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5000" y="342576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5000" y="422604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5000" y="511668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17880" y="3143160"/>
              <a:ext cx="140688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CIQU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17880" y="4064040"/>
              <a:ext cx="140688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ELEKEIROZ/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4760" y="3425760"/>
              <a:ext cx="35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760" y="4292640"/>
              <a:ext cx="35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4760" y="5337000"/>
              <a:ext cx="35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17880" y="5019840"/>
              <a:ext cx="140688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PETROM/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17240" y="3267000"/>
              <a:ext cx="140688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ISOP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10800" y="4410000"/>
              <a:ext cx="35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7840" y="2889360"/>
              <a:ext cx="0" cy="1557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37720" y="1616040"/>
              <a:ext cx="0" cy="79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36720" y="1616040"/>
              <a:ext cx="0" cy="79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76480" y="1616040"/>
              <a:ext cx="0" cy="79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44520" y="1616040"/>
              <a:ext cx="0" cy="79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58840" y="2890800"/>
              <a:ext cx="0" cy="24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65960" y="1739880"/>
              <a:ext cx="152964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IXED XYLE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04680" y="1596960"/>
              <a:ext cx="0" cy="16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3680" y="1714680"/>
              <a:ext cx="112500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PERA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31640" y="1617840"/>
              <a:ext cx="0" cy="15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63720" y="5605560"/>
              <a:ext cx="1406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URP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1680" y="591336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840" y="5003640"/>
              <a:ext cx="1406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URP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72680" y="5221440"/>
              <a:ext cx="35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3920" y="4067280"/>
              <a:ext cx="1406880" cy="64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SOLVENT 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10800" y="3521160"/>
              <a:ext cx="35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51:53Z</dcterms:created>
  <dc:creator>Esdras Demoro</dc:creator>
  <dc:description/>
  <dc:language>en-US</dc:language>
  <cp:lastModifiedBy>TECLIM-NBK1</cp:lastModifiedBy>
  <dcterms:modified xsi:type="dcterms:W3CDTF">2004-10-22T00:18:18Z</dcterms:modified>
  <cp:revision>83</cp:revision>
  <dc:subject/>
  <dc:title>Slide sem título </dc:title>
</cp:coreProperties>
</file>