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4CA-C4BA-418E-A8B3-2FAB8A25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B52-33B0-4EF1-8668-B586FB6B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24B-26E6-4091-B6EC-48A6DBF0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D7C-4603-4E41-81BF-276011C3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AE9-DE31-4CF2-A526-A5CFA2CE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A20-A505-478F-9294-5479E861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DE4-8273-4AD3-A296-6D2FC3F4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9E2-42CF-4557-9F58-8D331A02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4C1-C6E2-4ED3-A719-1CFBAB2C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A3C-513C-41D1-B5FA-46935A37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A72-C4BF-4DBF-86AE-B4BCF5EB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76D-91AD-4B8A-BD99-B48DA64A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496200"/>
            <a:ext cx="8334000" cy="209520"/>
            <a:chOff x="228600" y="6496200"/>
            <a:chExt cx="8334000" cy="209520"/>
          </a:xfrm>
        </p:grpSpPr>
        <p:sp>
          <p:nvSpPr>
            <p:cNvPr id="1" name=""/>
            <p:cNvSpPr/>
            <p:nvPr/>
          </p:nvSpPr>
          <p:spPr>
            <a:xfrm>
              <a:off x="228600" y="6496200"/>
              <a:ext cx="3568680" cy="2095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151160" y="6603840"/>
              <a:ext cx="4411440" cy="60480"/>
              <a:chOff x="4151160" y="6603840"/>
              <a:chExt cx="4411440" cy="60480"/>
            </a:xfrm>
          </p:grpSpPr>
          <p:sp>
            <p:nvSpPr>
              <p:cNvPr id="3" name=""/>
              <p:cNvSpPr/>
              <p:nvPr/>
            </p:nvSpPr>
            <p:spPr>
              <a:xfrm>
                <a:off x="4151160" y="6603840"/>
                <a:ext cx="68040" cy="604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71800" y="6603840"/>
                <a:ext cx="67680" cy="604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392440" y="6603840"/>
                <a:ext cx="66240" cy="604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13080" y="6603840"/>
                <a:ext cx="66240" cy="604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634080" y="6603840"/>
                <a:ext cx="67680" cy="604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254720" y="6603840"/>
                <a:ext cx="67680" cy="604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875360" y="6603840"/>
                <a:ext cx="68040" cy="604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96360" y="6603840"/>
                <a:ext cx="66240" cy="6048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"/>
          <p:cNvSpPr/>
          <p:nvPr/>
        </p:nvSpPr>
        <p:spPr>
          <a:xfrm>
            <a:off x="306360" y="173160"/>
            <a:ext cx="8532720" cy="6649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49200" y="0"/>
            <a:ext cx="68400" cy="6048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" name=""/>
          <p:cNvGraphicFramePr/>
          <p:nvPr/>
        </p:nvGraphicFramePr>
        <p:xfrm>
          <a:off x="304920" y="152280"/>
          <a:ext cx="68580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280"/>
                    <a:ext cx="6858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" name=""/>
          <p:cNvSpPr/>
          <p:nvPr/>
        </p:nvSpPr>
        <p:spPr>
          <a:xfrm>
            <a:off x="914400" y="7632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cbcb"/>
                </a:solidFill>
                <a:latin typeface="Times New Roman"/>
              </a:rPr>
              <a:t>OXITENO NORD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5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7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6260-D35C-441E-B399-371446829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NTROLANDO A EFICIÊNCIA DA REAÇÃO DE OXIDAÇÃO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OXIDO DE ETILENO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90720"/>
            <a:ext cx="9144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equação da Seletividade utilizamos o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% do componente (resultado da análise de entrada Vs saída do reator), portanto pequenas instabilidades na coleta da amostra interferem na precisão do cálcu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FICULDADES CÁLCULO DA SELE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004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l-GR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%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:  S1 = --------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l-GR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%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3434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tores que interferem na precis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800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Traçagem da amostra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Líquido no sistema de amostra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7150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Cilindros Padr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990720"/>
            <a:ext cx="9144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 equação do I Factor utilizamos valores muito baixos de composição 1 a 5 ppm do componente,  portanto pequenas instabilidades na coleta da amostra interferem na precisão do cálcu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FICULDADES CÁLCULO DO I F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0481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cbcbcb"/>
                </a:solidFill>
                <a:latin typeface="Times New Roman"/>
              </a:rPr>
              <a:t>EC + VC + DCE + MC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700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Times New Roman"/>
              </a:rPr>
              <a:t>EX. :  if = ------------------------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cbcbcb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cbcbcb"/>
                </a:solidFill>
                <a:latin typeface="Times New Roman"/>
                <a:ea typeface="Times New Roman"/>
              </a:rPr>
              <a:t>4 </a:t>
            </a:r>
            <a:r>
              <a:rPr b="1" lang="en-US" sz="28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+ 85 + 1000 X C4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2670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tores que interferem na precis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724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Traçagem da amostr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Líquido no sistema de amostra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791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Cilindros Padr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8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0948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LAÇÃO ENTRE SELETIVIDADE E I F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XO DO GÁS DE RECIC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942840"/>
            <a:ext cx="661500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371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isador tipo Paramagné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- Análise de Oxigê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ÉCNICAS ANALÍTICAS ENVOLV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514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isador Cromatográfico tipo 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- Composição em % de Hidrocarbone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809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isador Cromatográfico tipo F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- Clorados e C4’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isador Espectômetro de Massa quadripo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- Composição em % de Hidrocarbone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35053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ravés d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xidação Controlad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nsegue-se maximizar a formação d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Óxido de Etile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TOS FORMADOS NA  REAÇAO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Reação do Etileno e Oxigênio 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 reatores com catalisadores de Prata form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Óxido de Etileno e CO</a:t>
            </a:r>
            <a:r>
              <a:rPr b="1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1" lang="en-US" sz="3600" spc="-1" strike="noStrike" baseline="-25000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980400" y="4572000"/>
            <a:ext cx="2163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ÇÕES QUÍMICAS NO REATOR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" y="1600200"/>
            <a:ext cx="8077320" cy="3276720"/>
            <a:chOff x="457200" y="1600200"/>
            <a:chExt cx="8077320" cy="3276720"/>
          </a:xfrm>
        </p:grpSpPr>
        <p:sp>
          <p:nvSpPr>
            <p:cNvPr id="135" name=""/>
            <p:cNvSpPr/>
            <p:nvPr/>
          </p:nvSpPr>
          <p:spPr>
            <a:xfrm>
              <a:off x="457200" y="1600200"/>
              <a:ext cx="8077320" cy="3276720"/>
            </a:xfrm>
            <a:prstGeom prst="rect">
              <a:avLst/>
            </a:prstGeom>
            <a:solidFill>
              <a:srgbClr val="0066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71680" y="2287440"/>
              <a:ext cx="45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7320" y="2124000"/>
              <a:ext cx="1393920" cy="417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140a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 H</a:t>
              </a:r>
              <a:r>
                <a:rPr b="1" lang="en-US" sz="1600" spc="-1" strike="noStrike" baseline="-25000">
                  <a:solidFill>
                    <a:srgbClr val="140a00"/>
                  </a:solidFill>
                  <a:latin typeface="Times New Roman"/>
                </a:rPr>
                <a:t>4</a:t>
              </a: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   +  O</a:t>
              </a:r>
              <a:r>
                <a:rPr b="1" lang="en-US" sz="1600" spc="-1" strike="noStrike" baseline="-25000">
                  <a:solidFill>
                    <a:srgbClr val="140a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82000" y="2022480"/>
              <a:ext cx="1038240" cy="41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140a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 H</a:t>
              </a:r>
              <a:r>
                <a:rPr b="1" lang="en-US" sz="1600" spc="-1" strike="noStrike" baseline="-25000">
                  <a:solidFill>
                    <a:srgbClr val="140a00"/>
                  </a:solidFill>
                  <a:latin typeface="Times New Roman"/>
                </a:rPr>
                <a:t>4</a:t>
              </a: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 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63800" y="3630600"/>
              <a:ext cx="1708200" cy="417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C O</a:t>
              </a:r>
              <a:r>
                <a:rPr b="1" lang="en-US" sz="1600" spc="-1" strike="noStrike" baseline="-25000">
                  <a:solidFill>
                    <a:srgbClr val="140a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    +  H</a:t>
              </a:r>
              <a:r>
                <a:rPr b="1" lang="en-US" sz="1600" spc="-1" strike="noStrike" baseline="-25000">
                  <a:solidFill>
                    <a:srgbClr val="140a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 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55600" y="3182760"/>
              <a:ext cx="1660680" cy="416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REAÇÃO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27960" y="3130560"/>
              <a:ext cx="1660320" cy="41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REAÇÃO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2562120"/>
              <a:ext cx="1393920" cy="111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611680" y="2470320"/>
              <a:ext cx="1557360" cy="12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18000" y="1789200"/>
              <a:ext cx="1660320" cy="41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0a00"/>
                  </a:solidFill>
                  <a:latin typeface="Times New Roman"/>
                </a:rPr>
                <a:t>REAÇÃO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ção 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resenta a oxidação parcial do Etileno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xido de Etile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Arial"/>
              </a:rPr>
              <a:t>C2H4 + O2 </a:t>
            </a:r>
            <a:r>
              <a:rPr b="1" lang="pt-BR" sz="2000" spc="-1" strike="noStrike">
                <a:solidFill>
                  <a:srgbClr val="cbcbcb"/>
                </a:solidFill>
                <a:latin typeface="Arial"/>
              </a:rPr>
              <a:t>---------&gt;</a:t>
            </a:r>
            <a:r>
              <a:rPr b="1" lang="pt-BR" sz="2800" spc="-1" strike="noStrike">
                <a:solidFill>
                  <a:srgbClr val="cbcbcb"/>
                </a:solidFill>
                <a:latin typeface="Arial"/>
              </a:rPr>
              <a:t> C2H4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895480"/>
            <a:ext cx="8915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ção 2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resenta a oxidação Total do Etilen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 CO2 + Águ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Arial"/>
              </a:rPr>
              <a:t>C2H4 + O2 ---------&gt; CO2 +H2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80060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ção 3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resenta a segunda reação do Óxido de Et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 resulta na formação em CO2 + Águ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Arial"/>
              </a:rPr>
              <a:t>C2H4O ---------&gt; CO2 +H2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2696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ÇÕES QUÍMICAS NO RE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ANDO A REAÇÃO DE OXIDAÇÃO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itivos metálic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Impregnados no Catalisad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- Alumina (suporte)+Prata+aditivos metálic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086600" y="5060880"/>
            <a:ext cx="1770120" cy="1797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0666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adição de aditivos metálicos e Inibidores no catalisador torna a Reação controlavel e seletiva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1148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ibidor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Clorados injetados On-Line em pp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- 1.2 Dichloroetan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- Cloreto de Etil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- Cloreto de Vini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41144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Correlaciona o teor de clorados no catalisador e teor de hidrocarbonetos que tem o efeito adverso ao dos clo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Adsorção de Clorados em pp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IFactor = ----------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% de Hidrocarbonetos que interagiu com o Catalis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8954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tivida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(atual &gt; que 80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Correlaciona o quanto de Etileno é transformado em Óxido de Et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Na  seletividade de 100% o qtde de CO2 e Água gerada seria z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85800"/>
            <a:ext cx="91440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riáve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troladas para eficiência da produção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a útil do catalisador sã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981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peratu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Diretamente correlacionada com a carga e o t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de vida do catalis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ANDO A REAÇÃO DE OXID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5238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quisição dos dados analí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O gás de entrada e saída do reator é analisado On-L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- Composição do gás de reciclo em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- Composição dos clorados no gás de reciclo em pp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373392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o de Cont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O resultado da análise é enviada a um módulo matemático, em tempo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real, com equações específicas de </a:t>
            </a:r>
            <a:r>
              <a:rPr b="1" lang="en-US" sz="2800" spc="-1" strike="noStrike">
                <a:solidFill>
                  <a:srgbClr val="cbcbcb"/>
                </a:solidFill>
                <a:latin typeface="Times New Roman"/>
              </a:rPr>
              <a:t>Seletividade</a:t>
            </a: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e </a:t>
            </a:r>
            <a:r>
              <a:rPr b="1" lang="en-US" sz="2800" spc="-1" strike="noStrike">
                <a:solidFill>
                  <a:srgbClr val="cbcbcb"/>
                </a:solidFill>
                <a:latin typeface="Times New Roman"/>
              </a:rPr>
              <a:t>IFactor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, atrav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destas informações a operação controla a reação no seu máximo gan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ANDO A REAÇÃO DE OXID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18:22:23Z</dcterms:created>
  <dc:creator>Pedro Gutierrez</dc:creator>
  <dc:description/>
  <dc:language>en-US</dc:language>
  <cp:lastModifiedBy>CA44107</cp:lastModifiedBy>
  <dcterms:modified xsi:type="dcterms:W3CDTF">2004-10-21T16:55:23Z</dcterms:modified>
  <cp:revision>84</cp:revision>
  <dc:subject/>
  <dc:title>CONTROLLING ETHYLENE OXIDE PRODUCTION  </dc:title>
</cp:coreProperties>
</file>