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642-B9BF-4AD6-8B2E-E70D768A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751-176D-465A-85AF-47C53A72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8C76-FDCC-4A7C-AA39-1B8E9507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CB7-CE90-4D37-9773-759D4406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77A2-043E-48E8-9104-E16C3B9C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C15C-EF3A-4A6B-9C77-98F408AB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2FAD-62E2-4F57-BB6E-6946966F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5FD5-06E9-4DD7-8979-9330604A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FA46-714B-4AD2-BCD1-CE824AB8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D84F-B6A6-4944-A610-3F5F2F0A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CE41-BDC3-47CD-BFA2-52A4CB4D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BE9-564D-427D-99EB-B03389F3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8594-59CA-49EA-8726-56D51B56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7A75-3D5E-4ABB-812A-2F36FA01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5EDC-8120-4DA0-88F8-00B1CE8F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EE90-FE4F-4D9D-833F-266028C6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01D7-D4FF-4966-AFF8-00565F3A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EA0-B8E2-45CE-8506-97250B0E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704-D1BE-4823-A990-79144A11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0EA-E86E-416D-A773-64FF07B2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1146-B00B-4604-9599-A4F40A27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4E9B-C15C-46DE-8C1F-C5B07013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E61F-6A49-44D7-9958-DACC3F86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7E68-8664-4AD7-9834-E88660B7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2C13-CFBE-49C0-97D2-E709A73A8D9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F8AC-8792-4882-894A-D04DBB08D79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quimica.fe.usp.br/global/ca8/radica.ht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38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nalisadores para Monitoramento ambiental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24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Legislação Brasileira através do CONAMA (Conselho Nacional de Meio Ambiente), estipula limites dependendo da fonte e do loc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unidade estipulada é dada em Kg/h ou em ton/ano que a fonte pode expelir, desta forma temos a unidade de massa e não em volume (mg/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 ou percentual do volume ppm, como a maioria dos analisadores mede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m como o método estabelecido em base seca e não em base úmi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ubeta de Mediçã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8675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ircuito Básico de Análi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dequação a Nor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92504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ritérios para analise (SO</a:t>
            </a:r>
            <a:r>
              <a:rPr b="1" lang="en-US" sz="44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cionamento da amostragem é fundamental para expressar a realidade do processo uma vez que o 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é facilmente absorvido pela água mascarando assim a sua anális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luição da amostra com ar seco é recomendado para alguns cas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ssão, temperatura e vazão da amostra é bastante significativ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hecimento do Processo para estabelecer o Range adequad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calização do ponto de amostragem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Monitoramento de Emissões lucro certo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implantação do CEMS ( Continuous Emissions Monitoring Systems ) não é só uma questão legislativa e sim uma forma de analisar a Saúde e a eficiência do seu process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emplo: eficiência na combustão de um Forno, uma planta de oxidação ou uma planta de Acido Sulfúri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Qual o CEMS idea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té o momento não conheço um CEMS ideal pois cada processo tem suas particularidades que devemos entender be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volver todas as disciplinas ( Manutenção, Laboratório e Meio Ambiente e até o setor jurídico da empresa 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hecer bem as regras do Órgão Ambiental e se possível superar as expectativa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vemos estar atento a todas as fontes poluidoras pois muitas vezes o que é considerado como poluente poderá se reverter em lucro com poucas modificações no process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erdana"/>
              </a:rPr>
              <a:t>OBRIGADOA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erdana"/>
              </a:rPr>
              <a:t>TODOS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tocolo de Kyo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nalidade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scar o entendimento global de todas as nações, com o objetivo de minimizar o aquecimento da terr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ficuldad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a ter eficácia precisa ser ratificado por um mínimo de 55 países responsáveis por 35% das emissões globai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vo protocolo deverá entrar em vigor em 2005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s EUA abandonaram em 2001, alegando que estava prejudicando sua economia, e beneficiando os países em desenvolviment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2010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enário: Emissões atmosféric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A – 36,1%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ússia – 17,4%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tros 125 países – 46,5%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chuva ácida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86920" y="193680"/>
            <a:ext cx="8893080" cy="63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incipais poluentes a serem analisados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,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NO,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etc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incipal contribuinte para a chuva ácid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des emissões de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(Dióxido de Enxofr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9280" y="360360"/>
            <a:ext cx="86868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é rapidamente oxidado a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(trióxido de enxofre) na atmosfera, em reações com radicais hidroxílicos (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CA-8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) ou peróxido de hidrogênio (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. Tanto o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quanto o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ão muito solúveis em água, formando respectivamente o ácido sulfuroso e o ácido sulfúric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aracterísticas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color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ão inflamável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nsidade 2,3 vezes maior que o ar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dor fort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xidez 10ppm causa irritação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00ppm tolerável por poucos minutos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00ppm sufocação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exo 11 da NR 15 considera 4ppm ou 10mg/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olerável por um período de 48 horas semanai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Dióxido de Enxofre (SO</a:t>
            </a:r>
            <a:r>
              <a:rPr b="1" lang="en-US" sz="44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496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nte de tais cenários, faz-se necessário uma medição e monitoramento contínuo (CEMS), visando adequar as exigências dos órgãos ambientai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rmas de detecção do 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vido a sua sensibilidade ao infra vermelho (IV) e ao ultra violeta (UV) utilizamo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lisadores infra vermelho, para altas concentrações, acima de 50pp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lisadores ultra violeta, para concentrações abaixo de 50ppm ou até pp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3:58:02Z</dcterms:created>
  <dc:creator>Divaldo Cruz Franco</dc:creator>
  <dc:description/>
  <dc:language>en-US</dc:language>
  <cp:lastModifiedBy>Divaldo Cruz Franco</cp:lastModifiedBy>
  <dcterms:modified xsi:type="dcterms:W3CDTF">2004-10-20T00:24:28Z</dcterms:modified>
  <cp:revision>18</cp:revision>
  <dc:subject/>
  <dc:title>Slide 1</dc:title>
</cp:coreProperties>
</file>