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logo AINST 3D-1" descr=""/>
          <p:cNvPicPr/>
          <p:nvPr/>
        </p:nvPicPr>
        <p:blipFill>
          <a:blip r:embed="rId3"/>
          <a:stretch/>
        </p:blipFill>
        <p:spPr>
          <a:xfrm>
            <a:off x="7315200" y="5243400"/>
            <a:ext cx="1628640" cy="1309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190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 AINST 3D-1" descr=""/>
          <p:cNvPicPr/>
          <p:nvPr/>
        </p:nvPicPr>
        <p:blipFill>
          <a:blip r:embed="rId2"/>
          <a:stretch/>
        </p:blipFill>
        <p:spPr>
          <a:xfrm>
            <a:off x="7315200" y="5243400"/>
            <a:ext cx="1628640" cy="130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190440">
            <a:solidFill>
              <a:srgbClr val="0055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76280" y="1143000"/>
            <a:ext cx="8134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SSOCIAÇÃO DOS PROFISSIONAI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E INSTRUMENTAÇÃ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A BAHI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QUEM SOMOS !!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91628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AINST Conta atualmente com o expressivo número de 90 associados pessoas físicas, e doze empresas sócias mantenedoras.  Sua sede permanente está localizada no CEFET-BA, dividindo espaço com a Coordenação do Curso de Mecânica, mediante Convênio específico celebrado com aquela instituição de ens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1º Encontro Técnico - 10/04/20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Soluções Em Automação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: Ronei Rossetti (METALT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Belmar Hotel - Salão Corsário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ini-Curso do ProgramAINSTruir - 15/04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Fundamentos de Controle de Coluna de Dest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rutor: Dr.Ricardo de Araujo Kalid (UF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Escola Politécnica da UFBA - Federação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1º Debate Técnico - 22/05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Autodignóstico de 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s: Claudio Makarovisky (EMERSON PROCESS) e Rogério Souza da Mata (SM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III SNCA - Seminário Nacional de Controle e Automação Industrial, Elétrica e Telecomunicações - de 11 à 13/06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A Construção do Conhecimento, Empregabilidade e Empreendedo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3 Sinópses enviadas, 54 Trabalhos Técnicos apresentados, 25 Painéis Especiais, 05 mini-cursos (c/96 participantes) e 03 mesas redo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4º Piso do Centro de Convenções da Bah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3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33336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V FENAINST-Feira Nacional de Automação e Instrumentação e III FNET - Feira Nacional de Elétrica e Telecomunicações - de 11 à 13/06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positores: 60 com mais de 70 represen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Área: 3.000 metros quadrados de área expo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2º Piso do Centro de Convenções da Bah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sitantes: 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2º Encontro Técnico - 10/07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Analisador de Diodo de La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: Todd Newell (SERVOMEX -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33336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3º Encontro Técnico - 28/08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Transmissores de Pressão - Novas Funcio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: Engº Francisco Nascimento Garcia (Gte.PI 1 - SIEM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Belmar Hotel - Salão Corsário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4º Encontro Técnico - 18/09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Ferramentas Modernas em Apoio ao Gerenciamento de Manutenção: A Interface com Instrumen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: George Michael Orfali (Consultor da ZCR Informática Lt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Belmar Hotel - Salão Corsário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33336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4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5º Encontro Técnico - 25/09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Radiotelemetria - Remotas para Monitoramento de Processos com Tecnologia Wirel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s: Sr.Alberto Soares de Oliveira (Instrumentos Lince) e o Engº Andre Stoops (da Elpro Technolog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Belmar Hotel - Salão Corsário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ini-Curso do ProgramAINSTruir - 14/10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Sistemas de Condicionamento da Amostra por Extração Contí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rutores: Nereu Guimarães (YOKOGAWA) e Antonio Carlos Alves (DELMAR CONTR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Escola Politécnica da UF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33336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2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7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6º Encontro Técnico Técnico - 30/10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Princípios de Medição de PH e Condutiv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: Robson Bertoldo Nemeth (Engº Químico da Digicrom Analítica Ltda - DIGI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Belmar Hotel - Salão Corsário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ini-Curso programAINSTruir - 04/11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Sintonia de Controladores PID Industr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rutor: Ricardo de Araujo Kalid (Dr.Engª Química - UFB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EP-UFBA - Auditório Leopoldo Amaral - Salvador - 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75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42696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8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4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7º Encontro Técnico - 06/11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Medição Ultrasô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lestrante: José Guilherme de Carvalho (Diretor da Use-Ultrafl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Belmar Hotel - Salão Corsário - Salvador - 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ini-Curso programAINSTruir - 18/11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Projetos de Instrumen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rutores: Carlos Eduardo Monteiro Branco (Petrobras), Edgar Nunes de Almeida (Braskem), Fábio Simões Carrilho (FTC e ZCR) e Paulo César Nascimento Andrade (Cefet-BA, F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EP-UFBA - Auditório Leopoldo Amaral - Salvador - 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33336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000"/>
                            </p:stCondLst>
                            <p:childTnLst>
                              <p:par>
                                <p:cTn id="8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6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6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6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1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6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6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ini-Curso programAINSTruir - 02/12/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a: Fundamentos de PLC e suas 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rutores: Fábio Simões Carrilho (FTC/ZCR) e Marcelo Mello Escarlassara(Diretor Comercial - Órion Autom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: EP-UFBA - Auditório Leopoldo Amaral -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pantes: 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0720" y="4986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ventos Realizados em 200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2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8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9640" y="3789360"/>
          <a:ext cx="23036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89360"/>
                    <a:ext cx="23036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 txBox="1"/>
          <p:nvPr/>
        </p:nvSpPr>
        <p:spPr>
          <a:xfrm>
            <a:off x="2268360" y="404640"/>
            <a:ext cx="474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ócios Mantenedo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6920" y="1557360"/>
          <a:ext cx="122580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557360"/>
                    <a:ext cx="12258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700360" y="1628640"/>
          <a:ext cx="2735280" cy="4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1628640"/>
                    <a:ext cx="273528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1280" y="2492280"/>
          <a:ext cx="180000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2492280"/>
                    <a:ext cx="18000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227640" y="1484280"/>
          <a:ext cx="2233800" cy="69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1484280"/>
                    <a:ext cx="22338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796000" y="2492280"/>
          <a:ext cx="2952720" cy="70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2492280"/>
                    <a:ext cx="295272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132000" y="2492280"/>
          <a:ext cx="2232000" cy="62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2492280"/>
                    <a:ext cx="2232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80000" y="3645000"/>
          <a:ext cx="1584000" cy="103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0000" y="3645000"/>
                    <a:ext cx="158400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867280" y="4149720"/>
          <a:ext cx="273528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149720"/>
                    <a:ext cx="2735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411280" y="4941720"/>
          <a:ext cx="1584360" cy="101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11280" y="4941720"/>
                    <a:ext cx="1584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932360" y="5013360"/>
          <a:ext cx="1728720" cy="893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32360" y="5013360"/>
                    <a:ext cx="1728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132280" y="6165720"/>
            <a:ext cx="484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SEJA UM SÓCIO MANTENEDOR VOCÊ TAMBÉM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9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4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0"/>
                            </p:stCondLst>
                            <p:childTnLst>
                              <p:par>
                                <p:cTn id="9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6000"/>
                            </p:stCondLst>
                            <p:childTnLst>
                              <p:par>
                                <p:cTn id="9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2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2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25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60948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INS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4880" y="2162160"/>
            <a:ext cx="32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OCIAÇÃ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5600" y="2819520"/>
            <a:ext cx="25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ARTID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65680" y="3429000"/>
            <a:ext cx="53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 CARÁTER SOCIAL, CULTUR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ENTÍFICO E POLÍ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02680" y="4495680"/>
            <a:ext cx="38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M FINS LUC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latinum                            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6200" y="2349360"/>
            <a:ext cx="2395440" cy="2881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627280" y="5445000"/>
            <a:ext cx="1582920" cy="100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844720" y="2205000"/>
            <a:ext cx="223200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132000" y="2781360"/>
            <a:ext cx="2016360" cy="839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076720" y="5805360"/>
            <a:ext cx="2016360" cy="534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889360" y="4581360"/>
            <a:ext cx="4635360" cy="808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5580000" y="2098800"/>
            <a:ext cx="2951280" cy="898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708360" y="3789360"/>
            <a:ext cx="1871640" cy="749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940360" y="3573360"/>
            <a:ext cx="2376720" cy="58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atrocinadores do programAINSTruir 2004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7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35388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Coordenação 2004/2005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195560"/>
          <a:ext cx="7848000" cy="5328720"/>
        </p:xfrm>
        <a:graphic>
          <a:graphicData uri="http://schemas.openxmlformats.org/drawingml/2006/table">
            <a:tbl>
              <a:tblPr/>
              <a:tblGrid>
                <a:gridCol w="2904480"/>
                <a:gridCol w="494352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ORDENAÇÃO G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CARDO ARAUJO KALID – UF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UIZ ANTONIO DOURADO – MONSA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ORD.FINANÇ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ONIO LUCIANO – BRAS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DGAR NUNES ALMEIDA – BRAS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ORD.COMUNICAÇÕ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NIELA HIGAKI – ROCK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ÁBIO CARRILHO – FTC / Z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ORD.TRE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ELIPE BORGES CUNHA – BRAS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UIZ CARLOS TOSTA – PETROB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ORD.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LOS EDUARDO BRANCO – PETROB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ERÔNIMO MENDES – NYT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ORD.ATIVID.TÉCN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ULO CESAR ANDRADE – FTC / CEFET-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ENO BRASIL – BRAS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ISSÃO ESTUDANT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OGO SOUZA – F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OILSON ALVES – CEFET-B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3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0720" y="158904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a Emídio dos Santos s/n.º - Barbalho, CEP 40300-010, Salvador -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la da Coordenação de Mecânica – DTMM do CEFET-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ne/Fax: (71) 243-8340 e 242-0522 R: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-mail: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ainst@cefetnet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ADOS PARA CONTAT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676520" y="472428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Visite nossa Home Page</a:t>
            </a:r>
            <a:endParaRPr b="1" lang="en-US" sz="2400" spc="1" strike="noStrike">
              <a:ln w="0">
                <a:noFill/>
              </a:ln>
              <a:solidFill>
                <a:srgbClr val="0055d2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55d2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ww.ainst.org.br</a:t>
            </a:r>
            <a:endParaRPr b="1" lang="en-US" sz="2400" spc="1" strike="noStrike">
              <a:ln w="0">
                <a:noFill/>
              </a:ln>
              <a:solidFill>
                <a:srgbClr val="0055d2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0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6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2520"/>
                            </p:stCondLst>
                            <p:childTnLst>
                              <p:par>
                                <p:cTn id="10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67652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dada em 08/06/92 pelos remanescentes do antigo GRINST-BA, o grupo regional de instrumentação vinculado ao IBP - Instituto Brasileiro do Petróleo, então desarticulado, a AINST teve como principal motor a necessidade sentida pelos profissionais da área, de manter uma estrutura local que favorecesse o intercâmbio de informações, idéias e experiências, e o congraçamento social, com independência para promover cerimônias e eventos que favorecessem tal inte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32000" y="549360"/>
            <a:ext cx="64008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A HISTÓRI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03280" y="620640"/>
            <a:ext cx="64008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O FOC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7812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AINST desenvolve várias atividades visando o aprimoramento técnico dos profissionais que atuam nas área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9760" y="3429000"/>
            <a:ext cx="33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M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7680" y="411480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25880" y="4800600"/>
            <a:ext cx="20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1000" y="548640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IM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84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84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84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84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AS ATIVIDAD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432080"/>
            <a:ext cx="78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NCA – Seminário Nacional de Controle e Automaçã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Industrial, Elétrica e de Telecomun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78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FENAINST/FNET: Feira Nacional de Instrumentação 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Feira Nacional de El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6480" y="2895480"/>
            <a:ext cx="78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contros Téc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336840"/>
            <a:ext cx="78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bates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Téc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4560" y="380988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Mini-cursos gratuitos: programaAINSTr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7360" y="4267080"/>
            <a:ext cx="28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sos de ext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724280"/>
            <a:ext cx="78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sos de especialização: CEINST I, CEINST II, CICOP 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ICOP II e CICOP III, este último a começar em 04/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5480" y="5502240"/>
            <a:ext cx="44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sta anual de confrater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2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96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68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32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88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56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924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OS OBJETIV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" y="1752480"/>
            <a:ext cx="80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ão objetivos da AINST, conforme definido em seus Estatu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2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romover seminários, conferencias, feiras e cursos versando sobre temas relacionados a instrumentação industrial, controle de processo, engenharia de manutenção e automaçã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0536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romover intercâmbio com entidades de ensino e/ ou entidades atuantes na mesma área, tais como: IEEE, ISA, ABRAMAN, entre ou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119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7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OS OBJETIV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5736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primorar o desenvolvimento moral, intelectual e profissional dos membros, buscando uma complementação de sua formação, através de contatos com manifestações culturais das mais diversas á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13000"/>
            <a:ext cx="8229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d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efender os interesses dos membros, a partir de informações contínuas sobre o campo de trabalho, atividades de estágios bolsas de estudo e programas de iniciação cient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8229600" cy="10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e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romover a aproximação e a solidariedade entre os memb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8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88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OS OBJETIV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44640"/>
            <a:ext cx="8229600" cy="10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f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ontribuir para o desenvolvimento de atividades relacionadas com as especialidades af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24280"/>
            <a:ext cx="8229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g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roporcionar, na medida em que o orçamento comporte, assistência médica, odontologica e jurídica aos associados desenvolvendo também ações que proporcionem seu bem estar social e cult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08640"/>
            <a:ext cx="82296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) prestar assessoria e consultoria especializada à comunidade empresarial, no âmbito da especialidades dos as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28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92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4572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NOSSOS OBJETIV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98900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 sintonia com tais objetivos, a AINST tem continuamente promovido eventos de grande expressão, sempre em parceria com instituições afins, tem buscado a implementação de um programa consistente de cursos de extensão e aperfeiçoamento para profissionais do ramo, e publicar bimensalmente um boletim informativo contendo artigos técnicos e temas de interesse da comun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9T14:49:29Z</dcterms:created>
  <dc:creator>daniela</dc:creator>
  <dc:description/>
  <dc:language>en-US</dc:language>
  <cp:lastModifiedBy>TECLIM-NBK1</cp:lastModifiedBy>
  <dcterms:modified xsi:type="dcterms:W3CDTF">2004-10-22T11:46:30Z</dcterms:modified>
  <cp:revision>68</cp:revision>
  <dc:subject/>
  <dc:title>Apresentação do PowerPoint</dc:title>
</cp:coreProperties>
</file>